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DD30-4733-4942-8CFB-B20552110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AD56-62C5-4D48-BB72-7DB715896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CA3F-D807-4BB9-8CF8-3A12E4BA0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AFC3-B5C0-41F6-BF9D-5AA734716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25EA6-5573-4A20-AE7A-70D533E7F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4EEDF-18A1-400B-9735-A72C73ADE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9FF74-7249-48AC-AE92-DA4D88FF0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F52A2-9687-46A2-A456-C3E03D26B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E9430-75C1-4435-9212-ECED3625D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B62C5-9946-4147-86A2-E38E7CD6A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63718-9206-45BE-8982-F3EC57CF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FE67-E494-454C-8BB3-E171D112A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CF697-8DA5-4608-80AF-B139C0E3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72D6A-4A33-43E0-BDAC-C0AA2E9E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799B2-59EF-4689-89A4-1B27DB4F3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AECDC-9ECF-41E2-92DD-F98C3BD52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F3615-DCAB-43F9-AE52-FAA645620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87E11-EC3A-46F7-9900-74FE28307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A6CC1-D876-4D87-894E-A42A4CF73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CB74B-ADFB-44CB-8EAB-97428A7FC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1BF27-E78E-4F53-86EF-9EC7187AC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4C389-5503-48BA-ADC1-9AD8E5B5D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9806-1E63-47AF-9C31-A43AC24C5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8E32B-6B34-4739-BD6F-0CE22A2A1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5B372-3371-423C-B32C-F415FAB1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D0A3D-6FA8-4DA3-B3FD-3F55848B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F806B-BC67-437B-994B-8837A31D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3D901-440D-44FB-84B7-16AC59611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C8FBE-AAD7-4AF6-80EA-112159791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8784D-7DA6-4EEA-829B-F94E4B3FB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12BCA-1CD4-4F97-AAFB-82F8CD49D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FE067-DF03-4EBD-9963-0846C7C2F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12A39-E226-43E4-AB68-A840BE6FB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AAD4-637C-466D-A318-B95E8421A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9ED63-BDD6-4151-91C9-C02DE3500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3568C-B21D-4E91-9387-AE2D580D2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8D369-6A1B-42A2-B728-F40602509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F0C39-250A-4755-87FC-9F20A006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9BD51-55C5-41BF-8C20-540DA86F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F6475-5433-42A9-939B-389878E3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33E3C-E779-45BD-8F65-3B61E80AD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1F1DA-E903-4D04-9C26-23453AE1A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DF120-D00C-4777-91A5-E558581E4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986A-4A10-4110-BBA3-545BC578A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F0F5-0FDC-475C-AEB7-AB8D98D0F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C18C-85B8-4414-B7D7-604A7036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949E-B606-46C4-9E08-B72C32BA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4584-D7AF-4855-9D58-25B1C38E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9D911-CC58-4A07-8338-53E135268CCB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533CE-CED2-4095-A9BA-E0D79E813216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128CC-BC4A-477C-B7F6-111ADE594378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827A8-23BE-47D1-802D-08A7616B0F4D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15" name="Заголовок 1" descr=""/>
          <p:cNvPicPr/>
          <p:nvPr/>
        </p:nvPicPr>
        <p:blipFill>
          <a:blip r:embed="rId1"/>
          <a:stretch/>
        </p:blipFill>
        <p:spPr>
          <a:xfrm>
            <a:off x="665280" y="781200"/>
            <a:ext cx="7412040" cy="33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8" name="Picture 2" descr="D:\Рабочий стол\image_520231.jpg"/>
          <p:cNvPicPr/>
          <p:nvPr/>
        </p:nvPicPr>
        <p:blipFill>
          <a:blip r:embed="rId1"/>
          <a:stretch/>
        </p:blipFill>
        <p:spPr>
          <a:xfrm>
            <a:off x="1835280" y="549360"/>
            <a:ext cx="4572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1" name="Picture 2" descr="D:\Рабочий стол\99e2f89e2f38_enie-658_366x488.jpg"/>
          <p:cNvPicPr/>
          <p:nvPr/>
        </p:nvPicPr>
        <p:blipFill>
          <a:blip r:embed="rId1"/>
          <a:stretch/>
        </p:blipFill>
        <p:spPr>
          <a:xfrm>
            <a:off x="2195640" y="260280"/>
            <a:ext cx="4698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4" name="Picture 2" descr="D:\Рабочий стол\image_190541.jpg"/>
          <p:cNvPicPr/>
          <p:nvPr/>
        </p:nvPicPr>
        <p:blipFill>
          <a:blip r:embed="rId1"/>
          <a:stretch/>
        </p:blipFill>
        <p:spPr>
          <a:xfrm>
            <a:off x="324000" y="243000"/>
            <a:ext cx="8569080" cy="64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7" name="Picture 2" descr="D:\Рабочий стол\image_98589.jpg"/>
          <p:cNvPicPr/>
          <p:nvPr/>
        </p:nvPicPr>
        <p:blipFill>
          <a:blip r:embed="rId1"/>
          <a:stretch/>
        </p:blipFill>
        <p:spPr>
          <a:xfrm>
            <a:off x="324000" y="333360"/>
            <a:ext cx="8424720" cy="63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8T20:05:12Z</dcterms:created>
  <dc:creator>Ольга</dc:creator>
  <dc:description/>
  <dc:language>en-US</dc:language>
  <cp:lastModifiedBy>Ольга</cp:lastModifiedBy>
  <dcterms:modified xsi:type="dcterms:W3CDTF">2015-09-08T20:08:53Z</dcterms:modified>
  <cp:revision>1</cp:revision>
  <dc:subject/>
  <dc:title>Осенняя аппликация из пластилина</dc:title>
</cp:coreProperties>
</file>