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179-9DC3-4BE6-8068-BFD43A76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640-1C2F-4BE5-80A6-7CFF2A05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CBE-F86A-427A-A096-20A0353F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EF9-6EED-4F3E-9CF0-9F7DD0D0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7C6E-D01A-477C-84A7-5166F27D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70B5-0521-4D85-8197-FFA73A85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8714-CC71-4196-9677-03CCB827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9285-90E4-453A-8B3E-92E07076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5AA4-3EC7-4C2A-AF3B-C53A009D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2854-D0B2-4B95-BA97-E5F7F2DE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B5A5-E88A-406D-80DD-62F95C66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81C-D812-4E54-B129-6178DAA0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F615-A58F-4A5F-AFD1-D39ADB62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B39C-21CA-47C8-A2A9-E82214D8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8859-78DE-4AD0-BBE5-BD06746E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CC02-1D17-4A2C-82A4-24220E92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30CA-48DF-41B3-8040-0BC390F0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B16-BA27-440D-A573-2C3BDA9E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74E-01D5-482E-B8D3-DCF92CC8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505-D83B-4E3E-A22F-2B7F1279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FE7-294B-4BCF-A1BC-D0463CBC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C41-DAAB-4BBE-9CB7-77DD3BDF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FAF-58F8-45AD-9C21-1BC51E86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DFB-46EB-417A-A574-7D56935D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FBB9-CF4C-447D-B5C5-B7BD1BC8B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ый треугольник 7"/>
          <p:cNvSpPr/>
          <p:nvPr/>
        </p:nvSpPr>
        <p:spPr>
          <a:xfrm>
            <a:off x="0" y="5877000"/>
            <a:ext cx="900000" cy="981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ый треугольник 8"/>
          <p:cNvSpPr/>
          <p:nvPr/>
        </p:nvSpPr>
        <p:spPr>
          <a:xfrm rot="10800000">
            <a:off x="8244000" y="-360"/>
            <a:ext cx="900000" cy="981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ый треугольник 9"/>
          <p:cNvSpPr/>
          <p:nvPr/>
        </p:nvSpPr>
        <p:spPr>
          <a:xfrm rot="16200000">
            <a:off x="8203320" y="5917320"/>
            <a:ext cx="900000" cy="981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ый треугольник 10"/>
          <p:cNvSpPr/>
          <p:nvPr/>
        </p:nvSpPr>
        <p:spPr>
          <a:xfrm rot="5400000">
            <a:off x="39960" y="-40320"/>
            <a:ext cx="900000" cy="981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Рисунок 11" descr="388.gif"/>
          <p:cNvPicPr/>
          <p:nvPr/>
        </p:nvPicPr>
        <p:blipFill>
          <a:blip r:embed="rId3"/>
          <a:stretch/>
        </p:blipFill>
        <p:spPr>
          <a:xfrm>
            <a:off x="-25236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2" descr="775.gif"/>
          <p:cNvPicPr/>
          <p:nvPr/>
        </p:nvPicPr>
        <p:blipFill>
          <a:blip r:embed="rId4"/>
          <a:stretch/>
        </p:blipFill>
        <p:spPr>
          <a:xfrm>
            <a:off x="7956720" y="567072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13" descr="942.gif"/>
          <p:cNvPicPr/>
          <p:nvPr/>
        </p:nvPicPr>
        <p:blipFill>
          <a:blip r:embed="rId5"/>
          <a:stretch/>
        </p:blipFill>
        <p:spPr>
          <a:xfrm>
            <a:off x="179280" y="0"/>
            <a:ext cx="1125720" cy="112536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14" descr="1648.gif"/>
          <p:cNvPicPr/>
          <p:nvPr/>
        </p:nvPicPr>
        <p:blipFill>
          <a:blip r:embed="rId6"/>
          <a:stretch/>
        </p:blipFill>
        <p:spPr>
          <a:xfrm rot="14132400">
            <a:off x="7932240" y="-5112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7"/>
          <p:cNvSpPr/>
          <p:nvPr/>
        </p:nvSpPr>
        <p:spPr>
          <a:xfrm>
            <a:off x="0" y="5877000"/>
            <a:ext cx="900000" cy="981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ый треугольник 8"/>
          <p:cNvSpPr/>
          <p:nvPr/>
        </p:nvSpPr>
        <p:spPr>
          <a:xfrm rot="10800000">
            <a:off x="8244000" y="-360"/>
            <a:ext cx="900000" cy="981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ый треугольник 9"/>
          <p:cNvSpPr/>
          <p:nvPr/>
        </p:nvSpPr>
        <p:spPr>
          <a:xfrm rot="16200000">
            <a:off x="8203320" y="5917320"/>
            <a:ext cx="900000" cy="981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ый треугольник 10"/>
          <p:cNvSpPr/>
          <p:nvPr/>
        </p:nvSpPr>
        <p:spPr>
          <a:xfrm rot="5400000">
            <a:off x="39960" y="-40320"/>
            <a:ext cx="900000" cy="981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1" descr="388.gif"/>
          <p:cNvPicPr/>
          <p:nvPr/>
        </p:nvPicPr>
        <p:blipFill>
          <a:blip r:embed="rId3"/>
          <a:stretch/>
        </p:blipFill>
        <p:spPr>
          <a:xfrm>
            <a:off x="-25236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2" descr="775.gif"/>
          <p:cNvPicPr/>
          <p:nvPr/>
        </p:nvPicPr>
        <p:blipFill>
          <a:blip r:embed="rId4"/>
          <a:stretch/>
        </p:blipFill>
        <p:spPr>
          <a:xfrm>
            <a:off x="7956720" y="567072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3" descr="942.gif"/>
          <p:cNvPicPr/>
          <p:nvPr/>
        </p:nvPicPr>
        <p:blipFill>
          <a:blip r:embed="rId5"/>
          <a:stretch/>
        </p:blipFill>
        <p:spPr>
          <a:xfrm>
            <a:off x="179280" y="0"/>
            <a:ext cx="1125720" cy="1125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4" descr="1648.gif"/>
          <p:cNvPicPr/>
          <p:nvPr/>
        </p:nvPicPr>
        <p:blipFill>
          <a:blip r:embed="rId6"/>
          <a:stretch/>
        </p:blipFill>
        <p:spPr>
          <a:xfrm rot="14132400">
            <a:off x="7932240" y="-5112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5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6"/>
          <p:cNvSpPr/>
          <p:nvPr/>
        </p:nvSpPr>
        <p:spPr>
          <a:xfrm>
            <a:off x="0" y="5877000"/>
            <a:ext cx="900000" cy="981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ый треугольник 17"/>
          <p:cNvSpPr/>
          <p:nvPr/>
        </p:nvSpPr>
        <p:spPr>
          <a:xfrm rot="5400000">
            <a:off x="65160" y="-12600"/>
            <a:ext cx="900000" cy="9792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ый треугольник 18"/>
          <p:cNvSpPr/>
          <p:nvPr/>
        </p:nvSpPr>
        <p:spPr>
          <a:xfrm rot="10800000">
            <a:off x="8244000" y="-360"/>
            <a:ext cx="900000" cy="981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ый треугольник 19"/>
          <p:cNvSpPr/>
          <p:nvPr/>
        </p:nvSpPr>
        <p:spPr>
          <a:xfrm rot="16200000">
            <a:off x="8203320" y="5917320"/>
            <a:ext cx="900000" cy="981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5B8C-0FC9-4064-8802-4D18D3ACF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1187280" y="119700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alibri"/>
              </a:rPr>
              <a:t>Литературное чт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alibri"/>
              </a:rPr>
              <a:t>2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2124000" y="3429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0" y="6597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FokinaLida.75@mail.r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былица 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живое сообщение.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 народном творчестве: шуточный рассказ о том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чего не может быть, не бывает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:\Лидия\К. И. Чуковский\1043274519_0.jpg"/>
          <p:cNvPicPr/>
          <p:nvPr/>
        </p:nvPicPr>
        <p:blipFill>
          <a:blip r:embed="rId1"/>
          <a:stretch/>
        </p:blipFill>
        <p:spPr>
          <a:xfrm>
            <a:off x="2786040" y="3071880"/>
            <a:ext cx="3430440" cy="3558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Лидия\К. И. Чуковский\kovsh_1.jpg"/>
          <p:cNvPicPr/>
          <p:nvPr/>
        </p:nvPicPr>
        <p:blipFill>
          <a:blip r:embed="rId2"/>
          <a:stretch/>
        </p:blipFill>
        <p:spPr>
          <a:xfrm>
            <a:off x="5643720" y="571680"/>
            <a:ext cx="3500280" cy="3616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круглый сосуд для зачерпывания жидкости, сыпучег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500040" y="42876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ВШ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665640" y="278604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Д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428760" y="2928960"/>
            <a:ext cx="678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чка с прямыми боками и одним дно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01360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большая кадка с уш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755640" y="54936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ШАТ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D:\Лидия\К. И. Чуковский\i3724-icon-big.jpg"/>
          <p:cNvPicPr/>
          <p:nvPr/>
        </p:nvPicPr>
        <p:blipFill>
          <a:blip r:embed="rId1"/>
          <a:stretch/>
        </p:blipFill>
        <p:spPr>
          <a:xfrm>
            <a:off x="3276720" y="2028960"/>
            <a:ext cx="58672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кончите предложения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егодня на уроке я …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не запомнилось …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онравилось чтение 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тр. 6-10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ыучить отрывок из «Путаницы»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ое задание: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рисовать иллюстрацию к произведению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D:\Лидия\К. И. Чуковский\61453273_cokotuha03.gif"/>
          <p:cNvPicPr/>
          <p:nvPr/>
        </p:nvPicPr>
        <p:blipFill>
          <a:blip r:embed="rId1"/>
          <a:stretch/>
        </p:blipFill>
        <p:spPr>
          <a:xfrm>
            <a:off x="3924360" y="2000160"/>
            <a:ext cx="4735440" cy="4308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«Пришла Муха на базар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И купила самовар…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84200" y="522936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Муха Цокоту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«Ехали медведи на велосипеде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 за ними кот задом наперёд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D:\Лидия\К. И. Чуковский\9010150.jpg"/>
          <p:cNvPicPr/>
          <p:nvPr/>
        </p:nvPicPr>
        <p:blipFill>
          <a:blip r:embed="rId1"/>
          <a:stretch/>
        </p:blipFill>
        <p:spPr>
          <a:xfrm>
            <a:off x="611280" y="1886040"/>
            <a:ext cx="4176720" cy="4567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4859280" y="5157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Тараканищ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«Ох, не легкая это работ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– Из болота тащить бегемота!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D:\Лидия\К. И. Чуковский\5.jpg"/>
          <p:cNvPicPr/>
          <p:nvPr/>
        </p:nvPicPr>
        <p:blipFill>
          <a:blip r:embed="rId1"/>
          <a:stretch/>
        </p:blipFill>
        <p:spPr>
          <a:xfrm>
            <a:off x="4211640" y="1989000"/>
            <a:ext cx="4397400" cy="42404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971640" y="5229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Телеф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Вдруг из маминой из спальн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ивоногий и хром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егает умывальни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качает головой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D:\Лидия\К. И. Чуковский\566062.jpg"/>
          <p:cNvPicPr/>
          <p:nvPr/>
        </p:nvPicPr>
        <p:blipFill>
          <a:blip r:embed="rId1"/>
          <a:stretch/>
        </p:blipFill>
        <p:spPr>
          <a:xfrm>
            <a:off x="5003640" y="2637000"/>
            <a:ext cx="3600720" cy="353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755640" y="544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ойдоды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И кастрюля на бегу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ичала утюгу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Я бегу, бегу, бегу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держаться не могу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D:\Лидия\К. И. Чуковский\mouse-suteev-04.jpg"/>
          <p:cNvPicPr/>
          <p:nvPr/>
        </p:nvPicPr>
        <p:blipFill>
          <a:blip r:embed="rId1"/>
          <a:stretch/>
        </p:blipFill>
        <p:spPr>
          <a:xfrm>
            <a:off x="755640" y="3141720"/>
            <a:ext cx="3827520" cy="32716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4859280" y="486900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Федор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Лидия\К. И. Чуковский\Chukovskiy.jpg"/>
          <p:cNvPicPr/>
          <p:nvPr/>
        </p:nvPicPr>
        <p:blipFill>
          <a:blip r:embed="rId1"/>
          <a:stretch/>
        </p:blipFill>
        <p:spPr>
          <a:xfrm>
            <a:off x="517680" y="603360"/>
            <a:ext cx="8083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3628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«Талант у Чуковског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неиссякаемы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умный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блистательный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весёлый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праздничный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И. Андрони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ПУТАНИЦ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3:04:48Z</dcterms:created>
  <dc:creator>Компас</dc:creator>
  <dc:description/>
  <dc:language>en-US</dc:language>
  <cp:lastModifiedBy>User</cp:lastModifiedBy>
  <dcterms:modified xsi:type="dcterms:W3CDTF">2019-01-29T07:02:23Z</dcterms:modified>
  <cp:revision>26</cp:revision>
  <dc:subject/>
  <dc:title>Слайд 1</dc:title>
</cp:coreProperties>
</file>