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15.gif" ContentType="image/gif"/>
  <Override PartName="/ppt/media/image14.wmf" ContentType="image/x-wmf"/>
  <Override PartName="/ppt/media/image1.wmf" ContentType="image/x-wmf"/>
  <Override PartName="/ppt/media/image13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8.wmf" ContentType="image/x-wmf"/>
  <Override PartName="/ppt/media/image7.gif" ContentType="image/gi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82E-E27B-4688-B9AA-EB81A628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8F2-FA99-4115-9878-9F82B517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ADD-6E0C-47C7-B967-ECA2037F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73E-EDFD-49DD-ACD7-4EB0AE88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3B94-0589-4E69-A1E7-F38D1CBE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743A-84F7-482A-8B16-2BE37501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7686-6EFC-46F0-A803-8C113BD3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0AF7-119E-4C03-A49E-7D65D4C4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933E-90A0-41EA-9A93-A508966E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6285-658D-462C-A1E6-DF769BE9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E0D9-7442-4268-9B1D-DDD3FFD1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0CB-C2ED-4399-8299-07764DAB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749E-8385-4B07-9BCC-5D4BA4C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4D47-AD4D-4628-8B31-19D813A7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9E99-0C4D-4B05-9F25-55C3D7BE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F76B-A394-439C-9D9A-1D8AF692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FFA5-C3F4-4B1E-AC4B-74D76033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418-789D-49C5-B997-8E76DD2B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7E5-2D2C-4357-8C0D-3FDA5A66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DEE-5DD9-4546-BA4C-52A72610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D28-4ABC-4D6F-B0FB-E02BAFF9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6B7-F759-4275-A3A6-ED2E979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C8F-04D2-4FB6-9516-7F0C2DD1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85D-6CEC-4E25-941A-8B9C58AD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C9C4-D4F6-4C07-9E5F-C70984C22C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4550-FEFB-445A-94CE-FAB49F4FBC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mouse.kinder.ru/dom/komar1.gif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use.kinder.ru/dom/komar1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6967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605a"/>
                </a:solidFill>
                <a:latin typeface="Arial"/>
              </a:rPr>
              <a:t>Что будет, если исчезнут насекомые?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28760" y="414324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j0232060"/>
          <p:cNvPicPr/>
          <p:nvPr/>
        </p:nvPicPr>
        <p:blipFill>
          <a:blip r:embed="rId1"/>
          <a:stretch/>
        </p:blipFill>
        <p:spPr>
          <a:xfrm>
            <a:off x="4716360" y="3933720"/>
            <a:ext cx="2735280" cy="23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0605a"/>
                </a:solidFill>
                <a:latin typeface="Arial"/>
              </a:rPr>
              <a:t>Отгадай, кто эти малышки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39481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 цветком порхает, пляш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ером узорным маш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j0283572"/>
          <p:cNvPicPr/>
          <p:nvPr/>
        </p:nvPicPr>
        <p:blipFill>
          <a:blip r:embed="rId1"/>
          <a:stretch/>
        </p:blipFill>
        <p:spPr>
          <a:xfrm>
            <a:off x="4356000" y="836640"/>
            <a:ext cx="1314720" cy="895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komar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1916280"/>
            <a:ext cx="1440000" cy="965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" descr="j0088492[1]"/>
          <p:cNvPicPr/>
          <p:nvPr/>
        </p:nvPicPr>
        <p:blipFill>
          <a:blip r:embed="rId4"/>
          <a:stretch/>
        </p:blipFill>
        <p:spPr>
          <a:xfrm>
            <a:off x="6084720" y="2997360"/>
            <a:ext cx="1175040" cy="998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j0083948[1]"/>
          <p:cNvPicPr/>
          <p:nvPr/>
        </p:nvPicPr>
        <p:blipFill>
          <a:blip r:embed="rId5"/>
          <a:stretch/>
        </p:blipFill>
        <p:spPr>
          <a:xfrm>
            <a:off x="179280" y="4076640"/>
            <a:ext cx="1871640" cy="752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j0287567"/>
          <p:cNvPicPr/>
          <p:nvPr/>
        </p:nvPicPr>
        <p:blipFill>
          <a:blip r:embed="rId6"/>
          <a:stretch/>
        </p:blipFill>
        <p:spPr>
          <a:xfrm>
            <a:off x="5292720" y="4941720"/>
            <a:ext cx="1182600" cy="9590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22"/>
          <p:cNvSpPr/>
          <p:nvPr/>
        </p:nvSpPr>
        <p:spPr>
          <a:xfrm>
            <a:off x="3635280" y="1844640"/>
            <a:ext cx="35290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 долог, голос тон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его убьёт, тот св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ь проль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611280" y="3068640"/>
            <a:ext cx="45720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 из цветов она берё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сотах копит сладкий мё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6"/>
          <p:cNvSpPr/>
          <p:nvPr/>
        </p:nvSpPr>
        <p:spPr>
          <a:xfrm>
            <a:off x="2411280" y="4076640"/>
            <a:ext cx="38894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лугу живёт скрипа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ит фрак и ходит 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8"/>
          <p:cNvSpPr/>
          <p:nvPr/>
        </p:nvSpPr>
        <p:spPr>
          <a:xfrm>
            <a:off x="1116000" y="5084640"/>
            <a:ext cx="45720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гат – да не бы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сть ног – да без коп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4659480" y="6083280"/>
            <a:ext cx="3008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31"/>
          <p:cNvSpPr txBox="1"/>
          <p:nvPr/>
        </p:nvSpPr>
        <p:spPr>
          <a:xfrm>
            <a:off x="2411280" y="5734080"/>
            <a:ext cx="4753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о насекомые.</a:t>
            </a:r>
            <a:endParaRPr b="0" lang="en-US" sz="36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4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0605a"/>
                </a:solidFill>
                <a:latin typeface="Arial"/>
              </a:rPr>
              <a:t>А вы знаете, что насекомым</a:t>
            </a:r>
            <a:br>
              <a:rPr sz="3600"/>
            </a:br>
            <a:r>
              <a:rPr b="1" i="1" lang="ru-RU" sz="3600" spc="-1" strike="noStrike">
                <a:solidFill>
                  <a:srgbClr val="30605a"/>
                </a:solidFill>
                <a:latin typeface="Arial"/>
              </a:rPr>
              <a:t> 250 миллионов лет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долго, от самого начала образования Земли как планеты, суша была почти необитаема. Но пришло время, когда на морских берегах и в низовьях рек появились первые наземные растения и животные. Возникли в это время и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о, что с тех пор насекомые очень мало измени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0" y="6021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к узнать, насекомое перед вами или н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35" repeatCount="indefinite">
                                  <p:stCondLst>
                                    <p:cond delay="5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0605a"/>
                </a:solidFill>
                <a:latin typeface="Arial"/>
              </a:rPr>
              <a:t>Запомни!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7656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секом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исходит от сло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сеч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сек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внимательно рассмотреть брюшко бабочки или жука, то можно увидеть на нём поперечные полоски, словно брюшко насеч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насекомых есть брюшко, грудь,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нец, насекомых не зря называют шестиногими. У всех насекомых по шесть ног, если больше или меньше, а может нет и вовсе, то это не насеко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26920" y="4869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 каких насекомых знаешь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132000" y="5445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 ещ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556000" y="6093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Ой, как мн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3" descr="j0293878"/>
          <p:cNvPicPr/>
          <p:nvPr/>
        </p:nvPicPr>
        <p:blipFill>
          <a:blip r:embed="rId4"/>
          <a:stretch/>
        </p:blipFill>
        <p:spPr>
          <a:xfrm>
            <a:off x="6588000" y="476280"/>
            <a:ext cx="10350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960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0605a"/>
                </a:solidFill>
                <a:latin typeface="Arial"/>
              </a:rPr>
              <a:t>Насекомые – самая</a:t>
            </a:r>
            <a:br>
              <a:rPr sz="3200"/>
            </a:br>
            <a:r>
              <a:rPr b="1" i="1" lang="ru-RU" sz="3200" spc="-1" strike="noStrike">
                <a:solidFill>
                  <a:srgbClr val="30605a"/>
                </a:solidFill>
                <a:latin typeface="Arial"/>
              </a:rPr>
              <a:t> многочисленная группа животных.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8" name="Picture 8" descr="Streams 008"/>
          <p:cNvPicPr/>
          <p:nvPr/>
        </p:nvPicPr>
        <p:blipFill>
          <a:blip r:embed="rId1"/>
          <a:stretch/>
        </p:blipFill>
        <p:spPr>
          <a:xfrm>
            <a:off x="539640" y="2205000"/>
            <a:ext cx="6840720" cy="43927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0"/>
          <p:cNvSpPr/>
          <p:nvPr/>
        </p:nvSpPr>
        <p:spPr>
          <a:xfrm>
            <a:off x="684360" y="14842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и живут везд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2411280" y="5157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воде и под во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611280" y="24922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древес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1332000" y="4005360"/>
            <a:ext cx="331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900000" y="4005360"/>
            <a:ext cx="31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земле и под землё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5292720" y="6021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тра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0605a"/>
                </a:solidFill>
                <a:latin typeface="Arial"/>
              </a:rPr>
              <a:t>Можно ли считать многих насекомых вредными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8120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ьмём, к примеру, ком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ь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. Ты заходишь в лес, наслаждаеш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ей красотой, собираешь грибо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годки, и вдруг, как налетят…- и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адает, ничто уже не в радость. Уж их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, эт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пийц, наверняка можно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дными насекомыми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ыло бы хор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о, если бы они исчез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24000" y="566100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п! А хорошо ли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mph" presetID="27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7" dur="10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efe0"/>
                                      </p:to>
                                    </p:animClr>
                                    <p:animClr clrSpc="rgb">
                                      <p:cBhvr>
                                        <p:cTn id="158" dur="10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efe0"/>
                                      </p:to>
                                    </p:animClr>
                                    <p:set>
                                      <p:cBhvr>
                                        <p:cTn id="159" dur="10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227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0605a"/>
                </a:solidFill>
                <a:latin typeface="Arial"/>
              </a:rPr>
              <a:t>Задумайся, кому нужны комары?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29" name="Picture 4" descr="koma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13000"/>
            <a:ext cx="2106360" cy="1412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j0078929[1]"/>
          <p:cNvPicPr/>
          <p:nvPr/>
        </p:nvPicPr>
        <p:blipFill>
          <a:blip r:embed="rId3"/>
          <a:stretch/>
        </p:blipFill>
        <p:spPr>
          <a:xfrm>
            <a:off x="539640" y="981000"/>
            <a:ext cx="1830600" cy="194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AG00181_[1]"/>
          <p:cNvPicPr/>
          <p:nvPr/>
        </p:nvPicPr>
        <p:blipFill>
          <a:blip r:embed="rId4"/>
          <a:stretch/>
        </p:blipFill>
        <p:spPr>
          <a:xfrm>
            <a:off x="2340000" y="2637000"/>
            <a:ext cx="2371680" cy="1415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j0290836"/>
          <p:cNvPicPr/>
          <p:nvPr/>
        </p:nvPicPr>
        <p:blipFill>
          <a:blip r:embed="rId5"/>
          <a:stretch/>
        </p:blipFill>
        <p:spPr>
          <a:xfrm>
            <a:off x="5580000" y="4221000"/>
            <a:ext cx="1656000" cy="1322640"/>
          </a:xfrm>
          <a:prstGeom prst="rect">
            <a:avLst/>
          </a:prstGeom>
          <a:ln w="0">
            <a:noFill/>
          </a:ln>
        </p:spPr>
      </p:pic>
      <p:sp>
        <p:nvSpPr>
          <p:cNvPr id="233" name="Line 14"/>
          <p:cNvSpPr/>
          <p:nvPr/>
        </p:nvSpPr>
        <p:spPr>
          <a:xfrm flipH="1">
            <a:off x="2771280" y="198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 flipH="1">
            <a:off x="4140000" y="2133720"/>
            <a:ext cx="122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5651640" y="2421000"/>
            <a:ext cx="433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250920" y="3789360"/>
            <a:ext cx="446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179280" y="422100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179280" y="4581360"/>
            <a:ext cx="489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ры являются кормом для многих животных. А если исчезнут и о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21"/>
          <p:cNvSpPr txBox="1"/>
          <p:nvPr/>
        </p:nvSpPr>
        <p:spPr>
          <a:xfrm>
            <a:off x="4788000" y="595008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OS !</a:t>
            </a:r>
            <a:endParaRPr b="0" lang="en-US" sz="3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49214E-006 C -0.00156 -0.00138 -0.00313 -0.00254 -0.00451 -0.00416 C -0.00625 -0.00601 -0.00747 -0.00855 -0.0092 -0.01017 C -0.01649 -0.01711 -0.01337 -0.01225 -0.01997 -0.01641 C -0.02934 -0.02243 -0.03715 -0.02705 -0.04757 -0.03075 C -0.05139 -0.04532 -0.0559 -0.05943 -0.0599 -0.07377 C -0.06354 -0.08718 -0.06632 -0.10036 -0.07222 -0.11262 C -0.07622 -0.11054 -0.08073 -0.10938 -0.08455 -0.10661 C -0.09219 -0.10083 -0.09653 -0.09666 -0.10451 -0.09227 C -0.10938 -0.08949 -0.1184 -0.08186 -0.1184 -0.08186 C -0.12431 -0.0703 -0.13646 -0.06891 -0.14618 -0.06544 C -0.17205 -0.05596 -0.19236 -0.04949 -0.21997 -0.04717 C -0.20434 -0.03307 -0.19219 -0.01156 -0.17535 8.49214E-006 C -0.17292 0.00949 -0.17014 0.01018 -0.16302 0.01226 C -0.16024 0.02683 -0.16354 0.01504 -0.15695 0.0266 C -0.15469 0.03053 -0.1507 0.03909 -0.1507 0.03909 C -0.15017 0.04256 -0.14948 0.0458 -0.14913 0.04927 C -0.14427 0.09298 -0.1526 0.08534 -0.1184 0.08812 C -0.09306 0.09274 -0.07031 0.10246 -0.04618 0.11286 C -0.03611 0.11726 -0.02587 0.12142 -0.01684 0.12905 C -0.01337 0.13645 -0.00868 0.13877 -0.00451 0.14547 C 0.00226 0.15634 -0.0059 0.14755 0.00312 0.15588 C 0.00781 0.1649 0.00781 0.1686 0.01545 0.16189 C 0.02274 0.14802 0.03246 0.14224 0.04462 0.13946 C 0.06024 0.12905 0.03993 0.14154 0.06007 0.13322 C 0.09132 0.12026 0.06337 0.12836 0.08316 0.12304 C 0.09219 0.11471 0.1033 0.11286 0.11233 0.10454 C 0.11337 0.10246 0.11406 0.10014 0.11545 0.09853 C 0.11667 0.09714 0.11892 0.09783 0.11996 0.09644 C 0.13368 0.07817 0.1217 0.08488 0.13229 0.08002 C 0.13646 0.06892 0.13385 0.06684 0.14305 0.0636 C 0.14358 0.06083 0.14392 0.05805 0.14462 0.05528 C 0.14601 0.04903 0.1493 0.03701 0.1493 0.03701 C 0.15555 -0.01248 0.15365 0.01296 0.1493 -0.06961 C 0.14878 -0.08001 0.14375 -0.08996 0.13698 -0.09227 C 0.13038 -0.1036 0.12292 -0.10638 0.11233 -0.10846 C 0.0974 -0.10776 0.08246 -0.10915 0.06771 -0.10661 C 0.06562 -0.10615 0.06493 -0.10221 0.06319 -0.10036 C 0.06024 -0.09736 0.05382 -0.09227 0.05382 -0.09227 C 0.04896 -0.08209 0.04722 -0.08649 0.0401 -0.07978 C 0.0349 -0.07492 0.03246 -0.0703 0.02621 -0.06752 C 0.02187 -0.05619 0.02118 -0.05966 0.01389 -0.05319 C 0.00885 -0.04347 0.01024 -0.03468 0.00156 -0.03075 C -0.00347 -0.0141 -0.00191 -0.02405 4.72222E-006 8.49214E-006 Z">
                                      <p:cBhvr>
                                        <p:cTn id="165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0605a"/>
                </a:solidFill>
                <a:latin typeface="Arial"/>
              </a:rPr>
              <a:t>Если ты наблюдательный, то и комары могут быть полезными!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2349000"/>
            <a:ext cx="75484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вление комаров поздней осенью – к неморозной, мягкой зи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знечики стрекочут – ночью буде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и прекращают движение около муравейника и закрывают ходы – к нен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j0215291"/>
          <p:cNvPicPr/>
          <p:nvPr/>
        </p:nvPicPr>
        <p:blipFill>
          <a:blip r:embed="rId4"/>
          <a:stretch/>
        </p:blipFill>
        <p:spPr>
          <a:xfrm>
            <a:off x="5580000" y="5013360"/>
            <a:ext cx="982800" cy="1557360"/>
          </a:xfrm>
          <a:prstGeom prst="rect">
            <a:avLst/>
          </a:prstGeom>
          <a:ln w="0">
            <a:noFill/>
          </a:ln>
        </p:spPr>
      </p:pic>
      <p:sp>
        <p:nvSpPr>
          <p:cNvPr id="243" name="WordArt 5"/>
          <p:cNvSpPr txBox="1"/>
          <p:nvPr/>
        </p:nvSpPr>
        <p:spPr>
          <a:xfrm>
            <a:off x="1403280" y="1700280"/>
            <a:ext cx="511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a08f5e"/>
                </a:solidFill>
                <a:latin typeface="Arial"/>
              </a:rPr>
              <a:t>Народные приметы.</a:t>
            </a:r>
            <a:endParaRPr b="0" lang="en-US" sz="3600" spc="1" strike="noStrike">
              <a:ln w="19080">
                <a:solidFill>
                  <a:srgbClr val="000000"/>
                </a:solidFill>
                <a:miter/>
              </a:ln>
              <a:solidFill>
                <a:srgbClr val="a08f5e"/>
              </a:solidFill>
              <a:latin typeface="Arial"/>
              <a:ea typeface="Arial"/>
            </a:endParaRPr>
          </a:p>
        </p:txBody>
      </p:sp>
      <p:pic>
        <p:nvPicPr>
          <p:cNvPr id="244" name="Picture 8" descr="j0233173"/>
          <p:cNvPicPr/>
          <p:nvPr/>
        </p:nvPicPr>
        <p:blipFill>
          <a:blip r:embed="rId5"/>
          <a:stretch/>
        </p:blipFill>
        <p:spPr>
          <a:xfrm>
            <a:off x="3564000" y="5084640"/>
            <a:ext cx="10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0605a"/>
                </a:solidFill>
                <a:latin typeface="Arial"/>
              </a:rPr>
              <a:t>Мои выводы.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7417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е – самая многочисленная группа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а обитания насекомых очень разнообраз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подразделять насекомых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д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аждое из них приносит свою пользу 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чезновение комаров может привести к вымиранию тех животных, которые ими пит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и должны оберегать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4:46:49Z</dcterms:created>
  <dc:creator>Дмитрий Лапчик</dc:creator>
  <dc:description/>
  <dc:language>en-US</dc:language>
  <cp:lastModifiedBy>user</cp:lastModifiedBy>
  <dcterms:modified xsi:type="dcterms:W3CDTF">2012-10-22T00:56:00Z</dcterms:modified>
  <cp:revision>10</cp:revision>
  <dc:subject/>
  <dc:title>Что будет, если исчезнут насекомые?</dc:title>
</cp:coreProperties>
</file>