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B984-6C88-4075-B760-4661C47F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F7E5-937E-4E9F-A7E7-D0F1A64E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29D7-FF7F-49A9-A6C8-16C28F33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C0C4-A4BD-4FC6-9039-7958FAEB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9407-8596-4E3A-A5E5-45847DD5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736E-CDBB-45E5-B8E6-F0B0B1F8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0F4-2E83-454E-9A78-7070C4FB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3ED7-F918-4268-8874-6D0368C1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C35D-B02D-4C01-9226-EAA069AA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4AED-1BD1-4598-8EFD-62B20D2C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2E78-3C3B-4046-9F72-DB12BC56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5E2-02C6-4270-BD02-02C26310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7A85-FAC8-4A68-BFD5-0471D78017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ДЕЛУ – ВРЕМЯ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7960" y="1828440"/>
            <a:ext cx="4267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ак влиять на время? Можно ли им управлять? Почему личного времени постоянно не хватает? Кто, как и зачем постоянно крадет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C:\Documents and Settings\admin\Мои документы\Мои рисунки\33.png"/>
          <p:cNvPicPr/>
          <p:nvPr/>
        </p:nvPicPr>
        <p:blipFill>
          <a:blip r:embed="rId1"/>
          <a:stretch/>
        </p:blipFill>
        <p:spPr>
          <a:xfrm>
            <a:off x="228600" y="1905120"/>
            <a:ext cx="45450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346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057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Arial"/>
              </a:rPr>
              <a:t>Информация к размышления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28600" y="838080"/>
            <a:ext cx="86104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гда я полюбил себя, я понял, что тоска и страдания  - это только предупредительные сигналы о том, что я живу против своей собственной истины. Сегодня я знаю, что это  называется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ыть самим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762120" y="21337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Когда я полюбил себя, я перестал красть свое собственное время и мечтать о больших будущих проектах. Сегодня я делаю только то, что доставляет мне радость и делает меня счастливым, что я люблю и что заставляет мое сердце улыбаться. Я делаю это так, как хочу, в своем собственном ритме. Сегодня я называю это  -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простот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380880" y="3657600"/>
            <a:ext cx="78487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Когда я полюбил себя, я понял, как можно сильно обидеть кого – то, если навязывать исполнение моих же собственных желаний, когда время еще не подошло,и человек еще не готов, и этот человек – я сам. Сегодня я называю это -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амоуважение.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1600200" y="22860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УДРОСТЬ СЕРД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838080" y="5334120"/>
            <a:ext cx="8077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огда я полюбил себя, я перестал желать другой жизни и вдруг увидел, что жизнь, которая меня окружает сейчас, предоставляет мне все возможности для роста. Сегодня я называю это -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зрелость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УДРОСТЬ СЕРДЦ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0" y="1143000"/>
            <a:ext cx="8839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Когда я полюбил себя, я понял, что  при любых обстоятельствах я нахожусь в правильном месте в правильное время и все происходит в исключительно в правильный момент. Я могу быть спокоен всегда. Теперь я называю это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уверенность в себе</a:t>
            </a: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762120" y="2590920"/>
            <a:ext cx="80010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3e5c"/>
                </a:solidFill>
                <a:latin typeface="Arial"/>
              </a:rPr>
              <a:t>Когда я полюбил себя ,я освободился от всего, что приносит вред моему здоровью, - пищи, людей, вещей, ситуаций. Всего, что вело меня вниз и уводило с моего  собственного пути. Сегодня я называю </a:t>
            </a:r>
            <a:r>
              <a:rPr b="1" lang="ru-RU" sz="2400" spc="-1" strike="noStrike">
                <a:solidFill>
                  <a:srgbClr val="923e5c"/>
                </a:solidFill>
                <a:latin typeface="Arial"/>
              </a:rPr>
              <a:t>это любовь к самому себе</a:t>
            </a:r>
            <a:r>
              <a:rPr b="1" lang="ru-RU" sz="2000" spc="-1" strike="noStrike">
                <a:solidFill>
                  <a:srgbClr val="923e5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0" y="4191120"/>
            <a:ext cx="86104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Arial"/>
              </a:rPr>
              <a:t>Когда я полюбил себя, я перестал быть правым. Именно тогда я  стал все меньше и меньше ошибаться. Сегодня я понял, что это </a:t>
            </a: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скром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838080" y="5257800"/>
            <a:ext cx="7696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Когда я полюбил себя, я прекратил жить прошлым и беспокоиться о будущем. Сегодня я живу только настощим моментом и зову это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удовлетво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УДРОСТЬ СЕРД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228600" y="1143000"/>
            <a:ext cx="8077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38904"/>
                </a:solidFill>
                <a:latin typeface="Arial"/>
              </a:rPr>
              <a:t>Когда я полюбил себя,я осознал, что ум мой может мне мешать, что от него можно даже заболеть. Но когда я смог связать его с моим сердцем, он сразу стал моим ценным союзником. Сегодня я зову это – </a:t>
            </a:r>
            <a:r>
              <a:rPr b="1" lang="ru-RU" sz="2400" spc="-1" strike="noStrike">
                <a:solidFill>
                  <a:srgbClr val="a38904"/>
                </a:solidFill>
                <a:latin typeface="Arial"/>
              </a:rPr>
              <a:t>мудрость серд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838080" y="2590920"/>
            <a:ext cx="8077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Нам больше не нужно бояться споров, конфронтаций, проблем с самим собой и с другими людьми .Даже звезды сталкиваются, и из этих столкновений рождаются новые миры. Сегодня я знаю, что это –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жизнь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228600" y="4114800"/>
            <a:ext cx="8381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Человеку, сказавшему эти слова, суждена была долгая жизнь в эпоху великих перемен. Как ему удавалось всегда оставаться на вершине, жить синхронно со временем и его духом? Мудрый человек с грустными глазами, который заставлял смеяться и плакать весь мир.Он сказал эти слова на своем 70 - летнем юбилее.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Это был???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-8327" t="-7072" r="0" b="21264"/>
          <a:stretch/>
        </p:blipFill>
        <p:spPr>
          <a:xfrm>
            <a:off x="1219320" y="0"/>
            <a:ext cx="59436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Задумай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сли вы движетесь быстро – время замедляется (А. Эйнштейн).                                                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е говори, что у тебя мало времени: тебе отведено такое же количество часов в сутки, как и Бетховену, Пушкину и Леонардо да Винчи(?).                                                 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Никому не изменить вчера, но мы можем изменить свое завтра(Колин Пауэлл).                                 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Либо вы управляете вашим днем, либо день управляет вами (Джим Рон).                               </a:t>
            </a:r>
            <a:r>
              <a:rPr b="1" lang="ru-RU" sz="2800" spc="-1" strike="noStrike">
                <a:solidFill>
                  <a:srgbClr val="d35b1f"/>
                </a:solidFill>
                <a:latin typeface="Arial"/>
              </a:rPr>
              <a:t>Когда мы тратим время на планирование, его становится больше(?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d35b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85 0.15468 C 0.07587 0.16046 0.0901 0.15907 0.10365 0.16162 C 0.11372 0.1704 0.10347 0.16231 0.12049 0.17063 C 0.13247 0.17641 0.14271 0.18705 0.15608 0.18867 C 0.17847 0.19144 0.22778 0.19237 0.2441 0.19306 C 0.25434 0.20231 0.2434 0.19375 0.25764 0.2 C 0.27135 0.20601 0.28628 0.21225 0.29861 0.22242 C 0.31962 0.23977 0.33663 0.25803 0.35451 0.28115 C 0.36337 0.29248 0.37014 0.31537 0.37813 0.32855 C 0.38212 0.34936 0.37622 0.32416 0.38663 0.3489 C 0.38767 0.35167 0.3875 0.35491 0.38837 0.35792 C 0.39115 0.36763 0.39462 0.37711 0.39688 0.38728 C 0.40139 0.4067 0.40556 0.42612 0.40868 0.44601 C 0.41146 0.46474 0.4125 0.48439 0.41719 0.50242 C 0.41632 0.54982 0.42656 0.57919 0.41215 0.61294 C 0.40573 0.62821 0.40035 0.64578 0.3934 0.66034 C 0.39045 0.66659 0.38333 0.67838 0.38333 0.67861 C 0.38003 0.69179 0.3842 0.67977 0.37656 0.68971 C 0.36615 0.70335 0.35868 0.71699 0.34427 0.7237 C 0.31406 0.75352 0.2349 0.73063 0.22396 0.7304 C 0.20833 0.71977 0.22778 0.73179 0.20538 0.7237 C 0.19809 0.72115 0.19184 0.71584 0.18472 0.71237 C 0.175 0.70289 0.16458 0.69572 0.15417 0.6874 C 0.14809 0.68208 0.14531 0.67491 0.13924 0.66936 C 0.13194 0.65479 0.12292 0.64393 0.11892 0.62659 C 0.11458 0.60994 0.11111 0.59283 0.10521 0.57688 C 0.1033 0.56323 0.10226 0.55306 0.09688 0.54081 C 0.08958 0.50266 0.08438 0.46381 0.07656 0.42566 C 0.07465 0.40763 0.07031 0.38936 0.06285 0.37364 C 0.06059 0.36115 0.04392 0.33318 0.0342 0.32855 C 0.03021 0.3267 0.02622 0.32716 0.02205 0.32624 C 0.01146 0.3237 0.000869999999999999 0.31977 -0.0099 0.31722 C -0.01788 0.31792 -0.02587 0.31792 -0.03368 0.31953 C -0.04219 0.32115 -0.04965 0.32901 -0.05747 0.33318 C -0.05972 0.33618 -0.06163 0.33965 -0.06424 0.34219 C -0.06562 0.34358 -0.06788 0.34266 -0.06927 0.34427 C -0.09149 0.36901 -0.06059 0.34196 -0.07951 0.35792 C -0.0849 0.37017 -0.08889 0.3815 -0.09479 0.39399 C -0.09635 0.39768 -0.1 0.40531 -0.1 0.40555 C -0.10226 0.41849 -0.10677 0.43075 -0.11007 0.4437 C -0.11198 0.45248 -0.11337 0.47075 -0.11337 0.47098 C -0.11458 0.54543 -0.10295 0.60948 -0.15243 0.65364 C -0.15937 0.66011 -0.16285 0.66612 -0.17101 0.66936 C -0.17847 0.68485 -0.19427 0.68647 -0.2066 0.69202 C -0.22292 0.69133 -0.23941 0.69179 -0.25573 0.68971 C -0.25781 0.68948 -0.25885 0.68624 -0.26076 0.68531 C -0.26736 0.68231 -0.27448 0.68069 -0.28108 0.67838 C -0.28333 0.67768 -0.28785 0.6763 -0.28785 0.67653 C -0.29792 0.66774 -0.30937 0.66427 -0.3184 0.65364 C -0.32517 0.64555 -0.33785 0.62474 -0.34219 0.61757 C -0.34392 0.61456 -0.34687 0.61318 -0.34896 0.61063 C -0.35868 0.59907 -0.35694 0.60046 -0.36424 0.58589 C -0.36667 0.57549 -0.37257 0.56878 -0.37604 0.55884 C -0.38403 0.53595 -0.39115 0.51214 -0.39809 0.48878 C -0.39965 0.48347 -0.40382 0.46913 -0.40486 0.46404 C -0.40625 0.45664 -0.40833 0.44138 -0.40833 0.44162 C -0.40781 0.39468 -0.40764 0.34821 -0.4066 0.3015 C -0.40625 0.28809 -0.40069 0.27584 -0.39809 0.26312 C -0.39045 0.22659 -0.37795 0.1919 -0.36076 0.16162 C -0.35156 0.14543 -0.34653 0.11907 -0.33368 0.10728 C -0.32413 0.08254 -0.33976 0.12069 -0.3184 0.08254 C -0.3125 0.07214 -0.30608 0.06058 -0.29826 0.05341 C -0.2934 0.03537 -0.30069 0.05641 -0.29132 0.04416 C -0.28767 0.03884 -0.2849 0.03214 -0.28108 0.02612 C -0.27326 0.01225 -0.27934 0.02566 -0.27118 0.01479 C -0.2691 0.01225 -0.26788 0.00832 -0.26597 0.00578 C -0.25382 -0.00995 -0.23819 -0.02035 -0.22187 -0.0259 C -0.20104 -0.02474 -0.18594 -0.03445 -0.17274 -0.01688 C -0.17135 -0.01503 -0.17101 -0.01179 -0.16944 -0.00995 C -0.16198 -0.00185 -0.1625 -0.00971 -0.1625 -0.00324 E">
                                      <p:cBhvr>
                                        <p:cTn id="15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Arial"/>
              </a:rPr>
              <a:t>Вы опоздали на 40 минут. Это то же самое, что                                                  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е позволяйте вчерашнему дню влиять н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ы думаете, время идет? Безумцы! Э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пешка плоха уже тем, что отнимает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Люди, которым не хватает времени, - это, как правило, люди, которые не знают точно,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465480" y="586728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cc"/>
                </a:solidFill>
                <a:latin typeface="Arial"/>
              </a:rPr>
              <a:t>укра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3448440" y="5943600"/>
            <a:ext cx="58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ебя сегодня(Ричард Нельсон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11160" y="6324480"/>
            <a:ext cx="49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ы проходите мимо(Древни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2438280" y="57150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очень много времени(Гилберт Честертон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7086600" y="5410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5"/>
          <p:cNvSpPr/>
          <p:nvPr/>
        </p:nvSpPr>
        <p:spPr>
          <a:xfrm>
            <a:off x="5638680" y="6396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то им ну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95 -0.41086 L 0.13195 -0.68832 E">
                                      <p:cBhvr>
                                        <p:cTn id="15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493 -0.22683 L -0.26493 -0.55977 E">
                                      <p:cBhvr>
                                        <p:cTn id="160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705 -0.1556 L 0.13871 -0.46636 E">
                                      <p:cBhvr>
                                        <p:cTn id="164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0.09965 L 0.01667 -0.2333 E">
                                      <p:cBhvr>
                                        <p:cTn id="168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834 -0.0111 L -0.40834 -0.12162 E">
                                      <p:cBhvr>
                                        <p:cTn id="17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Ловцы времени или </a:t>
            </a:r>
            <a:r>
              <a:rPr b="1" i="1" lang="ru-RU" sz="4400" spc="-1" strike="noStrike">
                <a:solidFill>
                  <a:srgbClr val="ff66cc"/>
                </a:solidFill>
                <a:latin typeface="Arial"/>
              </a:rPr>
              <a:t>наши анти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нформация к рассужд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533520" y="251460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Сигарета, чай (кофе), энергетические напитки, аська (скайп), интернет игры, телефон, сериалы, «долгоиграющие» шоу, интерн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3662280" y="4038480"/>
            <a:ext cx="10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cc"/>
                </a:solidFill>
                <a:latin typeface="Arial"/>
              </a:rPr>
              <a:t>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4884840" y="411480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Arial"/>
              </a:rPr>
              <a:t>Н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5"/>
          <p:cNvSpPr/>
          <p:nvPr/>
        </p:nvSpPr>
        <p:spPr>
          <a:xfrm>
            <a:off x="3139560" y="4724280"/>
            <a:ext cx="30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Arial"/>
              </a:rPr>
              <a:t>ТВОЕ МН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6"/>
          <p:cNvSpPr/>
          <p:nvPr/>
        </p:nvSpPr>
        <p:spPr>
          <a:xfrm>
            <a:off x="914400" y="5257800"/>
            <a:ext cx="693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Часы можно остановить, а время – нет. Задумайтесь:куда уходит ваше вре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Несколько советов по те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5228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мните, что время - ваш ресурс, такой же как силы, деньги.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ланируйте свои дела. Научитесь сосредоточиваться на наиболее важных и срочных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елах.Возьмите за правило: не превы- шать сроки выполнения дел без веской причины.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Используйте непредвиденные задержки в свою пользу( читайте, продумывайте планы в дороге, в очереди…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5d0d"/>
                </a:solidFill>
                <a:latin typeface="Arial"/>
              </a:rPr>
              <a:t>Обязательно оставляйте время для расслабления, отдыха, развития своей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ерьте в себя, делайте все, чтобы быть независимыми и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бодными от тисков времени, </a:t>
            </a: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бесконечно свободными, </a:t>
            </a:r>
            <a:r>
              <a:rPr b="1" lang="ru-RU" sz="3600" spc="-1" strike="noStrike">
                <a:solidFill>
                  <a:srgbClr val="ff5d0d"/>
                </a:solidFill>
                <a:latin typeface="Arial"/>
              </a:rPr>
              <a:t>бесконечно молодыми, </a:t>
            </a:r>
            <a:r>
              <a:rPr b="1" lang="ru-RU" sz="3600" spc="-1" strike="noStrike">
                <a:solidFill>
                  <a:srgbClr val="00b0f0"/>
                </a:solidFill>
                <a:latin typeface="Arial"/>
              </a:rPr>
              <a:t>бесконечно человечными!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найте, что это во благо..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733920" y="53352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Arial"/>
              </a:rPr>
              <a:t>Время – это энергия и,  как ни парадоксально, выбор. Оно способно сжиматься и растягиваться, концентрироваться и рассредоточиваться, Каждому из  нас его дано примерно по 700 – 800 тысяч часов. Но почему  кому – то этого хватает, а кто – то постоянно страдает из – за нехватки време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990720" y="510552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Пришло время взять под контроль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лавную собственность,  ценность и достояние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 вашей жизни 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аше личное врем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C:\Documents and Settings\admin\Мои документы\Мои рисунки\6.jpeg"/>
          <p:cNvPicPr/>
          <p:nvPr/>
        </p:nvPicPr>
        <p:blipFill>
          <a:blip r:embed="rId1"/>
          <a:stretch/>
        </p:blipFill>
        <p:spPr>
          <a:xfrm>
            <a:off x="371520" y="533520"/>
            <a:ext cx="32115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560" y="274284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Находите время для себя и для любимых людей, и для дела своей жизни! Будьте свободными, счастливыми и реализованным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C:\Documents and Settings\admin\Мои документы\Мои рисунки\2.jpeg"/>
          <p:cNvPicPr/>
          <p:nvPr/>
        </p:nvPicPr>
        <p:blipFill>
          <a:blip r:embed="rId1"/>
          <a:stretch/>
        </p:blipFill>
        <p:spPr>
          <a:xfrm>
            <a:off x="2590920" y="228600"/>
            <a:ext cx="270648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1143000" y="6858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Цените и берегите время не только свое, но и чужое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066680" y="495288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133720" y="457200"/>
            <a:ext cx="6705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Каждый человек в своем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физическом </a:t>
            </a:r>
            <a:r>
              <a:rPr b="1" i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времени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имеет возможность   наилучшим образом использовать минут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Каждый человек в своем  </a:t>
            </a:r>
            <a:r>
              <a:rPr b="1" i="1" lang="ru-RU" sz="2800" spc="-1" strike="noStrike" u="sng">
                <a:solidFill>
                  <a:srgbClr val="ff6600"/>
                </a:solidFill>
                <a:uFillTx/>
                <a:latin typeface="Arial"/>
              </a:rPr>
              <a:t>психологическом </a:t>
            </a: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времени имеет возможность обнаружить и прожить лучшие, самые возвышенные состоя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Каждый человек в своем </a:t>
            </a:r>
            <a:r>
              <a:rPr b="1" i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ментальном</a:t>
            </a:r>
            <a:r>
              <a:rPr b="1" i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времени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 имеет возможность получить доступ  к знаниям, изучить законы и понятия, позволяющие расширить границы «узкой тюремной камеры»,в которую мы заключены.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Каждый человек в своем </a:t>
            </a:r>
            <a:r>
              <a:rPr b="1" i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духовном</a:t>
            </a:r>
            <a:r>
              <a:rPr b="1" i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 времени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 имеет возможность искать и находить, исполняя  ту заповедь, которая с давних времен звучала в древних храмах: «Познай себя!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C:\Documents and Settings\admin\Мои документы\Мои рисунки\i.jpeg"/>
          <p:cNvPicPr/>
          <p:nvPr/>
        </p:nvPicPr>
        <p:blipFill>
          <a:blip r:embed="rId1"/>
          <a:stretch/>
        </p:blipFill>
        <p:spPr>
          <a:xfrm>
            <a:off x="380880" y="1981080"/>
            <a:ext cx="1663920" cy="1435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C:\Documents and Settings\admin\Мои документы\Мои рисунки\9ну - же!.jpeg"/>
          <p:cNvPicPr/>
          <p:nvPr/>
        </p:nvPicPr>
        <p:blipFill>
          <a:blip r:embed="rId2"/>
          <a:stretch/>
        </p:blipFill>
        <p:spPr>
          <a:xfrm>
            <a:off x="304920" y="228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C:\Documents and Settings\admin\Мои документы\Мои рисунки\время - деньги.jpeg"/>
          <p:cNvPicPr/>
          <p:nvPr/>
        </p:nvPicPr>
        <p:blipFill>
          <a:blip r:embed="rId3"/>
          <a:stretch/>
        </p:blipFill>
        <p:spPr>
          <a:xfrm>
            <a:off x="531720" y="4876920"/>
            <a:ext cx="1666800" cy="1677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:\Documents and Settings\admin\Мои документы\Мои рисунки\всемирное время.jpeg"/>
          <p:cNvPicPr/>
          <p:nvPr/>
        </p:nvPicPr>
        <p:blipFill>
          <a:blip r:embed="rId4"/>
          <a:stretch/>
        </p:blipFill>
        <p:spPr>
          <a:xfrm>
            <a:off x="762120" y="3390840"/>
            <a:ext cx="1066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4"/>
          <p:cNvSpPr/>
          <p:nvPr/>
        </p:nvSpPr>
        <p:spPr>
          <a:xfrm>
            <a:off x="3124080" y="762120"/>
            <a:ext cx="601992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Наше неумение управлять временем –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физическим, ментальным, духовным </a:t>
            </a: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– может привести к тому, что к концу жизни мы придем со страшными вопросам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762120" y="4572000"/>
            <a:ext cx="8381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На что я потратил свою жизнь?                                   На что ушли годы?                                                       Какие ценности я накопил?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Documents and Settings\admin\Мои документы\Мои рисунки\8 время быстротечно.jpg"/>
          <p:cNvPicPr/>
          <p:nvPr/>
        </p:nvPicPr>
        <p:blipFill>
          <a:blip r:embed="rId1"/>
          <a:stretch/>
        </p:blipFill>
        <p:spPr>
          <a:xfrm>
            <a:off x="446040" y="1066680"/>
            <a:ext cx="2516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изическое время </a:t>
            </a:r>
            <a:r>
              <a:rPr b="1" lang="ru-RU" sz="3200" spc="-1" strike="noStrike">
                <a:solidFill>
                  <a:srgbClr val="923e5c"/>
                </a:solidFill>
                <a:latin typeface="Arial"/>
              </a:rPr>
              <a:t>для нас словно дом с прочными засовами. Это часы, которые мы носим на руке. Это праздники, дни рождения, это тот ритм, который боимся нарушать, боимся сделать вызов бессмертию и нарушить сложный жизненный процесс.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« Времени у нас вообще нет. А подходящего никогда и не бывает… Надо пользоваться тем, что у нас есть.» А. Хей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Где я нахожусь? На что трачу свое время? С чем борюсь? Что разрушаю и зачем? Создаю ли что – то взамен? Отвергая – предлагаю ли? Что в моей жизни могло быть или чего могло не произойти? На что лучше, полезнее тратить врем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ечь идет не об информации, а об опыте души и знаниях. Время для нашего физического тела – это лишь то, что измерили стрелки наших часов. </a:t>
            </a: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Но есть время </a:t>
            </a: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ментальное, </a:t>
            </a: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которое требуется нам, чтобы понять, осознать, осмыслить что – 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Это значит жить не только по времени, отсчитываемому часами, но и другой жизнью, в других измерениях и в других временах, в других эпохах и цивилизациях, </a:t>
            </a: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жить  во времени духовно,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чтобы каждый день состоял не из бесчисленного множества часов и </a:t>
            </a: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минут, а бесчисленного опыта души и бесчисленного количества энерг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609480" y="6094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33520" y="685800"/>
            <a:ext cx="83055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«А знаете ли Вы о том, что среднестатистический житель мегаполиса за свою жизнь теряет около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5 лет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, проводя это время в различных очередях, пример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коло года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– в ожидании зеленого света светофора? За приемом пищи средний человек проводит около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6 лет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своей жизни,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4 года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уходит у него на уборку квартиры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,8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есяцев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– на чтение различных реклам и объявлений в газетах.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коло года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он проводит в поисках  затеряв- шихся в квартире вещей,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2 года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– в безуспешных   по- пытках связаться по телефону с друзьями и знакомыми. В тех семьях, где оба супруга работают, муж и жена успевают в течение дня побеседовать друг с другом не боле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9 минут,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на разговоры детей с родителями остаютс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ишь 30 секунд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»…                                                                                                                                                                                                                 .                                                       Анжелика Альпенштай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ВРЕМЯ НУЖНО НАЙТ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62520" y="220968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00"/>
                </a:solidFill>
                <a:latin typeface="Arial"/>
              </a:rPr>
              <a:t>Только за телевизором мы проводим около 13 лет!                                              Странно,не правда ли, после этого говорить: У меня нет времен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:\Documents and Settings\admin\Мои документы\Мои рисунки\default.jpegвремя улетает.jpeg"/>
          <p:cNvPicPr/>
          <p:nvPr/>
        </p:nvPicPr>
        <p:blipFill>
          <a:blip r:embed="rId1"/>
          <a:stretch/>
        </p:blipFill>
        <p:spPr>
          <a:xfrm>
            <a:off x="457200" y="2666880"/>
            <a:ext cx="3556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10-21T14:31:33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