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F9B-9BEB-489A-8391-5BA5ED1A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729-338C-41B9-985D-D27FEBB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AEF-C29B-42D6-A2E1-07708F8C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6FA-750E-4026-996F-D247CAFC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E90-473E-4714-991C-1D2B11BE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1908-656B-464A-9BA6-4BCCAE3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434A-4802-46FC-9CB3-8B486BF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F804-00A7-4373-899D-22450B30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0F7E-7DB9-45C2-AD8A-6AC41BE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25CB-9B81-4EBB-A972-39AA6665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5654-E281-4D58-87EF-D56288B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B90-CFEA-4798-913F-3C7BEE6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42F-6020-4BA8-8325-E67A2A0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B79-144C-48BE-A311-4CC5098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AF60-51E2-4D07-B301-44669BDA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E06D-DEA1-4838-B4C9-798F7B33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D1E7-0B89-41C0-A14D-D1001E69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E45-975E-44B9-BB47-7727BECF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1AC-8448-4295-8970-2B3E6FC0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1D4-4BA8-42D3-B67A-B253E8F3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6CF-6320-4524-BA01-D229FC1F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6A1-1689-40F4-B3F9-D42777F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540-A02F-44C7-BD23-0C4FA69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B8B-861D-4C47-87A2-18CE830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A703-FEEC-476C-8A1B-58D2931A6B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A62-D1D8-4E4C-B290-470E579B54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4 апрел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лассная раб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Тем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Гласные и согласные звук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16m2"/>
          <p:cNvPicPr/>
          <p:nvPr/>
        </p:nvPicPr>
        <p:blipFill>
          <a:blip r:embed="rId1"/>
          <a:stretch/>
        </p:blipFill>
        <p:spPr>
          <a:xfrm>
            <a:off x="0" y="0"/>
            <a:ext cx="1809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Итог уро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вуки называют соглас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вуки называют глас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i-main-pic" descr="Картинка 1 из 66"/>
          <p:cNvPicPr/>
          <p:nvPr/>
        </p:nvPicPr>
        <p:blipFill>
          <a:blip r:embed="rId3"/>
          <a:stretch/>
        </p:blipFill>
        <p:spPr>
          <a:xfrm>
            <a:off x="539640" y="3573360"/>
            <a:ext cx="828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жнение 11    с. 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сканирование0011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ловарь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252720" y="1599840"/>
            <a:ext cx="993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Ваня. Пенал.Собака. Петров.Ученик.Барсик. Сосновка.Море. Москва.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Одежда. 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6858000"/>
            <a:ext cx="993780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6400" spc="-1" strike="noStrike" u="sng">
                <a:solidFill>
                  <a:srgbClr val="ffffff"/>
                </a:solidFill>
                <a:uFillTx/>
                <a:latin typeface="Times New Roman"/>
              </a:rPr>
              <a:t>Ваня,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 пенал, собака, </a:t>
            </a:r>
            <a:r>
              <a:rPr b="1" lang="ru-RU" sz="6400" spc="-1" strike="noStrike" u="sng">
                <a:solidFill>
                  <a:srgbClr val="ffffff"/>
                </a:solidFill>
                <a:uFillTx/>
                <a:latin typeface="Times New Roman"/>
              </a:rPr>
              <a:t>Петров,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ученик,</a:t>
            </a:r>
            <a:r>
              <a:rPr b="1" lang="ru-RU" sz="6400" spc="-1" strike="noStrike" u="sng">
                <a:solidFill>
                  <a:srgbClr val="ffffff"/>
                </a:solidFill>
                <a:uFillTx/>
                <a:latin typeface="Times New Roman"/>
              </a:rPr>
              <a:t>Барсик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6400" spc="-1" strike="noStrike" u="sng">
                <a:solidFill>
                  <a:srgbClr val="ffffff"/>
                </a:solidFill>
                <a:uFillTx/>
                <a:latin typeface="Times New Roman"/>
              </a:rPr>
              <a:t>Сосновка,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море, </a:t>
            </a:r>
            <a:r>
              <a:rPr b="1" lang="ru-RU" sz="6400" spc="-1" strike="noStrike" u="sng">
                <a:solidFill>
                  <a:srgbClr val="ffffff"/>
                </a:solidFill>
                <a:uFillTx/>
                <a:latin typeface="Times New Roman"/>
              </a:rPr>
              <a:t>Москва,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400" spc="-1" strike="noStrike">
                <a:solidFill>
                  <a:srgbClr val="ffffff"/>
                </a:solidFill>
                <a:latin typeface="Times New Roman"/>
              </a:rPr>
              <a:t>одежда. 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1181 -0.80602 E">
                                      <p:cBhvr>
                                        <p:cTn id="8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8908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…ш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7200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ы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ка, м</a:t>
            </a: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ка, м</a:t>
            </a: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924360" y="333360"/>
            <a:ext cx="47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о, у, ы, ю, е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11280" y="1484280"/>
            <a:ext cx="266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…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067280" y="1484280"/>
            <a:ext cx="47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я, е, у, ю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95280" y="5300640"/>
            <a:ext cx="4032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чка, р</a:t>
            </a: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755640" y="2565360"/>
            <a:ext cx="26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…л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4067280" y="2565360"/>
            <a:ext cx="47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о, ю, у, е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4716360" y="5373720"/>
            <a:ext cx="4032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ка, б</a:t>
            </a: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ff"/>
                </a:solidFill>
                <a:latin typeface="Times New Roman"/>
              </a:rPr>
              <a:t>ко…ка (г, ш, р, ч, ж)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ff"/>
                </a:solidFill>
                <a:latin typeface="Times New Roman"/>
              </a:rPr>
              <a:t>ро…а (з, с. щ, т, ф)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ff"/>
                </a:solidFill>
                <a:latin typeface="Times New Roman"/>
              </a:rPr>
              <a:t>по…а (р, б, ф, л)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4149720"/>
            <a:ext cx="9144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Ко</a:t>
            </a:r>
            <a:r>
              <a:rPr b="1" lang="ru-RU" sz="7600" spc="-1" strike="noStrike">
                <a:solidFill>
                  <a:srgbClr val="00cc00"/>
                </a:solidFill>
                <a:latin typeface="Times New Roman"/>
              </a:rPr>
              <a:t>ш</a:t>
            </a: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ка, ро</a:t>
            </a:r>
            <a:r>
              <a:rPr b="1" lang="ru-RU" sz="7600" spc="-1" strike="noStrike">
                <a:solidFill>
                  <a:srgbClr val="00cc00"/>
                </a:solidFill>
                <a:latin typeface="Times New Roman"/>
              </a:rPr>
              <a:t>з</a:t>
            </a: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а, ро</a:t>
            </a:r>
            <a:r>
              <a:rPr b="1" lang="ru-RU" sz="7600" spc="-1" strike="noStrike">
                <a:solidFill>
                  <a:srgbClr val="00cc00"/>
                </a:solidFill>
                <a:latin typeface="Times New Roman"/>
              </a:rPr>
              <a:t>с</a:t>
            </a: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а, ро</a:t>
            </a:r>
            <a:r>
              <a:rPr b="1" lang="ru-RU" sz="7600" spc="-1" strike="noStrike">
                <a:solidFill>
                  <a:srgbClr val="00cc00"/>
                </a:solidFill>
                <a:latin typeface="Times New Roman"/>
              </a:rPr>
              <a:t>т</a:t>
            </a: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а, ро</a:t>
            </a:r>
            <a:r>
              <a:rPr b="1" lang="ru-RU" sz="7600" spc="-1" strike="noStrike">
                <a:solidFill>
                  <a:srgbClr val="00cc00"/>
                </a:solidFill>
                <a:latin typeface="Times New Roman"/>
              </a:rPr>
              <a:t>щ</a:t>
            </a: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а, по</a:t>
            </a:r>
            <a:r>
              <a:rPr b="1" lang="ru-RU" sz="7600" spc="-1" strike="noStrike">
                <a:solidFill>
                  <a:srgbClr val="00cc00"/>
                </a:solidFill>
                <a:latin typeface="Times New Roman"/>
              </a:rPr>
              <a:t>р</a:t>
            </a:r>
            <a:r>
              <a:rPr b="1" lang="ru-RU" sz="7600" spc="-1" strike="noStrike">
                <a:solidFill>
                  <a:srgbClr val="ff0000"/>
                </a:solidFill>
                <a:latin typeface="Times New Roman"/>
              </a:rPr>
              <a:t>а. 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324000" y="404640"/>
            <a:ext cx="856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сные тянутся в песенке звонкой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250920" y="1268280"/>
            <a:ext cx="8426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гут заплакать и закричать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250920" y="2133720"/>
            <a:ext cx="828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гут в кроватке баюкать ребёнк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250920" y="2997360"/>
            <a:ext cx="8426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 не желают свистеть и ворчат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9"/>
          <p:cNvSpPr txBox="1"/>
          <p:nvPr/>
        </p:nvSpPr>
        <p:spPr>
          <a:xfrm>
            <a:off x="0" y="4437000"/>
            <a:ext cx="914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согласные согласны шелестеть, шептать, скрипеть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>
            <a:off x="0" y="5445000"/>
            <a:ext cx="914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же фыркать и шипеть, но не хочется им пет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гадай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2923920"/>
            <a:ext cx="30351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лен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79280" y="1413000"/>
            <a:ext cx="878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м, ворд, варта, цова, туак, елонь, сутк, ави, кокаш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859280" y="2924280"/>
            <a:ext cx="303552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д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ус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утани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орошо, а два – лучш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дин в </a:t>
            </a:r>
            <a:r>
              <a:rPr b="0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з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ле не воин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шу маслом не испортиш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Упражнение 13, с. 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блокнот ручка45"/>
          <p:cNvPicPr/>
          <p:nvPr/>
        </p:nvPicPr>
        <p:blipFill>
          <a:blip r:embed="rId1"/>
          <a:stretch/>
        </p:blipFill>
        <p:spPr>
          <a:xfrm>
            <a:off x="6012000" y="0"/>
            <a:ext cx="34639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7:06:26Z</dcterms:created>
  <dc:creator>user</dc:creator>
  <dc:description/>
  <dc:language>en-US</dc:language>
  <cp:lastModifiedBy>User</cp:lastModifiedBy>
  <dcterms:modified xsi:type="dcterms:W3CDTF">2011-04-13T22:04:47Z</dcterms:modified>
  <cp:revision>12</cp:revision>
  <dc:subject/>
  <dc:title>Русский язык</dc:title>
</cp:coreProperties>
</file>