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A83-A58B-4D4A-B90F-E546651F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86D-5F40-4C57-B0B3-DFDBBD46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953-1084-402D-B198-0DEB555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F24-BF96-4D73-BFE1-B9A83810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55F-E029-4B3E-8363-1F4BABD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B7E-1136-4BE3-A98B-2B64CADF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3CC-F2DC-44BA-B8CF-DB41604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EE8-E68F-404C-AB00-336B185F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263-7E5F-4720-8407-5E3F222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B27-50A6-4FA6-B9E0-FBD863E1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490-F5CD-4B66-B301-0628238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E6B-61AE-4E40-A3AB-DF4054F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F71-1A6E-4C27-A365-B12DB0D7B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628280"/>
            <a:ext cx="4857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лож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720" y="2708280"/>
            <a:ext cx="4714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Люль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620280"/>
            <a:ext cx="7345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дя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дя привё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з поез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 в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ику мален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ю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нку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.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дрей был очен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ра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дар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у в доме на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ч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с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беспоря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.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адал  столик и разбивалас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да.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 и к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да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ш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падали под кр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т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мамином плат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 появилас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ая ды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е 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и с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ы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ных проделок.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ишлос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тдат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 в ц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280" y="1600200"/>
            <a:ext cx="3524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в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ез…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ч…ли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ни…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андаш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т…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…жа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л…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ез…я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…с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270520" y="151920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976400" y="2166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752480" y="29242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729440" y="350028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990520" y="41464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5654880" y="151920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4935240" y="219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213880" y="29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654880" y="352908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993200" y="4175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6000" y="836280"/>
            <a:ext cx="712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о привёз дядя Володя из поезд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тнёсся Андрей к подар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стало происходить в до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3723480" y="148428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маленькую обезьянку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27880" y="3213000"/>
            <a:ext cx="34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был очень ра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510000" y="5084640"/>
            <a:ext cx="50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сплошные беспоряд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75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75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75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2560" y="907560"/>
            <a:ext cx="7643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происходило со столиком, с посуд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да попали книжки и карандаш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де появилась большая ды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650040" y="18446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адал, разбивалас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104440" y="306864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под кро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943080" y="4437000"/>
            <a:ext cx="42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в мамином плать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99640" y="1052280"/>
            <a:ext cx="74264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де лежали следы Люлькиных продел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да пришлось отдать Люль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225040" y="213372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везд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70840" y="41497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в ци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357200" y="1000080"/>
            <a:ext cx="6929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о привёз дядя Володя из поез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тнёсся Андрей к подар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тало происходить в до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исходило со столиком, с посуд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попали книжки и карандаш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появилась большая ды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лежали следы Люлькиных продел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пришлось отдать Люль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2987640" y="1771560"/>
            <a:ext cx="345600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20-02-21T02:06:41Z</dcterms:modified>
  <cp:revision>25</cp:revision>
  <dc:subject/>
  <dc:title>Слайд 1</dc:title>
</cp:coreProperties>
</file>