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B50D-5A3D-4025-98FE-1B5DD76458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98FB-3D0B-41B8-AAC1-3A36C3E8AF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FC10-6A04-4FF4-80B0-83D08E4063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4482-82D8-4CD0-BF05-FA8DF061C7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3CA6-8068-4914-8C44-BF49BB3181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76ED-70FB-48CF-A42E-CD61FE4340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E61C-8317-4249-860A-3B3D538A2A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809A-3264-444F-AA86-B479B9915A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5809-18BB-43F7-8618-2753B2709E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D1A3-D0EF-453E-B407-2C6FEEF2C2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D315-F841-4B51-900E-0B5AA9744D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65F85-5E4F-4570-952C-2953CCD99A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F888-3BFA-4342-BE1E-E2E750ADE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EB0B-AE3A-4F20-89B9-E6D3E91C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DDFF-2F0C-4A97-9AA5-7FF510EC9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C5FD-7CB3-4673-8A3C-4CA70CA10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F79D-F4BE-4F43-8F75-622A462D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7C82-A11A-46CA-AEC7-51D0C7C5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7F0C-3B45-40F0-B0D4-BA70677A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C025-95F3-4791-AE1E-3127DBCA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4088-749B-4869-9D82-5893F5FA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EB15-8216-4ED8-86C5-C8EC4B31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08DA-BA74-42ED-8DC3-E08C4CFC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61C5-4DC7-4A7E-B66B-C3BF6691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2894-1515-4B30-A2D0-F62ADC75FF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1"/>
          <p:cNvSpPr/>
          <p:nvPr/>
        </p:nvSpPr>
        <p:spPr>
          <a:xfrm>
            <a:off x="611280" y="2060640"/>
            <a:ext cx="7586640" cy="2160360"/>
          </a:xfrm>
          <a:prstGeom prst="flowChartPunchedTape">
            <a:avLst/>
          </a:prstGeom>
          <a:solidFill>
            <a:srgbClr val="d6e3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Правила безопас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на в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4" descr="owl-book"/>
          <p:cNvPicPr/>
          <p:nvPr/>
        </p:nvPicPr>
        <p:blipFill>
          <a:blip r:embed="rId1"/>
          <a:stretch/>
        </p:blipFill>
        <p:spPr>
          <a:xfrm>
            <a:off x="395280" y="189000"/>
            <a:ext cx="782640" cy="99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26024"/>
          <p:cNvPicPr/>
          <p:nvPr/>
        </p:nvPicPr>
        <p:blipFill>
          <a:blip r:embed="rId2"/>
          <a:stretch/>
        </p:blipFill>
        <p:spPr>
          <a:xfrm>
            <a:off x="5508720" y="4005360"/>
            <a:ext cx="2162160" cy="2306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2"/>
          <p:cNvSpPr/>
          <p:nvPr/>
        </p:nvSpPr>
        <p:spPr>
          <a:xfrm>
            <a:off x="3780000" y="16286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4" descr="owl-book"/>
          <p:cNvPicPr/>
          <p:nvPr/>
        </p:nvPicPr>
        <p:blipFill>
          <a:blip r:embed="rId1"/>
          <a:stretch/>
        </p:blipFill>
        <p:spPr>
          <a:xfrm>
            <a:off x="395280" y="189000"/>
            <a:ext cx="782640" cy="996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sm_full"/>
          <p:cNvPicPr/>
          <p:nvPr/>
        </p:nvPicPr>
        <p:blipFill>
          <a:blip r:embed="rId2"/>
          <a:stretch/>
        </p:blipFill>
        <p:spPr>
          <a:xfrm>
            <a:off x="1692360" y="260280"/>
            <a:ext cx="5954760" cy="5954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2"/>
          <p:cNvSpPr/>
          <p:nvPr/>
        </p:nvSpPr>
        <p:spPr>
          <a:xfrm>
            <a:off x="3780000" y="16286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4" descr="owl-book"/>
          <p:cNvPicPr/>
          <p:nvPr/>
        </p:nvPicPr>
        <p:blipFill>
          <a:blip r:embed="rId1"/>
          <a:stretch/>
        </p:blipFill>
        <p:spPr>
          <a:xfrm>
            <a:off x="395280" y="189000"/>
            <a:ext cx="782640" cy="9968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5"/>
          <p:cNvSpPr/>
          <p:nvPr/>
        </p:nvSpPr>
        <p:spPr>
          <a:xfrm>
            <a:off x="473400" y="1413000"/>
            <a:ext cx="807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юша:http://www.mega-torrent.ru/torrents/images/26024.JP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двежата: http://legend.az/uploads/posts/2012-01/1326184249_39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ихи: http://umm4.com/stories_tales_poems/bezopasnost-detej-na-vod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кат: http://du1.cherikov.edu.by/ru/sm_full.aspx?guid=44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2"/>
          <p:cNvSpPr/>
          <p:nvPr/>
        </p:nvSpPr>
        <p:spPr>
          <a:xfrm>
            <a:off x="3780000" y="16286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4" descr="owl-book"/>
          <p:cNvPicPr/>
          <p:nvPr/>
        </p:nvPicPr>
        <p:blipFill>
          <a:blip r:embed="rId1"/>
          <a:stretch/>
        </p:blipFill>
        <p:spPr>
          <a:xfrm>
            <a:off x="395280" y="189000"/>
            <a:ext cx="782640" cy="996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1326184249_39"/>
          <p:cNvPicPr/>
          <p:nvPr/>
        </p:nvPicPr>
        <p:blipFill>
          <a:blip r:embed="rId2"/>
          <a:stretch/>
        </p:blipFill>
        <p:spPr>
          <a:xfrm>
            <a:off x="1042920" y="1197000"/>
            <a:ext cx="6810480" cy="3333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2"/>
          <p:cNvSpPr/>
          <p:nvPr/>
        </p:nvSpPr>
        <p:spPr>
          <a:xfrm>
            <a:off x="3780000" y="16286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4" descr="owl-book"/>
          <p:cNvPicPr/>
          <p:nvPr/>
        </p:nvPicPr>
        <p:blipFill>
          <a:blip r:embed="rId1"/>
          <a:stretch/>
        </p:blipFill>
        <p:spPr>
          <a:xfrm>
            <a:off x="395280" y="189000"/>
            <a:ext cx="782640" cy="9968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339840" y="1625400"/>
            <a:ext cx="3914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omic Sans MS"/>
              </a:rPr>
              <a:t>На высоком берегу,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Comic Sans MS"/>
              </a:rPr>
              <a:t>Дети не играйте!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Comic Sans MS"/>
              </a:rPr>
              <a:t>Из-под ног уйти земля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Comic Sans MS"/>
              </a:rPr>
              <a:t>Может, так и знайте!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Comic Sans MS"/>
              </a:rPr>
              <a:t>И с обрыва прямо вниз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Comic Sans MS"/>
              </a:rPr>
              <a:t>В воду полетите…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Comic Sans MS"/>
              </a:rPr>
              <a:t>И останется кричать: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Comic Sans MS"/>
              </a:rPr>
              <a:t>«Люди, помогите!!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bezopasnost detej na vode 1 &amp;Bcy;&amp;iecy;&amp;zcy;&amp;ocy;&amp;pcy;&amp;acy;&amp;scy;&amp;ncy;&amp;ocy;&amp;scy;&amp;tcy;&amp;softcy; &amp;dcy;&amp;iecy;&amp;tcy;&amp;iecy;&amp;jcy; &amp;ncy;&amp;acy; &amp;vcy;&amp;ocy;&amp;dcy;&amp;iecy;"/>
          <p:cNvPicPr/>
          <p:nvPr/>
        </p:nvPicPr>
        <p:blipFill>
          <a:blip r:embed="rId2"/>
          <a:stretch/>
        </p:blipFill>
        <p:spPr>
          <a:xfrm>
            <a:off x="4284720" y="1125360"/>
            <a:ext cx="3246480" cy="4681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2"/>
          <p:cNvSpPr/>
          <p:nvPr/>
        </p:nvSpPr>
        <p:spPr>
          <a:xfrm>
            <a:off x="3780000" y="16286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4" descr="owl-book"/>
          <p:cNvPicPr/>
          <p:nvPr/>
        </p:nvPicPr>
        <p:blipFill>
          <a:blip r:embed="rId1"/>
          <a:stretch/>
        </p:blipFill>
        <p:spPr>
          <a:xfrm>
            <a:off x="395280" y="189000"/>
            <a:ext cx="782640" cy="9968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5"/>
          <p:cNvSpPr/>
          <p:nvPr/>
        </p:nvSpPr>
        <p:spPr>
          <a:xfrm>
            <a:off x="468360" y="1336680"/>
            <a:ext cx="4100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omic Sans MS"/>
              </a:rPr>
              <a:t>Когда вокруг грохочет гром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Comic Sans MS"/>
              </a:rPr>
              <a:t>И молния сверкает,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Comic Sans MS"/>
              </a:rPr>
              <a:t>Не лезь в открытый водоём!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Comic Sans MS"/>
              </a:rPr>
              <a:t>Ведь всякое бывает…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Comic Sans MS"/>
              </a:rPr>
              <a:t>И если ты в грозу попал,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Comic Sans MS"/>
              </a:rPr>
              <a:t>Не плавай, не купайся…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Comic Sans MS"/>
              </a:rPr>
              <a:t>Лишь только дождик застучал,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Comic Sans MS"/>
              </a:rPr>
              <a:t>На берег выбирайся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bezopasnost detej na vode 2 &amp;Bcy;&amp;iecy;&amp;zcy;&amp;ocy;&amp;pcy;&amp;acy;&amp;scy;&amp;ncy;&amp;ocy;&amp;scy;&amp;tcy;&amp;softcy; &amp;dcy;&amp;iecy;&amp;tcy;&amp;iecy;&amp;jcy; &amp;ncy;&amp;acy; &amp;vcy;&amp;ocy;&amp;dcy;&amp;iecy;"/>
          <p:cNvPicPr/>
          <p:nvPr/>
        </p:nvPicPr>
        <p:blipFill>
          <a:blip r:embed="rId2"/>
          <a:stretch/>
        </p:blipFill>
        <p:spPr>
          <a:xfrm>
            <a:off x="4211640" y="476280"/>
            <a:ext cx="4175280" cy="6021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2"/>
          <p:cNvSpPr/>
          <p:nvPr/>
        </p:nvSpPr>
        <p:spPr>
          <a:xfrm>
            <a:off x="3780000" y="16286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4" descr="owl-book"/>
          <p:cNvPicPr/>
          <p:nvPr/>
        </p:nvPicPr>
        <p:blipFill>
          <a:blip r:embed="rId1"/>
          <a:stretch/>
        </p:blipFill>
        <p:spPr>
          <a:xfrm>
            <a:off x="395280" y="189000"/>
            <a:ext cx="782640" cy="9968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513000" y="1336680"/>
            <a:ext cx="3620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omic Sans MS"/>
              </a:rPr>
              <a:t>И большим, и детям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Comic Sans MS"/>
              </a:rPr>
              <a:t>Хочется сказать: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Comic Sans MS"/>
              </a:rPr>
              <a:t>В незнакомом месте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Comic Sans MS"/>
              </a:rPr>
              <a:t>Вам нельзя нырять!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Comic Sans MS"/>
              </a:rPr>
              <a:t>Может очень мелкой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Comic Sans MS"/>
              </a:rPr>
              <a:t>Речка оказаться…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Comic Sans MS"/>
              </a:rPr>
              <a:t>А в песок опасно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Comic Sans MS"/>
              </a:rPr>
              <a:t>Головой втыкаться!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Comic Sans MS"/>
              </a:rPr>
              <a:t>Сучья, камни, стёкла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Comic Sans MS"/>
              </a:rPr>
              <a:t>Спрятались на дне –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Comic Sans MS"/>
              </a:rPr>
              <a:t>Их заметить сложно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Comic Sans MS"/>
              </a:rPr>
              <a:t>В водной глубине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bezopasnost detej na vode 3 &amp;Bcy;&amp;iecy;&amp;zcy;&amp;ocy;&amp;pcy;&amp;acy;&amp;scy;&amp;ncy;&amp;ocy;&amp;scy;&amp;tcy;&amp;softcy; &amp;dcy;&amp;iecy;&amp;tcy;&amp;iecy;&amp;jcy; &amp;ncy;&amp;acy; &amp;vcy;&amp;ocy;&amp;dcy;&amp;iecy;"/>
          <p:cNvPicPr/>
          <p:nvPr/>
        </p:nvPicPr>
        <p:blipFill>
          <a:blip r:embed="rId2"/>
          <a:stretch/>
        </p:blipFill>
        <p:spPr>
          <a:xfrm>
            <a:off x="4356000" y="692280"/>
            <a:ext cx="3794400" cy="5472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2"/>
          <p:cNvSpPr/>
          <p:nvPr/>
        </p:nvSpPr>
        <p:spPr>
          <a:xfrm>
            <a:off x="3780000" y="16286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4" descr="owl-book"/>
          <p:cNvPicPr/>
          <p:nvPr/>
        </p:nvPicPr>
        <p:blipFill>
          <a:blip r:embed="rId1"/>
          <a:stretch/>
        </p:blipFill>
        <p:spPr>
          <a:xfrm>
            <a:off x="0" y="0"/>
            <a:ext cx="782640" cy="9968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684360" y="763200"/>
            <a:ext cx="40021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omic Sans MS"/>
              </a:rPr>
              <a:t>Если развлекаться будешь на воде,</a:t>
            </a:r>
            <a:br>
              <a:rPr sz="2000"/>
            </a:br>
            <a:r>
              <a:rPr b="1" lang="ru-RU" sz="2000" spc="-1" strike="noStrike">
                <a:solidFill>
                  <a:srgbClr val="663300"/>
                </a:solidFill>
                <a:latin typeface="Comic Sans MS"/>
              </a:rPr>
              <a:t>Проследи, чтоб шутка не вела к беде…</a:t>
            </a:r>
            <a:br>
              <a:rPr sz="2000"/>
            </a:br>
            <a:r>
              <a:rPr b="1" lang="ru-RU" sz="2000" spc="-1" strike="noStrike">
                <a:solidFill>
                  <a:srgbClr val="663300"/>
                </a:solidFill>
                <a:latin typeface="Comic Sans MS"/>
              </a:rPr>
              <a:t>Не топи другого – может оказаться,</a:t>
            </a:r>
            <a:br>
              <a:rPr sz="2000"/>
            </a:br>
            <a:r>
              <a:rPr b="1" lang="ru-RU" sz="2000" spc="-1" strike="noStrike">
                <a:solidFill>
                  <a:srgbClr val="663300"/>
                </a:solidFill>
                <a:latin typeface="Comic Sans MS"/>
              </a:rPr>
              <a:t>Что воды случится другу наглотаться,</a:t>
            </a:r>
            <a:br>
              <a:rPr sz="2000"/>
            </a:br>
            <a:r>
              <a:rPr b="1" lang="ru-RU" sz="2000" spc="-1" strike="noStrike">
                <a:solidFill>
                  <a:srgbClr val="663300"/>
                </a:solidFill>
                <a:latin typeface="Comic Sans MS"/>
              </a:rPr>
              <a:t>Он запаникует, вырываться станет –</a:t>
            </a:r>
            <a:br>
              <a:rPr sz="2000"/>
            </a:br>
            <a:r>
              <a:rPr b="1" lang="ru-RU" sz="2000" spc="-1" strike="noStrike">
                <a:solidFill>
                  <a:srgbClr val="663300"/>
                </a:solidFill>
                <a:latin typeface="Comic Sans MS"/>
              </a:rPr>
              <a:t>И тебя с собою под воду затянет!</a:t>
            </a:r>
            <a:br>
              <a:rPr sz="2000"/>
            </a:br>
            <a:r>
              <a:rPr b="1" lang="ru-RU" sz="2000" spc="-1" strike="noStrike">
                <a:solidFill>
                  <a:srgbClr val="663300"/>
                </a:solidFill>
                <a:latin typeface="Comic Sans MS"/>
              </a:rPr>
              <a:t>И игра такая грустно завершится…</a:t>
            </a:r>
            <a:br>
              <a:rPr sz="2000"/>
            </a:br>
            <a:r>
              <a:rPr b="1" lang="ru-RU" sz="2000" spc="-1" strike="noStrike">
                <a:solidFill>
                  <a:srgbClr val="663300"/>
                </a:solidFill>
                <a:latin typeface="Comic Sans MS"/>
              </a:rPr>
              <a:t>Мы вам не желаем в речке утопиться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bezopasnost detej na vode 4 &amp;Bcy;&amp;iecy;&amp;zcy;&amp;ocy;&amp;pcy;&amp;acy;&amp;scy;&amp;ncy;&amp;ocy;&amp;scy;&amp;tcy;&amp;softcy; &amp;dcy;&amp;iecy;&amp;tcy;&amp;iecy;&amp;jcy; &amp;ncy;&amp;acy; &amp;vcy;&amp;ocy;&amp;dcy;&amp;iecy;"/>
          <p:cNvPicPr/>
          <p:nvPr/>
        </p:nvPicPr>
        <p:blipFill>
          <a:blip r:embed="rId2"/>
          <a:stretch/>
        </p:blipFill>
        <p:spPr>
          <a:xfrm>
            <a:off x="4572000" y="404640"/>
            <a:ext cx="3925800" cy="5661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2"/>
          <p:cNvSpPr/>
          <p:nvPr/>
        </p:nvSpPr>
        <p:spPr>
          <a:xfrm>
            <a:off x="3780000" y="16286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4" descr="owl-book"/>
          <p:cNvPicPr/>
          <p:nvPr/>
        </p:nvPicPr>
        <p:blipFill>
          <a:blip r:embed="rId1"/>
          <a:stretch/>
        </p:blipFill>
        <p:spPr>
          <a:xfrm>
            <a:off x="395280" y="189000"/>
            <a:ext cx="782640" cy="9968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1258920" y="330120"/>
            <a:ext cx="532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omic Sans MS"/>
              </a:rPr>
              <a:t>Не надо безобразничать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Comic Sans MS"/>
              </a:rPr>
              <a:t>И делать дырки в круге;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Comic Sans MS"/>
              </a:rPr>
              <a:t>Не стоит жизнью рисковать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Comic Sans MS"/>
              </a:rPr>
              <a:t>Ни другу, ни подруге.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Comic Sans MS"/>
              </a:rPr>
              <a:t>Но если ты, но если ты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Comic Sans MS"/>
              </a:rPr>
              <a:t>Шалун и злой проказник –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Comic Sans MS"/>
              </a:rPr>
              <a:t>Недалеко и до беды: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Comic Sans MS"/>
              </a:rPr>
              <a:t>Дырявый круг опас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bezopasnost detej na vode 7 &amp;Bcy;&amp;iecy;&amp;zcy;&amp;ocy;&amp;pcy;&amp;acy;&amp;scy;&amp;ncy;&amp;ocy;&amp;scy;&amp;tcy;&amp;softcy; &amp;dcy;&amp;iecy;&amp;tcy;&amp;iecy;&amp;jcy; &amp;ncy;&amp;acy; &amp;vcy;&amp;ocy;&amp;dcy;&amp;iecy;"/>
          <p:cNvPicPr/>
          <p:nvPr/>
        </p:nvPicPr>
        <p:blipFill>
          <a:blip r:embed="rId2"/>
          <a:stretch/>
        </p:blipFill>
        <p:spPr>
          <a:xfrm>
            <a:off x="4211640" y="3422520"/>
            <a:ext cx="4228920" cy="2932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0"/>
          <p:cNvSpPr/>
          <p:nvPr/>
        </p:nvSpPr>
        <p:spPr>
          <a:xfrm>
            <a:off x="179280" y="5950080"/>
            <a:ext cx="257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Азбука здоров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1 - 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3780000" y="16286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4" descr="owl-book"/>
          <p:cNvPicPr/>
          <p:nvPr/>
        </p:nvPicPr>
        <p:blipFill>
          <a:blip r:embed="rId1"/>
          <a:stretch/>
        </p:blipFill>
        <p:spPr>
          <a:xfrm>
            <a:off x="395280" y="189000"/>
            <a:ext cx="782640" cy="9968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1155240" y="474840"/>
            <a:ext cx="5572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omic Sans MS"/>
              </a:rPr>
              <a:t>Весело качаться детям на волнах</a:t>
            </a:r>
            <a:br>
              <a:rPr sz="2000"/>
            </a:br>
            <a:r>
              <a:rPr b="1" lang="ru-RU" sz="2000" spc="-1" strike="noStrike">
                <a:solidFill>
                  <a:srgbClr val="663300"/>
                </a:solidFill>
                <a:latin typeface="Comic Sans MS"/>
              </a:rPr>
              <a:t>На цветных матрасах, надувных кругах.</a:t>
            </a:r>
            <a:br>
              <a:rPr sz="2000"/>
            </a:br>
            <a:r>
              <a:rPr b="1" lang="ru-RU" sz="2000" spc="-1" strike="noStrike">
                <a:solidFill>
                  <a:srgbClr val="663300"/>
                </a:solidFill>
                <a:latin typeface="Comic Sans MS"/>
              </a:rPr>
              <a:t>Только непременно вы должны узнать:</a:t>
            </a:r>
            <a:br>
              <a:rPr sz="2000"/>
            </a:br>
            <a:r>
              <a:rPr b="1" lang="ru-RU" sz="2000" spc="-1" strike="noStrike">
                <a:solidFill>
                  <a:srgbClr val="663300"/>
                </a:solidFill>
                <a:latin typeface="Comic Sans MS"/>
              </a:rPr>
              <a:t>Далеко не надо в воду заплывать!</a:t>
            </a:r>
            <a:br>
              <a:rPr sz="2000"/>
            </a:br>
            <a:r>
              <a:rPr b="1" lang="ru-RU" sz="2000" spc="-1" strike="noStrike">
                <a:solidFill>
                  <a:srgbClr val="663300"/>
                </a:solidFill>
                <a:latin typeface="Comic Sans MS"/>
              </a:rPr>
              <a:t>Может прохудиться круг или матрас…</a:t>
            </a:r>
            <a:br>
              <a:rPr sz="2000"/>
            </a:br>
            <a:r>
              <a:rPr b="1" lang="ru-RU" sz="2000" spc="-1" strike="noStrike">
                <a:solidFill>
                  <a:srgbClr val="663300"/>
                </a:solidFill>
                <a:latin typeface="Comic Sans MS"/>
              </a:rPr>
              <a:t>Кто спасти успеет из пучины вас?</a:t>
            </a:r>
            <a:br>
              <a:rPr sz="2000"/>
            </a:br>
            <a:r>
              <a:rPr b="1" lang="ru-RU" sz="2000" spc="-1" strike="noStrike">
                <a:solidFill>
                  <a:srgbClr val="663300"/>
                </a:solidFill>
                <a:latin typeface="Comic Sans MS"/>
              </a:rPr>
              <a:t>И перевернуться на волнах легко…</a:t>
            </a:r>
            <a:br>
              <a:rPr sz="2000"/>
            </a:br>
            <a:r>
              <a:rPr b="1" lang="ru-RU" sz="2000" spc="-1" strike="noStrike">
                <a:solidFill>
                  <a:srgbClr val="663300"/>
                </a:solidFill>
                <a:latin typeface="Comic Sans MS"/>
              </a:rPr>
              <a:t>Так что не советуем плавать далеко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bezopasnost detej na vode 10 &amp;Bcy;&amp;iecy;&amp;zcy;&amp;ocy;&amp;pcy;&amp;acy;&amp;scy;&amp;ncy;&amp;ocy;&amp;scy;&amp;tcy;&amp;softcy; &amp;dcy;&amp;iecy;&amp;tcy;&amp;iecy;&amp;jcy; &amp;ncy;&amp;acy; &amp;vcy;&amp;ocy;&amp;dcy;&amp;iecy;"/>
          <p:cNvPicPr/>
          <p:nvPr/>
        </p:nvPicPr>
        <p:blipFill>
          <a:blip r:embed="rId2"/>
          <a:stretch/>
        </p:blipFill>
        <p:spPr>
          <a:xfrm>
            <a:off x="3419640" y="2997360"/>
            <a:ext cx="5020920" cy="3481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2"/>
          <p:cNvSpPr/>
          <p:nvPr/>
        </p:nvSpPr>
        <p:spPr>
          <a:xfrm>
            <a:off x="3780000" y="16286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4" descr="owl-book"/>
          <p:cNvPicPr/>
          <p:nvPr/>
        </p:nvPicPr>
        <p:blipFill>
          <a:blip r:embed="rId1"/>
          <a:stretch/>
        </p:blipFill>
        <p:spPr>
          <a:xfrm>
            <a:off x="395280" y="189000"/>
            <a:ext cx="782640" cy="9968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7"/>
          <p:cNvSpPr/>
          <p:nvPr/>
        </p:nvSpPr>
        <p:spPr>
          <a:xfrm>
            <a:off x="938520" y="765360"/>
            <a:ext cx="688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omic Sans MS"/>
              </a:rPr>
              <a:t>Дети любят все купать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omic Sans MS"/>
              </a:rPr>
              <a:t>В жаркий солнечный денё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omic Sans MS"/>
              </a:rPr>
              <a:t>Как вести себя с водою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omic Sans MS"/>
              </a:rPr>
              <a:t>Знать должны мы назуб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ecae124d6f6f"/>
          <p:cNvPicPr/>
          <p:nvPr/>
        </p:nvPicPr>
        <p:blipFill>
          <a:blip r:embed="rId2"/>
          <a:stretch/>
        </p:blipFill>
        <p:spPr>
          <a:xfrm>
            <a:off x="3635280" y="2708280"/>
            <a:ext cx="4481640" cy="3790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7T16:02:00Z</dcterms:created>
  <dc:creator>алена</dc:creator>
  <dc:description/>
  <dc:language>en-US</dc:language>
  <cp:lastModifiedBy>Home</cp:lastModifiedBy>
  <dcterms:modified xsi:type="dcterms:W3CDTF">2020-07-23T08:55:01Z</dcterms:modified>
  <cp:revision>61</cp:revision>
  <dc:subject/>
  <dc:title>Презентация PowerPoint</dc:title>
</cp:coreProperties>
</file>