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5.png" ContentType="image/png"/>
  <Override PartName="/ppt/media/image29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gif" ContentType="image/gif"/>
  <Override PartName="/ppt/media/image30.jpeg" ContentType="image/jpeg"/>
  <Override PartName="/ppt/media/image31.jpeg" ContentType="image/jpeg"/>
  <Override PartName="/ppt/media/image2.png" ContentType="image/png"/>
  <Override PartName="/ppt/media/image15.png" ContentType="image/png"/>
  <Override PartName="/ppt/media/image22.gif" ContentType="image/gif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.png" ContentType="image/png"/>
  <Override PartName="/ppt/media/image16.png" ContentType="image/png"/>
  <Override PartName="/ppt/media/image24.gif" ContentType="image/gif"/>
  <Override PartName="/ppt/media/image32.jpeg" ContentType="image/jpeg"/>
  <Override PartName="/ppt/media/image17.png" ContentType="image/png"/>
  <Override PartName="/ppt/media/image25.gif" ContentType="image/gif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EABA-CDDE-4F4A-BC44-F74F079D8A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7146-0B6F-4101-A785-1BCB993B6E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.Г. Петерсон «Математика 4 класс». Урок 24, задача 5. Сделайте клик по кнопке «Показать» ( 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а)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superroot.narod.ru/gif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Катер ship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.Г. Петерсон «Математика 4 класс». Урок 27, задача 1. Сделайте клик по кнопке «Показать» ( 5 раз).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//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ifchik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.boom.ru/sport2.ht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Пешеход  04     Рисунок «Турист» j0354669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office.microsoft.com/ru-ru/clipart/default.asp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платная загрузка картинок, фотографий, анимаций и звуков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.Г. Петерсон «Математика 4 класс». Урок 27, задача 3. Сделайте клик по кнопке «Показать» ( 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а). 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superroot.narod.ru/gif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Катер ship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3F34-DC6C-4617-A261-3F027539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3BC-A9F1-409A-BBD5-F4188F7D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E662-323C-41C8-948C-3BAF5D20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E5B-C32F-4556-B2C1-AA938ACA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A968-9685-4723-9B07-DFFAE37D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DFDC-C204-4CD1-8868-75CC6B9A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D11-8D60-4E8B-8550-1AFBCF01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41D9-416C-4515-8E53-D3B9EA53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38A-17BB-455A-9701-E122CFCF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4064-E688-4A35-9593-13CC2C50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45DA-1BEA-4087-90B0-5B80514C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E129-09B2-4C86-A1EC-0908A124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445C-6525-45AF-BB17-17E0FC1B5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gif"/><Relationship Id="rId12" Type="http://schemas.openxmlformats.org/officeDocument/2006/relationships/image" Target="../media/image23.pn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" Target="slide8.xml"/><Relationship Id="rId5" Type="http://schemas.openxmlformats.org/officeDocument/2006/relationships/image" Target="../media/image28.jpeg"/><Relationship Id="rId6" Type="http://schemas.openxmlformats.org/officeDocument/2006/relationships/slide" Target="slide7.xml"/><Relationship Id="rId7" Type="http://schemas.openxmlformats.org/officeDocument/2006/relationships/image" Target="../media/image29.jpeg"/><Relationship Id="rId8" Type="http://schemas.openxmlformats.org/officeDocument/2006/relationships/slide" Target="slide3.xml"/><Relationship Id="rId9" Type="http://schemas.openxmlformats.org/officeDocument/2006/relationships/image" Target="../media/image30.jpeg"/><Relationship Id="rId10" Type="http://schemas.openxmlformats.org/officeDocument/2006/relationships/slide" Target="slide5.xml"/><Relationship Id="rId11" Type="http://schemas.openxmlformats.org/officeDocument/2006/relationships/image" Target="../media/image31.jpeg"/><Relationship Id="rId12" Type="http://schemas.openxmlformats.org/officeDocument/2006/relationships/slide" Target="slide2.xml"/><Relationship Id="rId13" Type="http://schemas.openxmlformats.org/officeDocument/2006/relationships/image" Target="../media/image32.jpeg"/><Relationship Id="rId14" Type="http://schemas.openxmlformats.org/officeDocument/2006/relationships/slide" Target="slide6.xml"/><Relationship Id="rId15" Type="http://schemas.openxmlformats.org/officeDocument/2006/relationships/image" Target="../media/image26.jpeg"/><Relationship Id="rId16" Type="http://schemas.openxmlformats.org/officeDocument/2006/relationships/slide" Target="slide6.xml"/><Relationship Id="rId17" Type="http://schemas.openxmlformats.org/officeDocument/2006/relationships/image" Target="../media/image33.jpeg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7wonders.worldstreasure.com/dictionary.htm" TargetMode="External"/><Relationship Id="rId2" Type="http://schemas.openxmlformats.org/officeDocument/2006/relationships/hyperlink" Target="http://7wonders.worldstreasure.com/dictionary.htm" TargetMode="External"/><Relationship Id="rId3" Type="http://schemas.openxmlformats.org/officeDocument/2006/relationships/hyperlink" Target="http://7wonders.worldstreasure.com/dictionary.htm" TargetMode="External"/><Relationship Id="rId4" Type="http://schemas.openxmlformats.org/officeDocument/2006/relationships/hyperlink" Target="http://7wonders.worldstreasure.com/dictionary.htm" TargetMode="External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4"/>
          <p:cNvSpPr/>
          <p:nvPr/>
        </p:nvSpPr>
        <p:spPr>
          <a:xfrm>
            <a:off x="214200" y="500040"/>
            <a:ext cx="8675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270 – 50=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  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20=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600 : 10=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560 : 20=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50=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0 – 8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0=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490 : 7=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л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      320 + 80=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36"/>
          <p:cNvSpPr txBox="1"/>
          <p:nvPr/>
        </p:nvSpPr>
        <p:spPr>
          <a:xfrm>
            <a:off x="971640" y="476712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14200" y="3902040"/>
          <a:ext cx="8786880" cy="1670040"/>
        </p:xfrm>
        <a:graphic>
          <a:graphicData uri="http://schemas.openxmlformats.org/drawingml/2006/table">
            <a:tbl>
              <a:tblPr/>
              <a:tblGrid>
                <a:gridCol w="1025640"/>
                <a:gridCol w="878040"/>
                <a:gridCol w="811080"/>
                <a:gridCol w="1092240"/>
                <a:gridCol w="979560"/>
                <a:gridCol w="1285920"/>
                <a:gridCol w="1285560"/>
                <a:gridCol w="1428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51" name="Прямоугольник 16" descr=""/>
          <p:cNvPicPr/>
          <p:nvPr/>
        </p:nvPicPr>
        <p:blipFill>
          <a:blip r:embed="rId1"/>
          <a:stretch/>
        </p:blipFill>
        <p:spPr>
          <a:xfrm>
            <a:off x="420840" y="4438800"/>
            <a:ext cx="1103040" cy="9982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8" descr=""/>
          <p:cNvPicPr/>
          <p:nvPr/>
        </p:nvPicPr>
        <p:blipFill>
          <a:blip r:embed="rId2"/>
          <a:stretch/>
        </p:blipFill>
        <p:spPr>
          <a:xfrm>
            <a:off x="1133640" y="4413240"/>
            <a:ext cx="1109520" cy="9939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21" descr=""/>
          <p:cNvPicPr/>
          <p:nvPr/>
        </p:nvPicPr>
        <p:blipFill>
          <a:blip r:embed="rId3"/>
          <a:stretch/>
        </p:blipFill>
        <p:spPr>
          <a:xfrm>
            <a:off x="1847880" y="4438800"/>
            <a:ext cx="1127160" cy="9982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23" descr=""/>
          <p:cNvPicPr/>
          <p:nvPr/>
        </p:nvPicPr>
        <p:blipFill>
          <a:blip r:embed="rId4"/>
          <a:stretch/>
        </p:blipFill>
        <p:spPr>
          <a:xfrm>
            <a:off x="2846520" y="4438800"/>
            <a:ext cx="1145880" cy="9982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25" descr=""/>
          <p:cNvPicPr/>
          <p:nvPr/>
        </p:nvPicPr>
        <p:blipFill>
          <a:blip r:embed="rId5"/>
          <a:stretch/>
        </p:blipFill>
        <p:spPr>
          <a:xfrm>
            <a:off x="3780000" y="4438800"/>
            <a:ext cx="1103040" cy="99828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26" descr=""/>
          <p:cNvPicPr/>
          <p:nvPr/>
        </p:nvPicPr>
        <p:blipFill>
          <a:blip r:embed="rId6"/>
          <a:stretch/>
        </p:blipFill>
        <p:spPr>
          <a:xfrm>
            <a:off x="4919760" y="4413240"/>
            <a:ext cx="1146240" cy="9939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29" descr=""/>
          <p:cNvPicPr/>
          <p:nvPr/>
        </p:nvPicPr>
        <p:blipFill>
          <a:blip r:embed="rId7"/>
          <a:stretch/>
        </p:blipFill>
        <p:spPr>
          <a:xfrm>
            <a:off x="6327720" y="4413240"/>
            <a:ext cx="1139760" cy="9939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32" descr=""/>
          <p:cNvPicPr/>
          <p:nvPr/>
        </p:nvPicPr>
        <p:blipFill>
          <a:blip r:embed="rId8"/>
          <a:stretch/>
        </p:blipFill>
        <p:spPr>
          <a:xfrm>
            <a:off x="7680240" y="4340160"/>
            <a:ext cx="1103400" cy="1000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059280" y="3933720"/>
            <a:ext cx="771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3933720"/>
            <a:ext cx="514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68360" y="3933720"/>
            <a:ext cx="514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7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03280" y="3933720"/>
            <a:ext cx="514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6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140360" y="3933720"/>
            <a:ext cx="771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127480" y="3933720"/>
            <a:ext cx="1028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0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351480" y="3933720"/>
            <a:ext cx="1028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5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719840" y="3933720"/>
            <a:ext cx="1028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0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75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5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25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75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5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25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2"/>
          <p:cNvSpPr txBox="1"/>
          <p:nvPr/>
        </p:nvSpPr>
        <p:spPr>
          <a:xfrm>
            <a:off x="1763640" y="1928880"/>
            <a:ext cx="107964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6227640" y="3429000"/>
            <a:ext cx="14162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78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1763640" y="3716280"/>
            <a:ext cx="995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4140360" y="3500280"/>
            <a:ext cx="1079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" name="WordArt 6"/>
          <p:cNvSpPr txBox="1"/>
          <p:nvPr/>
        </p:nvSpPr>
        <p:spPr>
          <a:xfrm>
            <a:off x="6443640" y="4929120"/>
            <a:ext cx="557280" cy="6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WordArt 7"/>
          <p:cNvSpPr txBox="1"/>
          <p:nvPr/>
        </p:nvSpPr>
        <p:spPr>
          <a:xfrm>
            <a:off x="4211640" y="2205000"/>
            <a:ext cx="1289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47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WordArt 8"/>
          <p:cNvSpPr txBox="1"/>
          <p:nvPr/>
        </p:nvSpPr>
        <p:spPr>
          <a:xfrm>
            <a:off x="357120" y="5013360"/>
            <a:ext cx="16225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9000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" name="WordArt 10"/>
          <p:cNvSpPr txBox="1"/>
          <p:nvPr/>
        </p:nvSpPr>
        <p:spPr>
          <a:xfrm>
            <a:off x="6300720" y="2157480"/>
            <a:ext cx="151128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" name="WordArt 13"/>
          <p:cNvSpPr txBox="1"/>
          <p:nvPr/>
        </p:nvSpPr>
        <p:spPr>
          <a:xfrm>
            <a:off x="4143240" y="5141880"/>
            <a:ext cx="571680" cy="7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6" descr="j0398129"/>
          <p:cNvPicPr/>
          <p:nvPr/>
        </p:nvPicPr>
        <p:blipFill>
          <a:blip r:embed="rId1"/>
          <a:stretch/>
        </p:blipFill>
        <p:spPr>
          <a:xfrm>
            <a:off x="685800" y="609480"/>
            <a:ext cx="14000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92181E-007 L -0.26302 -0.00671 E">
                                      <p:cBhvr>
                                        <p:cTn id="93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39 -0.03216 L -0.47917 -0.02545 E">
                                      <p:cBhvr>
                                        <p:cTn id="95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4624E-006 L 0.26389 -0.23214 E">
                                      <p:cBhvr>
                                        <p:cTn id="97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03817 L 0.51424 0.1455 E">
                                      <p:cBhvr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7040" y="1523880"/>
            <a:ext cx="88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ва катера плывут в противоположных направлениях со скоростями 25 км/ч и 32 км/ч. Как и с какой скоростью изменяется расстояние между ни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-131760" y="5172120"/>
            <a:ext cx="9275760" cy="1685880"/>
            <a:chOff x="-131760" y="5172120"/>
            <a:chExt cx="9275760" cy="1685880"/>
          </a:xfrm>
        </p:grpSpPr>
        <p:grpSp>
          <p:nvGrpSpPr>
            <p:cNvPr id="80" name=""/>
            <p:cNvGrpSpPr/>
            <p:nvPr/>
          </p:nvGrpSpPr>
          <p:grpSpPr>
            <a:xfrm>
              <a:off x="-77040" y="5172120"/>
              <a:ext cx="9218520" cy="248760"/>
              <a:chOff x="-77040" y="5172120"/>
              <a:chExt cx="9218520" cy="248760"/>
            </a:xfrm>
          </p:grpSpPr>
          <p:sp>
            <p:nvSpPr>
              <p:cNvPr id="81" name=""/>
              <p:cNvSpPr/>
              <p:nvPr/>
            </p:nvSpPr>
            <p:spPr>
              <a:xfrm flipH="1" rot="27600">
                <a:off x="-76320" y="5181480"/>
                <a:ext cx="2324160" cy="17604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27600">
                <a:off x="2225160" y="5199120"/>
                <a:ext cx="2324160" cy="17604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27600">
                <a:off x="4514400" y="5217840"/>
                <a:ext cx="2324160" cy="1764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27600">
                <a:off x="6816240" y="5235480"/>
                <a:ext cx="2324160" cy="17604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-131760" y="5333760"/>
              <a:ext cx="9275760" cy="152424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33ccff"/>
                </a:gs>
                <a:gs pos="100000">
                  <a:srgbClr val="66ffff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808600" y="400680"/>
            <a:ext cx="2712600" cy="2019960"/>
            <a:chOff x="5808600" y="400680"/>
            <a:chExt cx="2712600" cy="2019960"/>
          </a:xfrm>
        </p:grpSpPr>
        <p:sp>
          <p:nvSpPr>
            <p:cNvPr id="87" name=""/>
            <p:cNvSpPr/>
            <p:nvPr/>
          </p:nvSpPr>
          <p:spPr>
            <a:xfrm rot="19272600">
              <a:off x="7324560" y="597240"/>
              <a:ext cx="986760" cy="1017720"/>
            </a:xfrm>
            <a:custGeom>
              <a:avLst/>
              <a:gdLst/>
              <a:ahLst/>
              <a:rect l="l" t="t" r="r" b="b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9272600">
              <a:off x="6552360" y="885600"/>
              <a:ext cx="1155600" cy="985320"/>
            </a:xfrm>
            <a:custGeom>
              <a:avLst/>
              <a:gdLst/>
              <a:ahLst/>
              <a:rect l="l" t="t" r="r" b="b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9272600">
              <a:off x="5943600" y="1374120"/>
              <a:ext cx="1056960" cy="803880"/>
            </a:xfrm>
            <a:custGeom>
              <a:avLst/>
              <a:gdLst/>
              <a:ahLst/>
              <a:rect l="l" t="t" r="r" b="b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139760" y="-56520"/>
            <a:ext cx="2712600" cy="2019960"/>
            <a:chOff x="1139760" y="-56520"/>
            <a:chExt cx="2712600" cy="2019960"/>
          </a:xfrm>
        </p:grpSpPr>
        <p:sp>
          <p:nvSpPr>
            <p:cNvPr id="91" name=""/>
            <p:cNvSpPr/>
            <p:nvPr/>
          </p:nvSpPr>
          <p:spPr>
            <a:xfrm rot="19272600">
              <a:off x="2655720" y="140040"/>
              <a:ext cx="986760" cy="1017720"/>
            </a:xfrm>
            <a:custGeom>
              <a:avLst/>
              <a:gdLst/>
              <a:ahLst/>
              <a:rect l="l" t="t" r="r" b="b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9272600">
              <a:off x="1883520" y="428400"/>
              <a:ext cx="1155600" cy="985320"/>
            </a:xfrm>
            <a:custGeom>
              <a:avLst/>
              <a:gdLst/>
              <a:ahLst/>
              <a:rect l="l" t="t" r="r" b="b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9272600">
              <a:off x="1274760" y="916920"/>
              <a:ext cx="1056960" cy="803880"/>
            </a:xfrm>
            <a:custGeom>
              <a:avLst/>
              <a:gdLst/>
              <a:ahLst/>
              <a:rect l="l" t="t" r="r" b="b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992320" y="483120"/>
            <a:ext cx="2712600" cy="2019960"/>
            <a:chOff x="2992320" y="483120"/>
            <a:chExt cx="2712600" cy="2019960"/>
          </a:xfrm>
        </p:grpSpPr>
        <p:sp>
          <p:nvSpPr>
            <p:cNvPr id="95" name=""/>
            <p:cNvSpPr/>
            <p:nvPr/>
          </p:nvSpPr>
          <p:spPr>
            <a:xfrm rot="19272600">
              <a:off x="4508280" y="679680"/>
              <a:ext cx="986760" cy="1017720"/>
            </a:xfrm>
            <a:custGeom>
              <a:avLst/>
              <a:gdLst/>
              <a:ahLst/>
              <a:rect l="l" t="t" r="r" b="b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9272600">
              <a:off x="3736080" y="968040"/>
              <a:ext cx="1155600" cy="985320"/>
            </a:xfrm>
            <a:custGeom>
              <a:avLst/>
              <a:gdLst/>
              <a:ahLst/>
              <a:rect l="l" t="t" r="r" b="b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9272600">
              <a:off x="3127320" y="1456560"/>
              <a:ext cx="1056960" cy="803880"/>
            </a:xfrm>
            <a:custGeom>
              <a:avLst/>
              <a:gdLst/>
              <a:ahLst/>
              <a:rect l="l" t="t" r="r" b="b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845400" y="237960"/>
            <a:ext cx="2154240" cy="676440"/>
          </a:xfrm>
          <a:prstGeom prst="cloudCallout">
            <a:avLst>
              <a:gd name="adj1" fmla="val -14703"/>
              <a:gd name="adj2" fmla="val 43425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2480" y="32464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4292640"/>
            <a:ext cx="6551640" cy="1081080"/>
          </a:xfrm>
          <a:custGeom>
            <a:avLst/>
            <a:gdLst/>
            <a:ahLst/>
            <a:rect l="l" t="t" r="r" b="b"/>
            <a:pathLst>
              <a:path w="928" h="728">
                <a:moveTo>
                  <a:pt x="0" y="32"/>
                </a:moveTo>
                <a:lnTo>
                  <a:pt x="3" y="728"/>
                </a:lnTo>
                <a:lnTo>
                  <a:pt x="912" y="728"/>
                </a:lnTo>
                <a:lnTo>
                  <a:pt x="928" y="0"/>
                </a:ln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458200" y="6248520"/>
            <a:ext cx="469800" cy="46836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66" h="21600">
                <a:moveTo>
                  <a:pt x="0" y="0"/>
                </a:moveTo>
                <a:lnTo>
                  <a:pt x="21666" y="0"/>
                </a:lnTo>
                <a:lnTo>
                  <a:pt x="21666" y="21600"/>
                </a:lnTo>
                <a:lnTo>
                  <a:pt x="0" y="21600"/>
                </a:lnTo>
                <a:close/>
              </a:path>
              <a:path fill="lightenLess" w="21666" h="21600">
                <a:moveTo>
                  <a:pt x="0" y="0"/>
                </a:moveTo>
                <a:lnTo>
                  <a:pt x="21666" y="0"/>
                </a:lnTo>
                <a:lnTo>
                  <a:pt x="20266" y="1400"/>
                </a:lnTo>
                <a:lnTo>
                  <a:pt x="1400" y="1400"/>
                </a:lnTo>
                <a:close/>
              </a:path>
              <a:path fill="darken" w="21666" h="21600">
                <a:moveTo>
                  <a:pt x="21666" y="0"/>
                </a:moveTo>
                <a:lnTo>
                  <a:pt x="21666" y="21600"/>
                </a:lnTo>
                <a:lnTo>
                  <a:pt x="20266" y="20200"/>
                </a:lnTo>
                <a:lnTo>
                  <a:pt x="20266" y="1400"/>
                </a:lnTo>
                <a:close/>
              </a:path>
              <a:path fill="darkenLess" w="21666" h="21600">
                <a:moveTo>
                  <a:pt x="21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6" y="20200"/>
                </a:lnTo>
                <a:close/>
              </a:path>
              <a:path fill="lighten" w="21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6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2971800"/>
            <a:ext cx="1746000" cy="380880"/>
          </a:xfrm>
          <a:custGeom>
            <a:avLst/>
            <a:gdLst>
              <a:gd name="textAreaLeft" fmla="*/ 24480 w 1746000"/>
              <a:gd name="textAreaRight" fmla="*/ 1721520 w 174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8944" h="21600">
                <a:moveTo>
                  <a:pt x="0" y="0"/>
                </a:moveTo>
                <a:lnTo>
                  <a:pt x="98944" y="0"/>
                </a:lnTo>
                <a:lnTo>
                  <a:pt x="98944" y="21600"/>
                </a:lnTo>
                <a:lnTo>
                  <a:pt x="0" y="21600"/>
                </a:lnTo>
                <a:close/>
              </a:path>
              <a:path fill="lightenLess" w="98944" h="21600">
                <a:moveTo>
                  <a:pt x="0" y="0"/>
                </a:moveTo>
                <a:lnTo>
                  <a:pt x="98944" y="0"/>
                </a:lnTo>
                <a:lnTo>
                  <a:pt x="97544" y="1400"/>
                </a:lnTo>
                <a:lnTo>
                  <a:pt x="1400" y="1400"/>
                </a:lnTo>
                <a:close/>
              </a:path>
              <a:path fill="darken" w="98944" h="21600">
                <a:moveTo>
                  <a:pt x="98944" y="0"/>
                </a:moveTo>
                <a:lnTo>
                  <a:pt x="98944" y="21600"/>
                </a:lnTo>
                <a:lnTo>
                  <a:pt x="97544" y="20200"/>
                </a:lnTo>
                <a:lnTo>
                  <a:pt x="97544" y="1400"/>
                </a:lnTo>
                <a:close/>
              </a:path>
              <a:path fill="darkenLess" w="98944" h="21600">
                <a:moveTo>
                  <a:pt x="9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544" y="20200"/>
                </a:lnTo>
                <a:close/>
              </a:path>
              <a:path fill="lighten" w="9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о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188160" y="3581280"/>
            <a:ext cx="1599480" cy="687600"/>
            <a:chOff x="3188160" y="3581280"/>
            <a:chExt cx="1599480" cy="687600"/>
          </a:xfrm>
        </p:grpSpPr>
        <p:sp>
          <p:nvSpPr>
            <p:cNvPr id="104" name=""/>
            <p:cNvSpPr/>
            <p:nvPr/>
          </p:nvSpPr>
          <p:spPr>
            <a:xfrm>
              <a:off x="3568680" y="4267080"/>
              <a:ext cx="992160" cy="1800"/>
            </a:xfrm>
            <a:custGeom>
              <a:avLst/>
              <a:gdLst/>
              <a:ahLst/>
              <a:rect l="l" t="t" r="r" b="b"/>
              <a:pathLst>
                <a:path w="625" h="1">
                  <a:moveTo>
                    <a:pt x="625" y="0"/>
                  </a:moveTo>
                  <a:lnTo>
                    <a:pt x="0" y="0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88160" y="3581280"/>
              <a:ext cx="159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25 км/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608720" y="3581280"/>
            <a:ext cx="1763640" cy="685800"/>
            <a:chOff x="4608720" y="3581280"/>
            <a:chExt cx="1763640" cy="685800"/>
          </a:xfrm>
        </p:grpSpPr>
        <p:sp>
          <p:nvSpPr>
            <p:cNvPr id="107" name=""/>
            <p:cNvSpPr/>
            <p:nvPr/>
          </p:nvSpPr>
          <p:spPr>
            <a:xfrm>
              <a:off x="4761000" y="426708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08720" y="3581280"/>
              <a:ext cx="159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32</a:t>
              </a:r>
              <a:r>
                <a:rPr b="1" lang="ru-RU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 км/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547640" y="4653000"/>
            <a:ext cx="534960" cy="754200"/>
            <a:chOff x="1547640" y="4653000"/>
            <a:chExt cx="534960" cy="754200"/>
          </a:xfrm>
        </p:grpSpPr>
        <p:sp>
          <p:nvSpPr>
            <p:cNvPr id="110" name=""/>
            <p:cNvSpPr/>
            <p:nvPr/>
          </p:nvSpPr>
          <p:spPr>
            <a:xfrm>
              <a:off x="1701720" y="4653000"/>
              <a:ext cx="380880" cy="487440"/>
            </a:xfrm>
            <a:custGeom>
              <a:avLst/>
              <a:gdLst/>
              <a:ahLst/>
              <a:rect l="l" t="t" r="r" b="b"/>
              <a:pathLst>
                <a:path w="240" h="307">
                  <a:moveTo>
                    <a:pt x="9" y="195"/>
                  </a:moveTo>
                  <a:lnTo>
                    <a:pt x="240" y="186"/>
                  </a:lnTo>
                  <a:lnTo>
                    <a:pt x="0" y="0"/>
                  </a:lnTo>
                  <a:lnTo>
                    <a:pt x="31" y="307"/>
                  </a:lnTo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47640" y="5102280"/>
              <a:ext cx="457200" cy="304920"/>
            </a:xfrm>
            <a:custGeom>
              <a:avLst/>
              <a:gdLst/>
              <a:ahLst/>
              <a:rect l="l" t="t" r="r" b="b"/>
              <a:pathLst>
                <a:path w="432" h="344">
                  <a:moveTo>
                    <a:pt x="48" y="240"/>
                  </a:moveTo>
                  <a:lnTo>
                    <a:pt x="192" y="0"/>
                  </a:lnTo>
                  <a:lnTo>
                    <a:pt x="432" y="288"/>
                  </a:lnTo>
                  <a:lnTo>
                    <a:pt x="352" y="344"/>
                  </a:lnTo>
                  <a:lnTo>
                    <a:pt x="256" y="344"/>
                  </a:lnTo>
                  <a:lnTo>
                    <a:pt x="160" y="344"/>
                  </a:lnTo>
                  <a:lnTo>
                    <a:pt x="64" y="328"/>
                  </a:lnTo>
                  <a:lnTo>
                    <a:pt x="0" y="288"/>
                  </a:lnTo>
                  <a:lnTo>
                    <a:pt x="192" y="0"/>
                  </a:lnTo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ff0000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8028000" y="4724280"/>
            <a:ext cx="534960" cy="754200"/>
            <a:chOff x="8028000" y="4724280"/>
            <a:chExt cx="534960" cy="754200"/>
          </a:xfrm>
        </p:grpSpPr>
        <p:sp>
          <p:nvSpPr>
            <p:cNvPr id="113" name=""/>
            <p:cNvSpPr/>
            <p:nvPr/>
          </p:nvSpPr>
          <p:spPr>
            <a:xfrm>
              <a:off x="8182080" y="4724280"/>
              <a:ext cx="380880" cy="487440"/>
            </a:xfrm>
            <a:custGeom>
              <a:avLst/>
              <a:gdLst/>
              <a:ahLst/>
              <a:rect l="l" t="t" r="r" b="b"/>
              <a:pathLst>
                <a:path w="240" h="307">
                  <a:moveTo>
                    <a:pt x="9" y="195"/>
                  </a:moveTo>
                  <a:lnTo>
                    <a:pt x="240" y="186"/>
                  </a:lnTo>
                  <a:lnTo>
                    <a:pt x="0" y="0"/>
                  </a:lnTo>
                  <a:lnTo>
                    <a:pt x="31" y="307"/>
                  </a:lnTo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28000" y="5173560"/>
              <a:ext cx="457200" cy="304920"/>
            </a:xfrm>
            <a:custGeom>
              <a:avLst/>
              <a:gdLst/>
              <a:ahLst/>
              <a:rect l="l" t="t" r="r" b="b"/>
              <a:pathLst>
                <a:path w="432" h="344">
                  <a:moveTo>
                    <a:pt x="48" y="240"/>
                  </a:moveTo>
                  <a:lnTo>
                    <a:pt x="192" y="0"/>
                  </a:lnTo>
                  <a:lnTo>
                    <a:pt x="432" y="288"/>
                  </a:lnTo>
                  <a:lnTo>
                    <a:pt x="352" y="344"/>
                  </a:lnTo>
                  <a:lnTo>
                    <a:pt x="256" y="344"/>
                  </a:lnTo>
                  <a:lnTo>
                    <a:pt x="160" y="344"/>
                  </a:lnTo>
                  <a:lnTo>
                    <a:pt x="64" y="328"/>
                  </a:lnTo>
                  <a:lnTo>
                    <a:pt x="0" y="288"/>
                  </a:lnTo>
                  <a:lnTo>
                    <a:pt x="192" y="0"/>
                  </a:lnTo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ff0000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043080" y="3789360"/>
            <a:ext cx="2046600" cy="2052360"/>
            <a:chOff x="3043080" y="3789360"/>
            <a:chExt cx="2046600" cy="205236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 rot="48000">
              <a:off x="3056040" y="3941280"/>
              <a:ext cx="2020680" cy="18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417480" y="3789360"/>
              <a:ext cx="48204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230000" y="3789360"/>
            <a:ext cx="2083680" cy="2052360"/>
            <a:chOff x="4230000" y="3789360"/>
            <a:chExt cx="2083680" cy="205236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 flipH="1" rot="21552000">
              <a:off x="4242960" y="3941280"/>
              <a:ext cx="2057400" cy="18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 flipH="1">
              <a:off x="5441040" y="3789360"/>
              <a:ext cx="4906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643280" y="4149720"/>
            <a:ext cx="0" cy="1079640"/>
          </a:xfrm>
          <a:prstGeom prst="line">
            <a:avLst/>
          </a:prstGeom>
          <a:ln w="2160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4608360" y="2528640"/>
            <a:ext cx="576360" cy="6408720"/>
          </a:xfrm>
          <a:custGeom>
            <a:avLst/>
            <a:gdLst>
              <a:gd name="textAreaLeft" fmla="*/ 0 w 576360"/>
              <a:gd name="textAreaRight" fmla="*/ 208080 w 576360"/>
              <a:gd name="textAreaTop" fmla="*/ 167040 h 6408720"/>
              <a:gd name="textAreaBottom" fmla="*/ 6241680 h 64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381400" y="404640"/>
            <a:ext cx="4381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корость удаления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Vуд.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90760" y="2708280"/>
            <a:ext cx="2438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V    =V  + V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78400" y="3052800"/>
            <a:ext cx="2728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уд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3280" y="3068640"/>
            <a:ext cx="12888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1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651640" y="3068640"/>
            <a:ext cx="128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2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0116 L -0.16979 0.00231 E">
                                      <p:cBhvr>
                                        <p:cTn id="123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979 0.00232 L -0.325 -0.00324 E">
                                      <p:cBhvr>
                                        <p:cTn id="126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5 -0.00324 L -0.4842 -0.00509 E">
                                      <p:cBhvr>
                                        <p:cTn id="129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00509 L -0.63038 -0.0088 E">
                                      <p:cBhvr>
                                        <p:cTn id="132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038 -0.0088 L -0.74879 -0.0088 E">
                                      <p:cBhvr>
                                        <p:cTn id="135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9" dur="2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0" dur="2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-8.88889E-006 L 0.35 -8.88889E-006 E">
                                      <p:cBhvr>
                                        <p:cTn id="167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2.22222E-006 L -0.28334 -2.22222E-006 E">
                                      <p:cBhvr>
                                        <p:cTn id="169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2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3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 (688x493, 13Kb)"/>
          <p:cNvPicPr/>
          <p:nvPr/>
        </p:nvPicPr>
        <p:blipFill>
          <a:blip r:embed="rId1"/>
          <a:stretch/>
        </p:blipFill>
        <p:spPr>
          <a:xfrm>
            <a:off x="2268360" y="1700280"/>
            <a:ext cx="4392720" cy="3146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 (463x503, 9Kb)"/>
          <p:cNvPicPr/>
          <p:nvPr/>
        </p:nvPicPr>
        <p:blipFill>
          <a:blip r:embed="rId2"/>
          <a:stretch/>
        </p:blipFill>
        <p:spPr>
          <a:xfrm>
            <a:off x="755640" y="404640"/>
            <a:ext cx="1874880" cy="2036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 (400x462, 8Kb)"/>
          <p:cNvPicPr/>
          <p:nvPr/>
        </p:nvPicPr>
        <p:blipFill>
          <a:blip r:embed="rId3"/>
          <a:stretch/>
        </p:blipFill>
        <p:spPr>
          <a:xfrm>
            <a:off x="5867280" y="4653000"/>
            <a:ext cx="1751040" cy="2022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 (403x563, 8Kb)"/>
          <p:cNvPicPr/>
          <p:nvPr/>
        </p:nvPicPr>
        <p:blipFill>
          <a:blip r:embed="rId4"/>
          <a:stretch/>
        </p:blipFill>
        <p:spPr>
          <a:xfrm>
            <a:off x="569880" y="3357720"/>
            <a:ext cx="2330640" cy="3255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 (402x566, 9Kb)"/>
          <p:cNvPicPr/>
          <p:nvPr/>
        </p:nvPicPr>
        <p:blipFill>
          <a:blip r:embed="rId5"/>
          <a:stretch/>
        </p:blipFill>
        <p:spPr>
          <a:xfrm>
            <a:off x="6969240" y="620640"/>
            <a:ext cx="1379520" cy="165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 (592x391, 14Kb)"/>
          <p:cNvPicPr/>
          <p:nvPr/>
        </p:nvPicPr>
        <p:blipFill>
          <a:blip r:embed="rId6"/>
          <a:stretch/>
        </p:blipFill>
        <p:spPr>
          <a:xfrm>
            <a:off x="9685440" y="6669000"/>
            <a:ext cx="3743280" cy="2254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 (592x391, 14Kb)"/>
          <p:cNvPicPr/>
          <p:nvPr/>
        </p:nvPicPr>
        <p:blipFill>
          <a:blip r:embed="rId7"/>
          <a:stretch/>
        </p:blipFill>
        <p:spPr>
          <a:xfrm>
            <a:off x="-3565440" y="5157720"/>
            <a:ext cx="3384360" cy="2254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 (354x572, 10Kb)"/>
          <p:cNvPicPr/>
          <p:nvPr/>
        </p:nvPicPr>
        <p:blipFill>
          <a:blip r:embed="rId8"/>
          <a:stretch/>
        </p:blipFill>
        <p:spPr>
          <a:xfrm>
            <a:off x="3276720" y="1341360"/>
            <a:ext cx="3052800" cy="3878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 (366x515, 7Kb)"/>
          <p:cNvPicPr/>
          <p:nvPr/>
        </p:nvPicPr>
        <p:blipFill>
          <a:blip r:embed="rId9"/>
          <a:stretch/>
        </p:blipFill>
        <p:spPr>
          <a:xfrm>
            <a:off x="1979640" y="2852640"/>
            <a:ext cx="1687320" cy="2376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 (403x563, 8Kb)"/>
          <p:cNvPicPr/>
          <p:nvPr/>
        </p:nvPicPr>
        <p:blipFill>
          <a:blip r:embed="rId10"/>
          <a:stretch/>
        </p:blipFill>
        <p:spPr>
          <a:xfrm>
            <a:off x="5364000" y="549360"/>
            <a:ext cx="2703600" cy="3816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2771640" y="2133720"/>
            <a:ext cx="1333800" cy="1895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rId13" action="ppaction://hlinksldjump"/>
          </p:cNvPr>
          <p:cNvSpPr/>
          <p:nvPr/>
        </p:nvSpPr>
        <p:spPr>
          <a:xfrm>
            <a:off x="8244000" y="630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40741E-007 L 0.97344 -0.00093 E">
                                      <p:cBhvr>
                                        <p:cTn id="2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" nodeType="after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0.16667 0.20069 C 0.20156 0.24606 0.25399 0.27153 0.30833 0.27153 C 0.37049 0.27153 0.42031 0.24606 0.45521 0.20069 L 0.62205 2.59259E-006 E">
                                      <p:cBhvr>
                                        <p:cTn id="245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4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38 0.01713 L -0.60642 0.01713 L -0.60642 0.67338 L -0.03038 0.67338 L -0.03038 0.01713 Z">
                                      <p:cBhvr>
                                        <p:cTn id="255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0"/>
                            </p:stCondLst>
                            <p:childTnLst>
                              <p:par>
                                <p:cTn id="26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0"/>
                            </p:stCondLst>
                            <p:childTnLst>
                              <p:par>
                                <p:cTn id="2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2000"/>
                            </p:stCondLst>
                            <p:childTnLst>
                              <p:par>
                                <p:cTn id="2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9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400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4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75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85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95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5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15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2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35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1481E-006 L -0.1625 0.11019 E">
                                      <p:cBhvr>
                                        <p:cTn id="334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108000" y="4648320"/>
            <a:ext cx="8915400" cy="1371600"/>
            <a:chOff x="108000" y="4648320"/>
            <a:chExt cx="8915400" cy="1371600"/>
          </a:xfrm>
        </p:grpSpPr>
        <p:sp>
          <p:nvSpPr>
            <p:cNvPr id="142" name=""/>
            <p:cNvSpPr/>
            <p:nvPr/>
          </p:nvSpPr>
          <p:spPr>
            <a:xfrm flipV="1">
              <a:off x="108000" y="4648320"/>
              <a:ext cx="8915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2546280" y="4800600"/>
              <a:ext cx="3962160" cy="837720"/>
              <a:chOff x="2546280" y="4800600"/>
              <a:chExt cx="3962160" cy="83772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6161040" y="4800600"/>
                <a:ext cx="347400" cy="380520"/>
                <a:chOff x="6161040" y="4800600"/>
                <a:chExt cx="347400" cy="38052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6161040" y="5054400"/>
                  <a:ext cx="292680" cy="126720"/>
                  <a:chOff x="6161040" y="5054400"/>
                  <a:chExt cx="292680" cy="12672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6161040" y="5079600"/>
                    <a:ext cx="292680" cy="101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201000" y="5067000"/>
                    <a:ext cx="226080" cy="76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6227640" y="5054400"/>
                    <a:ext cx="159480" cy="38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9" name=""/>
                <p:cNvSpPr/>
                <p:nvPr/>
              </p:nvSpPr>
              <p:spPr>
                <a:xfrm>
                  <a:off x="6307200" y="4800600"/>
                  <a:ext cx="201240" cy="280080"/>
                </a:xfrm>
                <a:custGeom>
                  <a:avLst/>
                  <a:gdLst/>
                  <a:ahLst/>
                  <a:rect l="l" t="t" r="r" b="b"/>
                  <a:pathLst>
                    <a:path w="454" h="544">
                      <a:moveTo>
                        <a:pt x="0" y="318"/>
                      </a:moveTo>
                      <a:lnTo>
                        <a:pt x="454" y="318"/>
                      </a:lnTo>
                      <a:lnTo>
                        <a:pt x="0" y="0"/>
                      </a:lnTo>
                      <a:lnTo>
                        <a:pt x="0" y="544"/>
                      </a:lnTo>
                    </a:path>
                  </a:pathLst>
                </a:custGeom>
                <a:solidFill>
                  <a:srgbClr val="ffff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546280" y="5257800"/>
                <a:ext cx="304560" cy="380520"/>
                <a:chOff x="2546280" y="5257800"/>
                <a:chExt cx="304560" cy="38052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2546280" y="5511600"/>
                  <a:ext cx="256680" cy="126720"/>
                  <a:chOff x="2546280" y="5511600"/>
                  <a:chExt cx="256680" cy="12672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>
                    <a:off x="2546280" y="5536800"/>
                    <a:ext cx="256680" cy="101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2581200" y="5524200"/>
                    <a:ext cx="198360" cy="76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604600" y="5511600"/>
                    <a:ext cx="140040" cy="38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5" name=""/>
                <p:cNvSpPr/>
                <p:nvPr/>
              </p:nvSpPr>
              <p:spPr>
                <a:xfrm>
                  <a:off x="2674440" y="5257800"/>
                  <a:ext cx="176400" cy="280080"/>
                </a:xfrm>
                <a:custGeom>
                  <a:avLst/>
                  <a:gdLst/>
                  <a:ahLst/>
                  <a:rect l="l" t="t" r="r" b="b"/>
                  <a:pathLst>
                    <a:path w="454" h="544">
                      <a:moveTo>
                        <a:pt x="0" y="318"/>
                      </a:moveTo>
                      <a:lnTo>
                        <a:pt x="454" y="318"/>
                      </a:lnTo>
                      <a:lnTo>
                        <a:pt x="0" y="0"/>
                      </a:lnTo>
                      <a:lnTo>
                        <a:pt x="0" y="544"/>
                      </a:lnTo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6" name=""/>
          <p:cNvGrpSpPr/>
          <p:nvPr/>
        </p:nvGrpSpPr>
        <p:grpSpPr>
          <a:xfrm>
            <a:off x="112680" y="5524920"/>
            <a:ext cx="9030960" cy="1333080"/>
            <a:chOff x="112680" y="5524920"/>
            <a:chExt cx="9030960" cy="1333080"/>
          </a:xfrm>
        </p:grpSpPr>
        <p:grpSp>
          <p:nvGrpSpPr>
            <p:cNvPr id="157" name=""/>
            <p:cNvGrpSpPr/>
            <p:nvPr/>
          </p:nvGrpSpPr>
          <p:grpSpPr>
            <a:xfrm>
              <a:off x="112680" y="6609960"/>
              <a:ext cx="367920" cy="120600"/>
              <a:chOff x="112680" y="6609960"/>
              <a:chExt cx="367920" cy="120600"/>
            </a:xfrm>
          </p:grpSpPr>
          <p:sp>
            <p:nvSpPr>
              <p:cNvPr id="158" name=""/>
              <p:cNvSpPr/>
              <p:nvPr/>
            </p:nvSpPr>
            <p:spPr>
              <a:xfrm flipH="1" flipV="1">
                <a:off x="306360" y="6609600"/>
                <a:ext cx="173880" cy="1206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112320" y="6627600"/>
                <a:ext cx="179640" cy="1022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112680" y="6508440"/>
              <a:ext cx="367920" cy="120600"/>
              <a:chOff x="112680" y="6508440"/>
              <a:chExt cx="367920" cy="120600"/>
            </a:xfrm>
          </p:grpSpPr>
          <p:sp>
            <p:nvSpPr>
              <p:cNvPr id="161" name=""/>
              <p:cNvSpPr/>
              <p:nvPr/>
            </p:nvSpPr>
            <p:spPr>
              <a:xfrm flipH="1" flipV="1">
                <a:off x="306360" y="6508080"/>
                <a:ext cx="173880" cy="1206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12320" y="6526080"/>
                <a:ext cx="179640" cy="1022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88640" y="6445080"/>
              <a:ext cx="367920" cy="120960"/>
              <a:chOff x="188640" y="6445080"/>
              <a:chExt cx="367920" cy="120960"/>
            </a:xfrm>
          </p:grpSpPr>
          <p:sp>
            <p:nvSpPr>
              <p:cNvPr id="164" name=""/>
              <p:cNvSpPr/>
              <p:nvPr/>
            </p:nvSpPr>
            <p:spPr>
              <a:xfrm flipH="1" flipV="1">
                <a:off x="382320" y="6445080"/>
                <a:ext cx="173880" cy="12096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88280" y="6462360"/>
                <a:ext cx="179640" cy="1026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52360" y="6419520"/>
              <a:ext cx="367920" cy="120600"/>
              <a:chOff x="252360" y="6419520"/>
              <a:chExt cx="367920" cy="120600"/>
            </a:xfrm>
          </p:grpSpPr>
          <p:sp>
            <p:nvSpPr>
              <p:cNvPr id="167" name=""/>
              <p:cNvSpPr/>
              <p:nvPr/>
            </p:nvSpPr>
            <p:spPr>
              <a:xfrm flipH="1" flipV="1">
                <a:off x="446040" y="6419160"/>
                <a:ext cx="173880" cy="1206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flipV="1">
                <a:off x="252000" y="6437160"/>
                <a:ext cx="179640" cy="1022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836880" y="6083640"/>
              <a:ext cx="1740600" cy="447840"/>
              <a:chOff x="3836880" y="6083640"/>
              <a:chExt cx="1740600" cy="44784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3836880" y="6083640"/>
                <a:ext cx="978480" cy="447840"/>
                <a:chOff x="3836880" y="6083640"/>
                <a:chExt cx="978480" cy="44784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3836880" y="6138000"/>
                  <a:ext cx="492120" cy="393480"/>
                  <a:chOff x="3836880" y="6138000"/>
                  <a:chExt cx="492120" cy="393480"/>
                </a:xfrm>
              </p:grpSpPr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4134600" y="6138000"/>
                    <a:ext cx="194400" cy="277200"/>
                    <a:chOff x="4134600" y="6138000"/>
                    <a:chExt cx="194400" cy="27720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 flipH="1" rot="21099600">
                      <a:off x="4151160" y="6148080"/>
                      <a:ext cx="16128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 flipH="1" rot="21099600">
                      <a:off x="4159800" y="615528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4018680" y="6181200"/>
                    <a:ext cx="220680" cy="288720"/>
                    <a:chOff x="4018680" y="6181200"/>
                    <a:chExt cx="220680" cy="288720"/>
                  </a:xfrm>
                </p:grpSpPr>
                <p:sp>
                  <p:nvSpPr>
                    <p:cNvPr id="176" name=""/>
                    <p:cNvSpPr/>
                    <p:nvPr/>
                  </p:nvSpPr>
                  <p:spPr>
                    <a:xfrm flipH="1" rot="20649000">
                      <a:off x="4047840" y="6198480"/>
                      <a:ext cx="16128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 flipH="1" rot="20649000">
                      <a:off x="4058280" y="6207480"/>
                      <a:ext cx="10440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3836880" y="6231960"/>
                    <a:ext cx="268920" cy="299520"/>
                    <a:chOff x="3836880" y="6231960"/>
                    <a:chExt cx="268920" cy="29952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 flipH="1" rot="19542600">
                      <a:off x="3889800" y="6256440"/>
                      <a:ext cx="16200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 flipH="1" rot="19542600">
                      <a:off x="3907080" y="627012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4334040" y="6083640"/>
                  <a:ext cx="481320" cy="341280"/>
                  <a:chOff x="4334040" y="6083640"/>
                  <a:chExt cx="481320" cy="341280"/>
                </a:xfrm>
              </p:grpSpPr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4334040" y="6083640"/>
                    <a:ext cx="165600" cy="259200"/>
                    <a:chOff x="4334040" y="6083640"/>
                    <a:chExt cx="165600" cy="259200"/>
                  </a:xfrm>
                </p:grpSpPr>
                <p:sp>
                  <p:nvSpPr>
                    <p:cNvPr id="183" name=""/>
                    <p:cNvSpPr/>
                    <p:nvPr/>
                  </p:nvSpPr>
                  <p:spPr>
                    <a:xfrm rot="21544800">
                      <a:off x="4335840" y="608472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 rot="21544800">
                      <a:off x="4385520" y="608832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4432320" y="6109560"/>
                    <a:ext cx="187920" cy="272520"/>
                    <a:chOff x="4432320" y="6109560"/>
                    <a:chExt cx="187920" cy="272520"/>
                  </a:xfrm>
                </p:grpSpPr>
                <p:sp>
                  <p:nvSpPr>
                    <p:cNvPr id="186" name=""/>
                    <p:cNvSpPr/>
                    <p:nvPr/>
                  </p:nvSpPr>
                  <p:spPr>
                    <a:xfrm rot="395400">
                      <a:off x="4445280" y="6117840"/>
                      <a:ext cx="161640" cy="23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 rot="395400">
                      <a:off x="4493880" y="6123600"/>
                      <a:ext cx="10476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4567320" y="6126840"/>
                    <a:ext cx="248040" cy="298080"/>
                    <a:chOff x="4567320" y="6126840"/>
                    <a:chExt cx="248040" cy="29808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 rot="1501800">
                      <a:off x="4610520" y="614952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rot="1501800">
                      <a:off x="4653720" y="616104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91" name=""/>
              <p:cNvGrpSpPr/>
              <p:nvPr/>
            </p:nvGrpSpPr>
            <p:grpSpPr>
              <a:xfrm>
                <a:off x="4599000" y="6083640"/>
                <a:ext cx="978480" cy="447840"/>
                <a:chOff x="4599000" y="6083640"/>
                <a:chExt cx="978480" cy="44784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5085360" y="6138000"/>
                  <a:ext cx="492120" cy="393480"/>
                  <a:chOff x="5085360" y="6138000"/>
                  <a:chExt cx="492120" cy="39348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5085360" y="6138000"/>
                    <a:ext cx="194400" cy="276840"/>
                    <a:chOff x="5085360" y="6138000"/>
                    <a:chExt cx="194400" cy="27684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 rot="500400">
                      <a:off x="5101920" y="6148080"/>
                      <a:ext cx="16128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 rot="500400">
                      <a:off x="5149440" y="6155280"/>
                      <a:ext cx="10476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5175360" y="6181200"/>
                    <a:ext cx="220320" cy="288720"/>
                    <a:chOff x="5175360" y="6181200"/>
                    <a:chExt cx="220320" cy="28872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 rot="951000">
                      <a:off x="5204880" y="6198480"/>
                      <a:ext cx="161280" cy="23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 rot="951000">
                      <a:off x="5250960" y="6207480"/>
                      <a:ext cx="10440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5308200" y="6231960"/>
                    <a:ext cx="269280" cy="299520"/>
                    <a:chOff x="5308200" y="6231960"/>
                    <a:chExt cx="269280" cy="29952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 rot="2057400">
                      <a:off x="5361480" y="6256440"/>
                      <a:ext cx="162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 rot="2057400">
                      <a:off x="5401800" y="6270120"/>
                      <a:ext cx="10476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4599000" y="6083640"/>
                  <a:ext cx="481320" cy="341280"/>
                  <a:chOff x="4599000" y="6083640"/>
                  <a:chExt cx="481320" cy="341280"/>
                </a:xfrm>
              </p:grpSpPr>
              <p:grpSp>
                <p:nvGrpSpPr>
                  <p:cNvPr id="203" name=""/>
                  <p:cNvGrpSpPr/>
                  <p:nvPr/>
                </p:nvGrpSpPr>
                <p:grpSpPr>
                  <a:xfrm>
                    <a:off x="4915080" y="6083640"/>
                    <a:ext cx="165240" cy="259200"/>
                    <a:chOff x="4915080" y="6083640"/>
                    <a:chExt cx="165240" cy="259200"/>
                  </a:xfrm>
                </p:grpSpPr>
                <p:sp>
                  <p:nvSpPr>
                    <p:cNvPr id="204" name=""/>
                    <p:cNvSpPr/>
                    <p:nvPr/>
                  </p:nvSpPr>
                  <p:spPr>
                    <a:xfrm flipH="1" rot="55200">
                      <a:off x="4916520" y="608472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 flipH="1" rot="55200">
                      <a:off x="4923000" y="608832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"/>
                  <p:cNvGrpSpPr/>
                  <p:nvPr/>
                </p:nvGrpSpPr>
                <p:grpSpPr>
                  <a:xfrm>
                    <a:off x="4794120" y="6109560"/>
                    <a:ext cx="188280" cy="272520"/>
                    <a:chOff x="4794120" y="6109560"/>
                    <a:chExt cx="188280" cy="272520"/>
                  </a:xfrm>
                </p:grpSpPr>
                <p:sp>
                  <p:nvSpPr>
                    <p:cNvPr id="207" name=""/>
                    <p:cNvSpPr/>
                    <p:nvPr/>
                  </p:nvSpPr>
                  <p:spPr>
                    <a:xfrm flipH="1" rot="21204600">
                      <a:off x="4807080" y="6117840"/>
                      <a:ext cx="161640" cy="23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 flipH="1" rot="21204600">
                      <a:off x="4815000" y="612360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4599000" y="6126840"/>
                    <a:ext cx="248040" cy="298080"/>
                    <a:chOff x="4599000" y="6126840"/>
                    <a:chExt cx="248040" cy="298080"/>
                  </a:xfrm>
                </p:grpSpPr>
                <p:sp>
                  <p:nvSpPr>
                    <p:cNvPr id="210" name=""/>
                    <p:cNvSpPr/>
                    <p:nvPr/>
                  </p:nvSpPr>
                  <p:spPr>
                    <a:xfrm flipH="1" rot="20098200">
                      <a:off x="4641840" y="614952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 flipH="1" rot="20098200">
                      <a:off x="4654800" y="616104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12" name=""/>
            <p:cNvGrpSpPr/>
            <p:nvPr/>
          </p:nvGrpSpPr>
          <p:grpSpPr>
            <a:xfrm>
              <a:off x="217440" y="6337800"/>
              <a:ext cx="1740600" cy="447840"/>
              <a:chOff x="217440" y="6337800"/>
              <a:chExt cx="1740600" cy="44784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217440" y="6337800"/>
                <a:ext cx="978480" cy="447840"/>
                <a:chOff x="217440" y="6337800"/>
                <a:chExt cx="978480" cy="44784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217440" y="6392160"/>
                  <a:ext cx="492120" cy="393480"/>
                  <a:chOff x="217440" y="6392160"/>
                  <a:chExt cx="492120" cy="393480"/>
                </a:xfrm>
              </p:grpSpPr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515160" y="6392160"/>
                    <a:ext cx="194400" cy="277200"/>
                    <a:chOff x="515160" y="6392160"/>
                    <a:chExt cx="194400" cy="27720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 flipH="1" rot="21099600">
                      <a:off x="531720" y="6402240"/>
                      <a:ext cx="16128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flipH="1" rot="21099600">
                      <a:off x="540360" y="640944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399240" y="6435360"/>
                    <a:ext cx="220680" cy="288720"/>
                    <a:chOff x="399240" y="6435360"/>
                    <a:chExt cx="220680" cy="2887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 flipH="1" rot="20649000">
                      <a:off x="428400" y="6452640"/>
                      <a:ext cx="16128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 flipH="1" rot="20649000">
                      <a:off x="438840" y="6461640"/>
                      <a:ext cx="10440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217440" y="6486120"/>
                    <a:ext cx="268920" cy="299520"/>
                    <a:chOff x="217440" y="6486120"/>
                    <a:chExt cx="268920" cy="29952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 flipH="1" rot="19542600">
                      <a:off x="270360" y="6510600"/>
                      <a:ext cx="16200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flipH="1" rot="19542600">
                      <a:off x="287640" y="652428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714600" y="6337800"/>
                  <a:ext cx="481320" cy="341280"/>
                  <a:chOff x="714600" y="6337800"/>
                  <a:chExt cx="481320" cy="341280"/>
                </a:xfrm>
              </p:grpSpPr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714600" y="6337800"/>
                    <a:ext cx="165600" cy="259200"/>
                    <a:chOff x="714600" y="6337800"/>
                    <a:chExt cx="165600" cy="25920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rot="21544800">
                      <a:off x="716400" y="633888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rot="21544800">
                      <a:off x="766080" y="634248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812880" y="6363720"/>
                    <a:ext cx="187920" cy="272520"/>
                    <a:chOff x="812880" y="6363720"/>
                    <a:chExt cx="187920" cy="2725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rot="395400">
                      <a:off x="825840" y="6372000"/>
                      <a:ext cx="161640" cy="23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rot="395400">
                      <a:off x="874440" y="6377760"/>
                      <a:ext cx="10476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947880" y="6381000"/>
                    <a:ext cx="248040" cy="298080"/>
                    <a:chOff x="947880" y="6381000"/>
                    <a:chExt cx="248040" cy="29808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rot="1501800">
                      <a:off x="991080" y="640368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rot="1501800">
                      <a:off x="1034280" y="641520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4" name=""/>
              <p:cNvGrpSpPr/>
              <p:nvPr/>
            </p:nvGrpSpPr>
            <p:grpSpPr>
              <a:xfrm>
                <a:off x="979560" y="6337800"/>
                <a:ext cx="978480" cy="447840"/>
                <a:chOff x="979560" y="6337800"/>
                <a:chExt cx="978480" cy="447840"/>
              </a:xfrm>
            </p:grpSpPr>
            <p:grpSp>
              <p:nvGrpSpPr>
                <p:cNvPr id="235" name=""/>
                <p:cNvGrpSpPr/>
                <p:nvPr/>
              </p:nvGrpSpPr>
              <p:grpSpPr>
                <a:xfrm>
                  <a:off x="1465920" y="6392160"/>
                  <a:ext cx="492120" cy="393480"/>
                  <a:chOff x="1465920" y="6392160"/>
                  <a:chExt cx="492120" cy="393480"/>
                </a:xfrm>
              </p:grpSpPr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1465920" y="6392160"/>
                    <a:ext cx="194400" cy="276840"/>
                    <a:chOff x="1465920" y="6392160"/>
                    <a:chExt cx="194400" cy="27684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500400">
                      <a:off x="1482480" y="6402240"/>
                      <a:ext cx="16128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500400">
                      <a:off x="1530000" y="6409440"/>
                      <a:ext cx="10476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1555920" y="6435360"/>
                    <a:ext cx="220320" cy="288720"/>
                    <a:chOff x="1555920" y="6435360"/>
                    <a:chExt cx="220320" cy="28872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951000">
                      <a:off x="1585440" y="6452640"/>
                      <a:ext cx="161280" cy="23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951000">
                      <a:off x="1631520" y="6461640"/>
                      <a:ext cx="10440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1688760" y="6486120"/>
                    <a:ext cx="269280" cy="299520"/>
                    <a:chOff x="1688760" y="6486120"/>
                    <a:chExt cx="269280" cy="29952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057400">
                      <a:off x="1742040" y="6510600"/>
                      <a:ext cx="162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057400">
                      <a:off x="1782360" y="6524280"/>
                      <a:ext cx="10476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979560" y="6337800"/>
                  <a:ext cx="481320" cy="341280"/>
                  <a:chOff x="979560" y="6337800"/>
                  <a:chExt cx="481320" cy="341280"/>
                </a:xfrm>
              </p:grpSpPr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1295640" y="6337800"/>
                    <a:ext cx="165240" cy="259200"/>
                    <a:chOff x="1295640" y="6337800"/>
                    <a:chExt cx="165240" cy="25920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flipH="1" rot="55200">
                      <a:off x="1297080" y="633888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flipH="1" rot="55200">
                      <a:off x="1303560" y="634248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1174680" y="6363720"/>
                    <a:ext cx="188280" cy="272520"/>
                    <a:chOff x="1174680" y="6363720"/>
                    <a:chExt cx="188280" cy="272520"/>
                  </a:xfrm>
                </p:grpSpPr>
                <p:sp>
                  <p:nvSpPr>
                    <p:cNvPr id="250" name=""/>
                    <p:cNvSpPr/>
                    <p:nvPr/>
                  </p:nvSpPr>
                  <p:spPr>
                    <a:xfrm flipH="1" rot="21204600">
                      <a:off x="1187640" y="6372000"/>
                      <a:ext cx="161640" cy="23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 flipH="1" rot="21204600">
                      <a:off x="1195560" y="637776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979560" y="6381000"/>
                    <a:ext cx="248040" cy="298080"/>
                    <a:chOff x="979560" y="6381000"/>
                    <a:chExt cx="248040" cy="298080"/>
                  </a:xfrm>
                </p:grpSpPr>
                <p:sp>
                  <p:nvSpPr>
                    <p:cNvPr id="253" name=""/>
                    <p:cNvSpPr/>
                    <p:nvPr/>
                  </p:nvSpPr>
                  <p:spPr>
                    <a:xfrm flipH="1" rot="20098200">
                      <a:off x="1022400" y="640368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 flipH="1" rot="20098200">
                      <a:off x="1035360" y="641520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55" name=""/>
            <p:cNvGrpSpPr/>
            <p:nvPr/>
          </p:nvGrpSpPr>
          <p:grpSpPr>
            <a:xfrm>
              <a:off x="188640" y="5880240"/>
              <a:ext cx="165240" cy="82440"/>
              <a:chOff x="188640" y="5880240"/>
              <a:chExt cx="165240" cy="82440"/>
            </a:xfrm>
          </p:grpSpPr>
          <p:sp>
            <p:nvSpPr>
              <p:cNvPr id="256" name=""/>
              <p:cNvSpPr/>
              <p:nvPr/>
            </p:nvSpPr>
            <p:spPr>
              <a:xfrm>
                <a:off x="188640" y="5880240"/>
                <a:ext cx="78120" cy="824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73240" y="5880600"/>
                <a:ext cx="80640" cy="702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88640" y="5778360"/>
              <a:ext cx="165240" cy="82800"/>
              <a:chOff x="188640" y="5778360"/>
              <a:chExt cx="165240" cy="82800"/>
            </a:xfrm>
          </p:grpSpPr>
          <p:sp>
            <p:nvSpPr>
              <p:cNvPr id="259" name=""/>
              <p:cNvSpPr/>
              <p:nvPr/>
            </p:nvSpPr>
            <p:spPr>
              <a:xfrm>
                <a:off x="188640" y="5778360"/>
                <a:ext cx="78120" cy="828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73240" y="5778720"/>
                <a:ext cx="80640" cy="702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264960" y="5715000"/>
              <a:ext cx="165240" cy="82440"/>
              <a:chOff x="264960" y="5715000"/>
              <a:chExt cx="165240" cy="82440"/>
            </a:xfrm>
          </p:grpSpPr>
          <p:sp>
            <p:nvSpPr>
              <p:cNvPr id="262" name=""/>
              <p:cNvSpPr/>
              <p:nvPr/>
            </p:nvSpPr>
            <p:spPr>
              <a:xfrm>
                <a:off x="264960" y="5715000"/>
                <a:ext cx="78120" cy="824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49560" y="5715360"/>
                <a:ext cx="80640" cy="702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79360" y="5524920"/>
              <a:ext cx="8864280" cy="1333080"/>
              <a:chOff x="279360" y="5524920"/>
              <a:chExt cx="8864280" cy="133308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3124080" y="5956200"/>
                <a:ext cx="343080" cy="183960"/>
                <a:chOff x="3124080" y="5956200"/>
                <a:chExt cx="343080" cy="1839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124080" y="5956200"/>
                  <a:ext cx="162000" cy="18396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299760" y="5957640"/>
                  <a:ext cx="167400" cy="1562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842080" y="5981400"/>
                <a:ext cx="685800" cy="222480"/>
                <a:chOff x="5842080" y="5981400"/>
                <a:chExt cx="685800" cy="22248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842080" y="5981400"/>
                  <a:ext cx="324000" cy="22248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193080" y="5983200"/>
                  <a:ext cx="334800" cy="1890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1181880" y="6477120"/>
                <a:ext cx="694440" cy="254880"/>
                <a:chOff x="1181880" y="6477120"/>
                <a:chExt cx="694440" cy="254880"/>
              </a:xfrm>
            </p:grpSpPr>
            <p:sp>
              <p:nvSpPr>
                <p:cNvPr id="272" name=""/>
                <p:cNvSpPr/>
                <p:nvPr/>
              </p:nvSpPr>
              <p:spPr>
                <a:xfrm rot="10626600">
                  <a:off x="1546920" y="6485040"/>
                  <a:ext cx="324000" cy="22212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rot="10626600">
                  <a:off x="1186200" y="6534720"/>
                  <a:ext cx="334800" cy="188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4635720" y="5879880"/>
                <a:ext cx="164520" cy="82800"/>
                <a:chOff x="4635720" y="5879880"/>
                <a:chExt cx="164520" cy="828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4635720" y="5879880"/>
                  <a:ext cx="7776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719960" y="588024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7493040" y="5689440"/>
                <a:ext cx="165240" cy="82440"/>
                <a:chOff x="7493040" y="5689440"/>
                <a:chExt cx="165240" cy="824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7493040" y="56894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577640" y="56898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8574120" y="6375240"/>
                <a:ext cx="165240" cy="82440"/>
                <a:chOff x="8574120" y="6375240"/>
                <a:chExt cx="165240" cy="824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8574120" y="63752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658720" y="63756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8345520" y="6426000"/>
                <a:ext cx="165240" cy="82440"/>
                <a:chOff x="8345520" y="6426000"/>
                <a:chExt cx="165240" cy="8244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8345520" y="64260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430120" y="64263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8180280" y="6451560"/>
                <a:ext cx="165240" cy="82440"/>
                <a:chOff x="8180280" y="6451560"/>
                <a:chExt cx="165240" cy="8244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8180280" y="64515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264880" y="64519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8180280" y="6350040"/>
                <a:ext cx="165240" cy="82440"/>
                <a:chOff x="8180280" y="6350040"/>
                <a:chExt cx="165240" cy="8244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8180280" y="63500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8264880" y="63504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8256600" y="6286320"/>
                <a:ext cx="165240" cy="82440"/>
                <a:chOff x="8256600" y="6286320"/>
                <a:chExt cx="165240" cy="8244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8256600" y="62863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341200" y="62866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8320320" y="6261120"/>
                <a:ext cx="164520" cy="82440"/>
                <a:chOff x="8320320" y="6261120"/>
                <a:chExt cx="164520" cy="824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8320320" y="626112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404560" y="626148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8396280" y="6222960"/>
                <a:ext cx="165240" cy="82440"/>
                <a:chOff x="8396280" y="6222960"/>
                <a:chExt cx="165240" cy="8244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8396280" y="62229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480880" y="62233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8599680" y="6146640"/>
                <a:ext cx="164520" cy="82440"/>
                <a:chOff x="8599680" y="6146640"/>
                <a:chExt cx="164520" cy="824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8599680" y="614664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683920" y="614700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7596360" y="6286320"/>
                <a:ext cx="164520" cy="82440"/>
                <a:chOff x="7596360" y="6286320"/>
                <a:chExt cx="164520" cy="8244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7596360" y="628632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680600" y="628668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8917200" y="6146640"/>
                <a:ext cx="164520" cy="82440"/>
                <a:chOff x="8917200" y="6146640"/>
                <a:chExt cx="164520" cy="824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8917200" y="614664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9001440" y="614700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8420040" y="5765760"/>
                <a:ext cx="165240" cy="82440"/>
                <a:chOff x="8420040" y="5765760"/>
                <a:chExt cx="165240" cy="824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8420040" y="57657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8504640" y="57661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8737560" y="5765760"/>
                <a:ext cx="165240" cy="82440"/>
                <a:chOff x="8737560" y="5765760"/>
                <a:chExt cx="165240" cy="8244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8737560" y="57657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822160" y="57661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3824280" y="6116400"/>
                <a:ext cx="189000" cy="84240"/>
                <a:chOff x="3824280" y="6116400"/>
                <a:chExt cx="189000" cy="8424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3824280" y="6116400"/>
                  <a:ext cx="89280" cy="842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921120" y="6116760"/>
                  <a:ext cx="92160" cy="71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859120" y="6141960"/>
                <a:ext cx="165240" cy="82440"/>
                <a:chOff x="2859120" y="6141960"/>
                <a:chExt cx="165240" cy="8244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859120" y="61419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943720" y="61423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693880" y="6167160"/>
                <a:ext cx="165240" cy="82800"/>
                <a:chOff x="2693880" y="6167160"/>
                <a:chExt cx="165240" cy="828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2693880" y="616716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778480" y="61675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2693880" y="6065640"/>
                <a:ext cx="165240" cy="82440"/>
                <a:chOff x="2693880" y="6065640"/>
                <a:chExt cx="165240" cy="8244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2693880" y="60656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778480" y="60660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2770200" y="6002280"/>
                <a:ext cx="165240" cy="82440"/>
                <a:chOff x="2770200" y="6002280"/>
                <a:chExt cx="165240" cy="824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2770200" y="60022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854800" y="60026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2833920" y="5976720"/>
                <a:ext cx="164520" cy="82800"/>
                <a:chOff x="2833920" y="5976720"/>
                <a:chExt cx="164520" cy="8280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2833920" y="5976720"/>
                  <a:ext cx="7776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918160" y="597708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3646440" y="5964120"/>
                <a:ext cx="189000" cy="84240"/>
                <a:chOff x="3646440" y="5964120"/>
                <a:chExt cx="189000" cy="8424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3646440" y="5964120"/>
                  <a:ext cx="89280" cy="842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743280" y="5964480"/>
                  <a:ext cx="92160" cy="71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3849840" y="5887800"/>
                <a:ext cx="188640" cy="84240"/>
                <a:chOff x="3849840" y="5887800"/>
                <a:chExt cx="188640" cy="8424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3849840" y="5887800"/>
                  <a:ext cx="88920" cy="842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946320" y="5888160"/>
                  <a:ext cx="92160" cy="71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2516400" y="6103800"/>
                <a:ext cx="164520" cy="82440"/>
                <a:chOff x="2516400" y="6103800"/>
                <a:chExt cx="164520" cy="824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2516400" y="610380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600640" y="610416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2287800" y="6154560"/>
                <a:ext cx="164520" cy="82440"/>
                <a:chOff x="2287800" y="6154560"/>
                <a:chExt cx="164520" cy="8244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2287800" y="615456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372040" y="615492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2122560" y="6180120"/>
                <a:ext cx="165240" cy="82440"/>
                <a:chOff x="2122560" y="6180120"/>
                <a:chExt cx="165240" cy="824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2122560" y="61801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207160" y="61804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122560" y="6078240"/>
                <a:ext cx="165240" cy="82800"/>
                <a:chOff x="2122560" y="6078240"/>
                <a:chExt cx="165240" cy="828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122560" y="607824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207160" y="60786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2198880" y="6014880"/>
                <a:ext cx="164520" cy="82440"/>
                <a:chOff x="2198880" y="6014880"/>
                <a:chExt cx="164520" cy="8244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2198880" y="601488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283120" y="601524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262240" y="5989680"/>
                <a:ext cx="165240" cy="82440"/>
                <a:chOff x="2262240" y="5989680"/>
                <a:chExt cx="165240" cy="8244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2262240" y="59896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346840" y="59900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338560" y="5951520"/>
                <a:ext cx="164520" cy="82440"/>
                <a:chOff x="2338560" y="5951520"/>
                <a:chExt cx="164520" cy="8244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338560" y="595152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422800" y="595188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541600" y="5875200"/>
                <a:ext cx="165240" cy="82440"/>
                <a:chOff x="2541600" y="5875200"/>
                <a:chExt cx="165240" cy="824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2541600" y="58752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626200" y="58755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1805040" y="6294240"/>
                <a:ext cx="165240" cy="82440"/>
                <a:chOff x="1805040" y="6294240"/>
                <a:chExt cx="165240" cy="8244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1805040" y="62942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889640" y="62946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1576440" y="6345000"/>
                <a:ext cx="165240" cy="82800"/>
                <a:chOff x="1576440" y="6345000"/>
                <a:chExt cx="165240" cy="8280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1576440" y="634500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661040" y="63453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1411200" y="6370560"/>
                <a:ext cx="165240" cy="82440"/>
                <a:chOff x="1411200" y="6370560"/>
                <a:chExt cx="165240" cy="8244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411200" y="63705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495800" y="63709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1411200" y="6269040"/>
                <a:ext cx="165240" cy="82440"/>
                <a:chOff x="1411200" y="6269040"/>
                <a:chExt cx="165240" cy="8244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1411200" y="62690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495800" y="62694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1487520" y="6205320"/>
                <a:ext cx="165240" cy="82800"/>
                <a:chOff x="1487520" y="6205320"/>
                <a:chExt cx="165240" cy="828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1487520" y="620532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572120" y="62056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1550880" y="6180120"/>
                <a:ext cx="165240" cy="82440"/>
                <a:chOff x="1550880" y="6180120"/>
                <a:chExt cx="165240" cy="824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1550880" y="61801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635480" y="61804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1627200" y="6141960"/>
                <a:ext cx="165240" cy="82440"/>
                <a:chOff x="1627200" y="6141960"/>
                <a:chExt cx="165240" cy="8244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1627200" y="61419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711800" y="61423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1830600" y="6065640"/>
                <a:ext cx="164520" cy="82440"/>
                <a:chOff x="1830600" y="6065640"/>
                <a:chExt cx="164520" cy="824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1830600" y="606564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914840" y="606600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762120" y="5981400"/>
                <a:ext cx="164520" cy="82800"/>
                <a:chOff x="762120" y="5981400"/>
                <a:chExt cx="164520" cy="8280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762120" y="5981400"/>
                  <a:ext cx="7776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846360" y="598176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533520" y="6032520"/>
                <a:ext cx="164520" cy="82440"/>
                <a:chOff x="533520" y="6032520"/>
                <a:chExt cx="164520" cy="8244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533520" y="603252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17760" y="603288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368280" y="6057720"/>
                <a:ext cx="165240" cy="82440"/>
                <a:chOff x="368280" y="6057720"/>
                <a:chExt cx="165240" cy="824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368280" y="60577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52880" y="60580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368280" y="5956200"/>
                <a:ext cx="165240" cy="82440"/>
                <a:chOff x="368280" y="5956200"/>
                <a:chExt cx="165240" cy="8244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368280" y="59562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52880" y="59565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44600" y="5892840"/>
                <a:ext cx="164520" cy="82440"/>
                <a:chOff x="444600" y="5892840"/>
                <a:chExt cx="164520" cy="824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44600" y="589284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28840" y="589320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507960" y="5867280"/>
                <a:ext cx="165240" cy="82440"/>
                <a:chOff x="507960" y="5867280"/>
                <a:chExt cx="165240" cy="8244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07960" y="58672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92560" y="58676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584280" y="5829120"/>
                <a:ext cx="165240" cy="82440"/>
                <a:chOff x="584280" y="5829120"/>
                <a:chExt cx="165240" cy="824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584280" y="58291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68880" y="58294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787320" y="5752800"/>
                <a:ext cx="165240" cy="82800"/>
                <a:chOff x="787320" y="5752800"/>
                <a:chExt cx="165240" cy="8280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87320" y="575280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871920" y="57531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507960" y="6686280"/>
                <a:ext cx="367920" cy="120960"/>
                <a:chOff x="507960" y="6686280"/>
                <a:chExt cx="367920" cy="120960"/>
              </a:xfrm>
            </p:grpSpPr>
            <p:sp>
              <p:nvSpPr>
                <p:cNvPr id="413" name=""/>
                <p:cNvSpPr/>
                <p:nvPr/>
              </p:nvSpPr>
              <p:spPr>
                <a:xfrm flipH="1" flipV="1">
                  <a:off x="701640" y="6686280"/>
                  <a:ext cx="173880" cy="12096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 flipV="1">
                  <a:off x="507600" y="6703560"/>
                  <a:ext cx="179640" cy="1026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279360" y="6737040"/>
                <a:ext cx="367920" cy="120960"/>
                <a:chOff x="279360" y="6737040"/>
                <a:chExt cx="367920" cy="120960"/>
              </a:xfrm>
            </p:grpSpPr>
            <p:sp>
              <p:nvSpPr>
                <p:cNvPr id="416" name=""/>
                <p:cNvSpPr/>
                <p:nvPr/>
              </p:nvSpPr>
              <p:spPr>
                <a:xfrm flipH="1" flipV="1">
                  <a:off x="473040" y="6737040"/>
                  <a:ext cx="173880" cy="12096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 flipV="1">
                  <a:off x="279000" y="6754320"/>
                  <a:ext cx="179640" cy="1026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30120" y="6533640"/>
                <a:ext cx="367920" cy="120600"/>
                <a:chOff x="330120" y="6533640"/>
                <a:chExt cx="367920" cy="120600"/>
              </a:xfrm>
            </p:grpSpPr>
            <p:sp>
              <p:nvSpPr>
                <p:cNvPr id="419" name=""/>
                <p:cNvSpPr/>
                <p:nvPr/>
              </p:nvSpPr>
              <p:spPr>
                <a:xfrm flipH="1" flipV="1">
                  <a:off x="523800" y="6533280"/>
                  <a:ext cx="173880" cy="1206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H="1" flipV="1">
                  <a:off x="329760" y="6551280"/>
                  <a:ext cx="179640" cy="1022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533520" y="6457680"/>
                <a:ext cx="367920" cy="120960"/>
                <a:chOff x="533520" y="6457680"/>
                <a:chExt cx="367920" cy="12096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flipV="1">
                  <a:off x="727200" y="6457680"/>
                  <a:ext cx="173880" cy="12096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flipV="1">
                  <a:off x="533160" y="6474960"/>
                  <a:ext cx="179640" cy="1026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1665360" y="6154560"/>
                <a:ext cx="165240" cy="82440"/>
                <a:chOff x="1665360" y="6154560"/>
                <a:chExt cx="165240" cy="8244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665360" y="61545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749960" y="61549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7124760" y="6286320"/>
                <a:ext cx="165240" cy="82440"/>
                <a:chOff x="7124760" y="6286320"/>
                <a:chExt cx="165240" cy="82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124760" y="62863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209360" y="62866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6896160" y="6337080"/>
                <a:ext cx="165240" cy="82800"/>
                <a:chOff x="6896160" y="6337080"/>
                <a:chExt cx="165240" cy="828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896160" y="633708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980760" y="63374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6730920" y="6362640"/>
                <a:ext cx="165240" cy="82440"/>
                <a:chOff x="6730920" y="6362640"/>
                <a:chExt cx="165240" cy="824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6730920" y="63626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815520" y="63630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6730920" y="6261120"/>
                <a:ext cx="165240" cy="82440"/>
                <a:chOff x="6730920" y="6261120"/>
                <a:chExt cx="165240" cy="8244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730920" y="62611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815520" y="62614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6807240" y="6197400"/>
                <a:ext cx="165240" cy="82440"/>
                <a:chOff x="6807240" y="6197400"/>
                <a:chExt cx="165240" cy="8244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6807240" y="61974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891840" y="61977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6870600" y="6172200"/>
                <a:ext cx="165240" cy="82440"/>
                <a:chOff x="6870600" y="6172200"/>
                <a:chExt cx="165240" cy="8244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6870600" y="61722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955200" y="61725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6946920" y="6134040"/>
                <a:ext cx="165240" cy="82440"/>
                <a:chOff x="6946920" y="6134040"/>
                <a:chExt cx="165240" cy="824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6946920" y="61340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031520" y="61344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7150320" y="6057720"/>
                <a:ext cx="164520" cy="82440"/>
                <a:chOff x="7150320" y="6057720"/>
                <a:chExt cx="164520" cy="8244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7150320" y="605772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234560" y="605808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5765760" y="6298920"/>
                <a:ext cx="165240" cy="82800"/>
                <a:chOff x="5765760" y="6298920"/>
                <a:chExt cx="165240" cy="828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5765760" y="629892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850360" y="62992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5537160" y="6350040"/>
                <a:ext cx="165240" cy="82440"/>
                <a:chOff x="5537160" y="6350040"/>
                <a:chExt cx="165240" cy="824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537160" y="63500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621760" y="63504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5372280" y="6375240"/>
                <a:ext cx="164520" cy="82440"/>
                <a:chOff x="5372280" y="6375240"/>
                <a:chExt cx="164520" cy="8244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5372280" y="637524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456520" y="637560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5372280" y="6273720"/>
                <a:ext cx="164520" cy="82440"/>
                <a:chOff x="5372280" y="6273720"/>
                <a:chExt cx="164520" cy="8244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372280" y="627372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456520" y="627408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448240" y="6210000"/>
                <a:ext cx="165240" cy="82800"/>
                <a:chOff x="5448240" y="6210000"/>
                <a:chExt cx="165240" cy="828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448240" y="621000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532840" y="62103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5511960" y="6184800"/>
                <a:ext cx="164520" cy="82440"/>
                <a:chOff x="5511960" y="6184800"/>
                <a:chExt cx="164520" cy="824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511960" y="618480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596200" y="618516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5587920" y="6146640"/>
                <a:ext cx="165240" cy="82440"/>
                <a:chOff x="5587920" y="6146640"/>
                <a:chExt cx="165240" cy="8244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5587920" y="61466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672520" y="61470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5791320" y="6070320"/>
                <a:ext cx="164520" cy="82800"/>
                <a:chOff x="5791320" y="6070320"/>
                <a:chExt cx="164520" cy="8280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5791320" y="6070320"/>
                  <a:ext cx="7776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875560" y="607068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1819440" y="5524920"/>
                <a:ext cx="1740600" cy="447840"/>
                <a:chOff x="1819440" y="5524920"/>
                <a:chExt cx="1740600" cy="447840"/>
              </a:xfrm>
            </p:grpSpPr>
            <p:grpSp>
              <p:nvGrpSpPr>
                <p:cNvPr id="476" name=""/>
                <p:cNvGrpSpPr/>
                <p:nvPr/>
              </p:nvGrpSpPr>
              <p:grpSpPr>
                <a:xfrm>
                  <a:off x="1819440" y="5524920"/>
                  <a:ext cx="978480" cy="447840"/>
                  <a:chOff x="1819440" y="5524920"/>
                  <a:chExt cx="978480" cy="447840"/>
                </a:xfrm>
              </p:grpSpPr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1819440" y="5579280"/>
                    <a:ext cx="492120" cy="393480"/>
                    <a:chOff x="1819440" y="5579280"/>
                    <a:chExt cx="492120" cy="393480"/>
                  </a:xfrm>
                </p:grpSpPr>
                <p:grpSp>
                  <p:nvGrpSpPr>
                    <p:cNvPr id="478" name=""/>
                    <p:cNvGrpSpPr/>
                    <p:nvPr/>
                  </p:nvGrpSpPr>
                  <p:grpSpPr>
                    <a:xfrm>
                      <a:off x="2117160" y="5579280"/>
                      <a:ext cx="194400" cy="277200"/>
                      <a:chOff x="2117160" y="5579280"/>
                      <a:chExt cx="194400" cy="277200"/>
                    </a:xfrm>
                  </p:grpSpPr>
                  <p:sp>
                    <p:nvSpPr>
                      <p:cNvPr id="479" name=""/>
                      <p:cNvSpPr/>
                      <p:nvPr/>
                    </p:nvSpPr>
                    <p:spPr>
                      <a:xfrm flipH="1" rot="21099600">
                        <a:off x="2133720" y="558936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" name=""/>
                      <p:cNvSpPr/>
                      <p:nvPr/>
                    </p:nvSpPr>
                    <p:spPr>
                      <a:xfrm flipH="1" rot="21099600">
                        <a:off x="2142360" y="559656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1" name=""/>
                    <p:cNvGrpSpPr/>
                    <p:nvPr/>
                  </p:nvGrpSpPr>
                  <p:grpSpPr>
                    <a:xfrm>
                      <a:off x="2001240" y="5622480"/>
                      <a:ext cx="220680" cy="288720"/>
                      <a:chOff x="2001240" y="5622480"/>
                      <a:chExt cx="220680" cy="288720"/>
                    </a:xfrm>
                  </p:grpSpPr>
                  <p:sp>
                    <p:nvSpPr>
                      <p:cNvPr id="482" name=""/>
                      <p:cNvSpPr/>
                      <p:nvPr/>
                    </p:nvSpPr>
                    <p:spPr>
                      <a:xfrm flipH="1" rot="20649000">
                        <a:off x="2030400" y="563976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"/>
                      <p:cNvSpPr/>
                      <p:nvPr/>
                    </p:nvSpPr>
                    <p:spPr>
                      <a:xfrm flipH="1" rot="20649000">
                        <a:off x="2040840" y="564876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4" name=""/>
                    <p:cNvGrpSpPr/>
                    <p:nvPr/>
                  </p:nvGrpSpPr>
                  <p:grpSpPr>
                    <a:xfrm>
                      <a:off x="1819440" y="5673240"/>
                      <a:ext cx="268920" cy="299520"/>
                      <a:chOff x="1819440" y="5673240"/>
                      <a:chExt cx="268920" cy="299520"/>
                    </a:xfrm>
                  </p:grpSpPr>
                  <p:sp>
                    <p:nvSpPr>
                      <p:cNvPr id="485" name=""/>
                      <p:cNvSpPr/>
                      <p:nvPr/>
                    </p:nvSpPr>
                    <p:spPr>
                      <a:xfrm flipH="1" rot="19542600">
                        <a:off x="1872360" y="5697720"/>
                        <a:ext cx="16200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"/>
                      <p:cNvSpPr/>
                      <p:nvPr/>
                    </p:nvSpPr>
                    <p:spPr>
                      <a:xfrm flipH="1" rot="19542600">
                        <a:off x="1889640" y="571140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2316600" y="5524920"/>
                    <a:ext cx="481320" cy="341280"/>
                    <a:chOff x="2316600" y="5524920"/>
                    <a:chExt cx="481320" cy="341280"/>
                  </a:xfrm>
                </p:grpSpPr>
                <p:grpSp>
                  <p:nvGrpSpPr>
                    <p:cNvPr id="488" name=""/>
                    <p:cNvGrpSpPr/>
                    <p:nvPr/>
                  </p:nvGrpSpPr>
                  <p:grpSpPr>
                    <a:xfrm>
                      <a:off x="2316600" y="5524920"/>
                      <a:ext cx="165600" cy="259200"/>
                      <a:chOff x="2316600" y="5524920"/>
                      <a:chExt cx="165600" cy="259200"/>
                    </a:xfrm>
                  </p:grpSpPr>
                  <p:sp>
                    <p:nvSpPr>
                      <p:cNvPr id="489" name=""/>
                      <p:cNvSpPr/>
                      <p:nvPr/>
                    </p:nvSpPr>
                    <p:spPr>
                      <a:xfrm rot="21544800">
                        <a:off x="2318400" y="552600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"/>
                      <p:cNvSpPr/>
                      <p:nvPr/>
                    </p:nvSpPr>
                    <p:spPr>
                      <a:xfrm rot="21544800">
                        <a:off x="2368080" y="552960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1" name=""/>
                    <p:cNvGrpSpPr/>
                    <p:nvPr/>
                  </p:nvGrpSpPr>
                  <p:grpSpPr>
                    <a:xfrm>
                      <a:off x="2414880" y="5550840"/>
                      <a:ext cx="187920" cy="272520"/>
                      <a:chOff x="2414880" y="5550840"/>
                      <a:chExt cx="187920" cy="272520"/>
                    </a:xfrm>
                  </p:grpSpPr>
                  <p:sp>
                    <p:nvSpPr>
                      <p:cNvPr id="492" name=""/>
                      <p:cNvSpPr/>
                      <p:nvPr/>
                    </p:nvSpPr>
                    <p:spPr>
                      <a:xfrm rot="395400">
                        <a:off x="2427840" y="5559120"/>
                        <a:ext cx="16164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" name=""/>
                      <p:cNvSpPr/>
                      <p:nvPr/>
                    </p:nvSpPr>
                    <p:spPr>
                      <a:xfrm rot="395400">
                        <a:off x="2476440" y="556488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4" name=""/>
                    <p:cNvGrpSpPr/>
                    <p:nvPr/>
                  </p:nvGrpSpPr>
                  <p:grpSpPr>
                    <a:xfrm>
                      <a:off x="2549880" y="5568120"/>
                      <a:ext cx="248040" cy="298080"/>
                      <a:chOff x="2549880" y="5568120"/>
                      <a:chExt cx="248040" cy="298080"/>
                    </a:xfrm>
                  </p:grpSpPr>
                  <p:sp>
                    <p:nvSpPr>
                      <p:cNvPr id="495" name=""/>
                      <p:cNvSpPr/>
                      <p:nvPr/>
                    </p:nvSpPr>
                    <p:spPr>
                      <a:xfrm rot="1501800">
                        <a:off x="2593080" y="559080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"/>
                      <p:cNvSpPr/>
                      <p:nvPr/>
                    </p:nvSpPr>
                    <p:spPr>
                      <a:xfrm rot="1501800">
                        <a:off x="2636280" y="560232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2581560" y="5524920"/>
                  <a:ext cx="978480" cy="447840"/>
                  <a:chOff x="2581560" y="5524920"/>
                  <a:chExt cx="978480" cy="447840"/>
                </a:xfrm>
              </p:grpSpPr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3067920" y="5579280"/>
                    <a:ext cx="492120" cy="393480"/>
                    <a:chOff x="3067920" y="5579280"/>
                    <a:chExt cx="492120" cy="393480"/>
                  </a:xfrm>
                </p:grpSpPr>
                <p:grpSp>
                  <p:nvGrpSpPr>
                    <p:cNvPr id="499" name=""/>
                    <p:cNvGrpSpPr/>
                    <p:nvPr/>
                  </p:nvGrpSpPr>
                  <p:grpSpPr>
                    <a:xfrm>
                      <a:off x="3067920" y="5579280"/>
                      <a:ext cx="194400" cy="276840"/>
                      <a:chOff x="3067920" y="5579280"/>
                      <a:chExt cx="194400" cy="276840"/>
                    </a:xfrm>
                  </p:grpSpPr>
                  <p:sp>
                    <p:nvSpPr>
                      <p:cNvPr id="500" name=""/>
                      <p:cNvSpPr/>
                      <p:nvPr/>
                    </p:nvSpPr>
                    <p:spPr>
                      <a:xfrm rot="500400">
                        <a:off x="3084480" y="558936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1" name=""/>
                      <p:cNvSpPr/>
                      <p:nvPr/>
                    </p:nvSpPr>
                    <p:spPr>
                      <a:xfrm rot="500400">
                        <a:off x="3132000" y="559656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2" name=""/>
                    <p:cNvGrpSpPr/>
                    <p:nvPr/>
                  </p:nvGrpSpPr>
                  <p:grpSpPr>
                    <a:xfrm>
                      <a:off x="3157920" y="5622480"/>
                      <a:ext cx="220320" cy="288720"/>
                      <a:chOff x="3157920" y="5622480"/>
                      <a:chExt cx="220320" cy="288720"/>
                    </a:xfrm>
                  </p:grpSpPr>
                  <p:sp>
                    <p:nvSpPr>
                      <p:cNvPr id="503" name=""/>
                      <p:cNvSpPr/>
                      <p:nvPr/>
                    </p:nvSpPr>
                    <p:spPr>
                      <a:xfrm rot="951000">
                        <a:off x="3187440" y="5639760"/>
                        <a:ext cx="16128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"/>
                      <p:cNvSpPr/>
                      <p:nvPr/>
                    </p:nvSpPr>
                    <p:spPr>
                      <a:xfrm rot="951000">
                        <a:off x="3233520" y="564876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5" name=""/>
                    <p:cNvGrpSpPr/>
                    <p:nvPr/>
                  </p:nvGrpSpPr>
                  <p:grpSpPr>
                    <a:xfrm>
                      <a:off x="3290760" y="5673240"/>
                      <a:ext cx="269280" cy="299520"/>
                      <a:chOff x="3290760" y="5673240"/>
                      <a:chExt cx="269280" cy="299520"/>
                    </a:xfrm>
                  </p:grpSpPr>
                  <p:sp>
                    <p:nvSpPr>
                      <p:cNvPr id="506" name=""/>
                      <p:cNvSpPr/>
                      <p:nvPr/>
                    </p:nvSpPr>
                    <p:spPr>
                      <a:xfrm rot="2057400">
                        <a:off x="3344040" y="5697720"/>
                        <a:ext cx="162000" cy="24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7" name=""/>
                      <p:cNvSpPr/>
                      <p:nvPr/>
                    </p:nvSpPr>
                    <p:spPr>
                      <a:xfrm rot="2057400">
                        <a:off x="3384360" y="5711400"/>
                        <a:ext cx="104760" cy="253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2581560" y="5524920"/>
                    <a:ext cx="481320" cy="341280"/>
                    <a:chOff x="2581560" y="5524920"/>
                    <a:chExt cx="481320" cy="341280"/>
                  </a:xfrm>
                </p:grpSpPr>
                <p:grpSp>
                  <p:nvGrpSpPr>
                    <p:cNvPr id="509" name=""/>
                    <p:cNvGrpSpPr/>
                    <p:nvPr/>
                  </p:nvGrpSpPr>
                  <p:grpSpPr>
                    <a:xfrm>
                      <a:off x="2897640" y="5524920"/>
                      <a:ext cx="165240" cy="259200"/>
                      <a:chOff x="2897640" y="5524920"/>
                      <a:chExt cx="165240" cy="259200"/>
                    </a:xfrm>
                  </p:grpSpPr>
                  <p:sp>
                    <p:nvSpPr>
                      <p:cNvPr id="510" name=""/>
                      <p:cNvSpPr/>
                      <p:nvPr/>
                    </p:nvSpPr>
                    <p:spPr>
                      <a:xfrm flipH="1" rot="55200">
                        <a:off x="2899080" y="552600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"/>
                      <p:cNvSpPr/>
                      <p:nvPr/>
                    </p:nvSpPr>
                    <p:spPr>
                      <a:xfrm flipH="1" rot="55200">
                        <a:off x="2905560" y="552960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"/>
                    <p:cNvGrpSpPr/>
                    <p:nvPr/>
                  </p:nvGrpSpPr>
                  <p:grpSpPr>
                    <a:xfrm>
                      <a:off x="2776680" y="5550840"/>
                      <a:ext cx="188280" cy="272520"/>
                      <a:chOff x="2776680" y="5550840"/>
                      <a:chExt cx="188280" cy="272520"/>
                    </a:xfrm>
                  </p:grpSpPr>
                  <p:sp>
                    <p:nvSpPr>
                      <p:cNvPr id="513" name=""/>
                      <p:cNvSpPr/>
                      <p:nvPr/>
                    </p:nvSpPr>
                    <p:spPr>
                      <a:xfrm flipH="1" rot="21204600">
                        <a:off x="2789640" y="5559120"/>
                        <a:ext cx="161640" cy="23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 flipH="1" rot="21204600">
                        <a:off x="2797560" y="556488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5" name=""/>
                    <p:cNvGrpSpPr/>
                    <p:nvPr/>
                  </p:nvGrpSpPr>
                  <p:grpSpPr>
                    <a:xfrm>
                      <a:off x="2581560" y="5568120"/>
                      <a:ext cx="248040" cy="298080"/>
                      <a:chOff x="2581560" y="5568120"/>
                      <a:chExt cx="248040" cy="298080"/>
                    </a:xfrm>
                  </p:grpSpPr>
                  <p:sp>
                    <p:nvSpPr>
                      <p:cNvPr id="516" name=""/>
                      <p:cNvSpPr/>
                      <p:nvPr/>
                    </p:nvSpPr>
                    <p:spPr>
                      <a:xfrm flipH="1" rot="20098200">
                        <a:off x="2624400" y="559080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 flipH="1" rot="20098200">
                        <a:off x="2637360" y="560232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18" name=""/>
              <p:cNvGrpSpPr/>
              <p:nvPr/>
            </p:nvGrpSpPr>
            <p:grpSpPr>
              <a:xfrm>
                <a:off x="3352680" y="5613120"/>
                <a:ext cx="685800" cy="222480"/>
                <a:chOff x="3352680" y="5613120"/>
                <a:chExt cx="685800" cy="2224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3352680" y="5613120"/>
                  <a:ext cx="324000" cy="22248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703680" y="5614920"/>
                  <a:ext cx="334800" cy="1890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6604200" y="6057720"/>
                <a:ext cx="164520" cy="82440"/>
                <a:chOff x="6604200" y="6057720"/>
                <a:chExt cx="164520" cy="8244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6604200" y="605772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688440" y="605808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7378920" y="5918040"/>
                <a:ext cx="164520" cy="82440"/>
                <a:chOff x="7378920" y="5918040"/>
                <a:chExt cx="164520" cy="8244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378920" y="591804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463160" y="591840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8039160" y="5841720"/>
                <a:ext cx="165240" cy="82800"/>
                <a:chOff x="8039160" y="5841720"/>
                <a:chExt cx="165240" cy="8280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8039160" y="584172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8123760" y="58420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1728720" y="5951520"/>
                <a:ext cx="685800" cy="222120"/>
                <a:chOff x="1728720" y="5951520"/>
                <a:chExt cx="685800" cy="2221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1728720" y="5951520"/>
                  <a:ext cx="324000" cy="22212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2079720" y="5952960"/>
                  <a:ext cx="334800" cy="188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5631120" y="6363000"/>
                <a:ext cx="1740600" cy="447840"/>
                <a:chOff x="5631120" y="6363000"/>
                <a:chExt cx="1740600" cy="44784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5631120" y="6363000"/>
                  <a:ext cx="978480" cy="447840"/>
                  <a:chOff x="5631120" y="6363000"/>
                  <a:chExt cx="978480" cy="447840"/>
                </a:xfrm>
              </p:grpSpPr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5631120" y="6417360"/>
                    <a:ext cx="492120" cy="393480"/>
                    <a:chOff x="5631120" y="6417360"/>
                    <a:chExt cx="492120" cy="393480"/>
                  </a:xfrm>
                </p:grpSpPr>
                <p:grpSp>
                  <p:nvGrpSpPr>
                    <p:cNvPr id="536" name=""/>
                    <p:cNvGrpSpPr/>
                    <p:nvPr/>
                  </p:nvGrpSpPr>
                  <p:grpSpPr>
                    <a:xfrm>
                      <a:off x="5928840" y="6417360"/>
                      <a:ext cx="194400" cy="277200"/>
                      <a:chOff x="5928840" y="6417360"/>
                      <a:chExt cx="194400" cy="277200"/>
                    </a:xfrm>
                  </p:grpSpPr>
                  <p:sp>
                    <p:nvSpPr>
                      <p:cNvPr id="537" name=""/>
                      <p:cNvSpPr/>
                      <p:nvPr/>
                    </p:nvSpPr>
                    <p:spPr>
                      <a:xfrm flipH="1" rot="21099600">
                        <a:off x="5945400" y="642744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8" name=""/>
                      <p:cNvSpPr/>
                      <p:nvPr/>
                    </p:nvSpPr>
                    <p:spPr>
                      <a:xfrm flipH="1" rot="21099600">
                        <a:off x="5954040" y="643464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9" name=""/>
                    <p:cNvGrpSpPr/>
                    <p:nvPr/>
                  </p:nvGrpSpPr>
                  <p:grpSpPr>
                    <a:xfrm>
                      <a:off x="5812920" y="6460560"/>
                      <a:ext cx="220680" cy="288720"/>
                      <a:chOff x="5812920" y="6460560"/>
                      <a:chExt cx="220680" cy="288720"/>
                    </a:xfrm>
                  </p:grpSpPr>
                  <p:sp>
                    <p:nvSpPr>
                      <p:cNvPr id="540" name=""/>
                      <p:cNvSpPr/>
                      <p:nvPr/>
                    </p:nvSpPr>
                    <p:spPr>
                      <a:xfrm flipH="1" rot="20649000">
                        <a:off x="5842080" y="647784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1" name=""/>
                      <p:cNvSpPr/>
                      <p:nvPr/>
                    </p:nvSpPr>
                    <p:spPr>
                      <a:xfrm flipH="1" rot="20649000">
                        <a:off x="5852520" y="648684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2" name=""/>
                    <p:cNvGrpSpPr/>
                    <p:nvPr/>
                  </p:nvGrpSpPr>
                  <p:grpSpPr>
                    <a:xfrm>
                      <a:off x="5631120" y="6511320"/>
                      <a:ext cx="268920" cy="299520"/>
                      <a:chOff x="5631120" y="6511320"/>
                      <a:chExt cx="268920" cy="299520"/>
                    </a:xfrm>
                  </p:grpSpPr>
                  <p:sp>
                    <p:nvSpPr>
                      <p:cNvPr id="543" name=""/>
                      <p:cNvSpPr/>
                      <p:nvPr/>
                    </p:nvSpPr>
                    <p:spPr>
                      <a:xfrm flipH="1" rot="19542600">
                        <a:off x="5684040" y="6535800"/>
                        <a:ext cx="16200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4" name=""/>
                      <p:cNvSpPr/>
                      <p:nvPr/>
                    </p:nvSpPr>
                    <p:spPr>
                      <a:xfrm flipH="1" rot="19542600">
                        <a:off x="5701320" y="654948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6128280" y="6363000"/>
                    <a:ext cx="481320" cy="341280"/>
                    <a:chOff x="6128280" y="6363000"/>
                    <a:chExt cx="481320" cy="341280"/>
                  </a:xfrm>
                </p:grpSpPr>
                <p:grpSp>
                  <p:nvGrpSpPr>
                    <p:cNvPr id="546" name=""/>
                    <p:cNvGrpSpPr/>
                    <p:nvPr/>
                  </p:nvGrpSpPr>
                  <p:grpSpPr>
                    <a:xfrm>
                      <a:off x="6128280" y="6363000"/>
                      <a:ext cx="165600" cy="259200"/>
                      <a:chOff x="6128280" y="6363000"/>
                      <a:chExt cx="165600" cy="259200"/>
                    </a:xfrm>
                  </p:grpSpPr>
                  <p:sp>
                    <p:nvSpPr>
                      <p:cNvPr id="547" name=""/>
                      <p:cNvSpPr/>
                      <p:nvPr/>
                    </p:nvSpPr>
                    <p:spPr>
                      <a:xfrm rot="21544800">
                        <a:off x="6130080" y="636408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"/>
                      <p:cNvSpPr/>
                      <p:nvPr/>
                    </p:nvSpPr>
                    <p:spPr>
                      <a:xfrm rot="21544800">
                        <a:off x="6179760" y="636768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9" name=""/>
                    <p:cNvGrpSpPr/>
                    <p:nvPr/>
                  </p:nvGrpSpPr>
                  <p:grpSpPr>
                    <a:xfrm>
                      <a:off x="6226560" y="6388920"/>
                      <a:ext cx="187920" cy="272520"/>
                      <a:chOff x="6226560" y="6388920"/>
                      <a:chExt cx="187920" cy="272520"/>
                    </a:xfrm>
                  </p:grpSpPr>
                  <p:sp>
                    <p:nvSpPr>
                      <p:cNvPr id="550" name=""/>
                      <p:cNvSpPr/>
                      <p:nvPr/>
                    </p:nvSpPr>
                    <p:spPr>
                      <a:xfrm rot="395400">
                        <a:off x="6239520" y="6397200"/>
                        <a:ext cx="16164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1" name=""/>
                      <p:cNvSpPr/>
                      <p:nvPr/>
                    </p:nvSpPr>
                    <p:spPr>
                      <a:xfrm rot="395400">
                        <a:off x="6288120" y="640296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2" name=""/>
                    <p:cNvGrpSpPr/>
                    <p:nvPr/>
                  </p:nvGrpSpPr>
                  <p:grpSpPr>
                    <a:xfrm>
                      <a:off x="6361560" y="6406200"/>
                      <a:ext cx="248040" cy="298080"/>
                      <a:chOff x="6361560" y="6406200"/>
                      <a:chExt cx="248040" cy="298080"/>
                    </a:xfrm>
                  </p:grpSpPr>
                  <p:sp>
                    <p:nvSpPr>
                      <p:cNvPr id="553" name=""/>
                      <p:cNvSpPr/>
                      <p:nvPr/>
                    </p:nvSpPr>
                    <p:spPr>
                      <a:xfrm rot="1501800">
                        <a:off x="6404760" y="642888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4" name=""/>
                      <p:cNvSpPr/>
                      <p:nvPr/>
                    </p:nvSpPr>
                    <p:spPr>
                      <a:xfrm rot="1501800">
                        <a:off x="6447960" y="644040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6393240" y="6363000"/>
                  <a:ext cx="978480" cy="447840"/>
                  <a:chOff x="6393240" y="6363000"/>
                  <a:chExt cx="978480" cy="447840"/>
                </a:xfrm>
              </p:grpSpPr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6879600" y="6417360"/>
                    <a:ext cx="492120" cy="393480"/>
                    <a:chOff x="6879600" y="6417360"/>
                    <a:chExt cx="492120" cy="393480"/>
                  </a:xfrm>
                </p:grpSpPr>
                <p:grpSp>
                  <p:nvGrpSpPr>
                    <p:cNvPr id="557" name=""/>
                    <p:cNvGrpSpPr/>
                    <p:nvPr/>
                  </p:nvGrpSpPr>
                  <p:grpSpPr>
                    <a:xfrm>
                      <a:off x="6879600" y="6417360"/>
                      <a:ext cx="194400" cy="276840"/>
                      <a:chOff x="6879600" y="6417360"/>
                      <a:chExt cx="194400" cy="276840"/>
                    </a:xfrm>
                  </p:grpSpPr>
                  <p:sp>
                    <p:nvSpPr>
                      <p:cNvPr id="558" name=""/>
                      <p:cNvSpPr/>
                      <p:nvPr/>
                    </p:nvSpPr>
                    <p:spPr>
                      <a:xfrm rot="500400">
                        <a:off x="6896160" y="642744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9" name=""/>
                      <p:cNvSpPr/>
                      <p:nvPr/>
                    </p:nvSpPr>
                    <p:spPr>
                      <a:xfrm rot="500400">
                        <a:off x="6943680" y="643464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60" name=""/>
                    <p:cNvGrpSpPr/>
                    <p:nvPr/>
                  </p:nvGrpSpPr>
                  <p:grpSpPr>
                    <a:xfrm>
                      <a:off x="6969600" y="6460560"/>
                      <a:ext cx="220320" cy="288720"/>
                      <a:chOff x="6969600" y="6460560"/>
                      <a:chExt cx="220320" cy="288720"/>
                    </a:xfrm>
                  </p:grpSpPr>
                  <p:sp>
                    <p:nvSpPr>
                      <p:cNvPr id="561" name=""/>
                      <p:cNvSpPr/>
                      <p:nvPr/>
                    </p:nvSpPr>
                    <p:spPr>
                      <a:xfrm rot="951000">
                        <a:off x="6999120" y="6477840"/>
                        <a:ext cx="16128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2" name=""/>
                      <p:cNvSpPr/>
                      <p:nvPr/>
                    </p:nvSpPr>
                    <p:spPr>
                      <a:xfrm rot="951000">
                        <a:off x="7045200" y="648684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63" name=""/>
                    <p:cNvGrpSpPr/>
                    <p:nvPr/>
                  </p:nvGrpSpPr>
                  <p:grpSpPr>
                    <a:xfrm>
                      <a:off x="7102440" y="6511320"/>
                      <a:ext cx="269280" cy="299520"/>
                      <a:chOff x="7102440" y="6511320"/>
                      <a:chExt cx="269280" cy="299520"/>
                    </a:xfrm>
                  </p:grpSpPr>
                  <p:sp>
                    <p:nvSpPr>
                      <p:cNvPr id="564" name=""/>
                      <p:cNvSpPr/>
                      <p:nvPr/>
                    </p:nvSpPr>
                    <p:spPr>
                      <a:xfrm rot="2057400">
                        <a:off x="7155720" y="6535800"/>
                        <a:ext cx="162000" cy="24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5" name=""/>
                      <p:cNvSpPr/>
                      <p:nvPr/>
                    </p:nvSpPr>
                    <p:spPr>
                      <a:xfrm rot="2057400">
                        <a:off x="7196040" y="6549480"/>
                        <a:ext cx="104760" cy="253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6393240" y="6363000"/>
                    <a:ext cx="481320" cy="341280"/>
                    <a:chOff x="6393240" y="6363000"/>
                    <a:chExt cx="481320" cy="341280"/>
                  </a:xfrm>
                </p:grpSpPr>
                <p:grpSp>
                  <p:nvGrpSpPr>
                    <p:cNvPr id="567" name=""/>
                    <p:cNvGrpSpPr/>
                    <p:nvPr/>
                  </p:nvGrpSpPr>
                  <p:grpSpPr>
                    <a:xfrm>
                      <a:off x="6709320" y="6363000"/>
                      <a:ext cx="165240" cy="259200"/>
                      <a:chOff x="6709320" y="6363000"/>
                      <a:chExt cx="165240" cy="259200"/>
                    </a:xfrm>
                  </p:grpSpPr>
                  <p:sp>
                    <p:nvSpPr>
                      <p:cNvPr id="568" name=""/>
                      <p:cNvSpPr/>
                      <p:nvPr/>
                    </p:nvSpPr>
                    <p:spPr>
                      <a:xfrm flipH="1" rot="55200">
                        <a:off x="6710760" y="636408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9" name=""/>
                      <p:cNvSpPr/>
                      <p:nvPr/>
                    </p:nvSpPr>
                    <p:spPr>
                      <a:xfrm flipH="1" rot="55200">
                        <a:off x="6717240" y="636768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0" name=""/>
                    <p:cNvGrpSpPr/>
                    <p:nvPr/>
                  </p:nvGrpSpPr>
                  <p:grpSpPr>
                    <a:xfrm>
                      <a:off x="6588360" y="6388920"/>
                      <a:ext cx="188280" cy="272520"/>
                      <a:chOff x="6588360" y="6388920"/>
                      <a:chExt cx="188280" cy="272520"/>
                    </a:xfrm>
                  </p:grpSpPr>
                  <p:sp>
                    <p:nvSpPr>
                      <p:cNvPr id="571" name=""/>
                      <p:cNvSpPr/>
                      <p:nvPr/>
                    </p:nvSpPr>
                    <p:spPr>
                      <a:xfrm flipH="1" rot="21204600">
                        <a:off x="6601320" y="6397200"/>
                        <a:ext cx="161640" cy="23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2" name=""/>
                      <p:cNvSpPr/>
                      <p:nvPr/>
                    </p:nvSpPr>
                    <p:spPr>
                      <a:xfrm flipH="1" rot="21204600">
                        <a:off x="6609240" y="640296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3" name=""/>
                    <p:cNvGrpSpPr/>
                    <p:nvPr/>
                  </p:nvGrpSpPr>
                  <p:grpSpPr>
                    <a:xfrm>
                      <a:off x="6393240" y="6406200"/>
                      <a:ext cx="248040" cy="298080"/>
                      <a:chOff x="6393240" y="6406200"/>
                      <a:chExt cx="248040" cy="298080"/>
                    </a:xfrm>
                  </p:grpSpPr>
                  <p:sp>
                    <p:nvSpPr>
                      <p:cNvPr id="574" name=""/>
                      <p:cNvSpPr/>
                      <p:nvPr/>
                    </p:nvSpPr>
                    <p:spPr>
                      <a:xfrm flipH="1" rot="20098200">
                        <a:off x="6436080" y="642888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5" name=""/>
                      <p:cNvSpPr/>
                      <p:nvPr/>
                    </p:nvSpPr>
                    <p:spPr>
                      <a:xfrm flipH="1" rot="20098200">
                        <a:off x="6449040" y="644040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76" name=""/>
              <p:cNvGrpSpPr/>
              <p:nvPr/>
            </p:nvGrpSpPr>
            <p:grpSpPr>
              <a:xfrm>
                <a:off x="4711680" y="6172200"/>
                <a:ext cx="685800" cy="222120"/>
                <a:chOff x="4711680" y="6172200"/>
                <a:chExt cx="685800" cy="22212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4711680" y="6172200"/>
                  <a:ext cx="324000" cy="22212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062680" y="6173640"/>
                  <a:ext cx="334800" cy="188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3888000" y="6180120"/>
                <a:ext cx="188640" cy="83880"/>
                <a:chOff x="3888000" y="6180120"/>
                <a:chExt cx="188640" cy="838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3888000" y="6180120"/>
                  <a:ext cx="88920" cy="8388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984480" y="6180480"/>
                  <a:ext cx="92160" cy="7128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3659400" y="6230880"/>
                <a:ext cx="188640" cy="83880"/>
                <a:chOff x="3659400" y="6230880"/>
                <a:chExt cx="188640" cy="8388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3659400" y="6230880"/>
                  <a:ext cx="88920" cy="8388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755880" y="6231240"/>
                  <a:ext cx="92160" cy="7128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2757600" y="6230880"/>
                <a:ext cx="164520" cy="82440"/>
                <a:chOff x="2757600" y="6230880"/>
                <a:chExt cx="164520" cy="8244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2757600" y="623088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841840" y="623124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2757600" y="6129360"/>
                <a:ext cx="164520" cy="82440"/>
                <a:chOff x="2757600" y="6129360"/>
                <a:chExt cx="164520" cy="8244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2757600" y="612936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841840" y="612972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2833920" y="6065640"/>
                <a:ext cx="164520" cy="82440"/>
                <a:chOff x="2833920" y="6065640"/>
                <a:chExt cx="164520" cy="8244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2833920" y="606564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918160" y="606600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3633840" y="6065640"/>
                <a:ext cx="189000" cy="84240"/>
                <a:chOff x="3633840" y="6065640"/>
                <a:chExt cx="189000" cy="8424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3633840" y="6065640"/>
                  <a:ext cx="89280" cy="842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730680" y="6066000"/>
                  <a:ext cx="92160" cy="71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3710160" y="6027480"/>
                <a:ext cx="188640" cy="84240"/>
                <a:chOff x="3710160" y="6027480"/>
                <a:chExt cx="188640" cy="8424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3710160" y="6027480"/>
                  <a:ext cx="88920" cy="842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806640" y="6027840"/>
                  <a:ext cx="92160" cy="71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3913200" y="5951520"/>
                <a:ext cx="189000" cy="83880"/>
                <a:chOff x="3913200" y="5951520"/>
                <a:chExt cx="189000" cy="8388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3913200" y="5951520"/>
                  <a:ext cx="89280" cy="8388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4010040" y="5951880"/>
                  <a:ext cx="92160" cy="7128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8953560" y="5930640"/>
                <a:ext cx="165240" cy="82800"/>
                <a:chOff x="8953560" y="5930640"/>
                <a:chExt cx="165240" cy="8280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8953560" y="593064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9038160" y="59310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8724960" y="5981400"/>
                <a:ext cx="165240" cy="82800"/>
                <a:chOff x="8724960" y="5981400"/>
                <a:chExt cx="165240" cy="828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8724960" y="598140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8809560" y="59817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8559720" y="6006960"/>
                <a:ext cx="165240" cy="82440"/>
                <a:chOff x="8559720" y="6006960"/>
                <a:chExt cx="165240" cy="8244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8559720" y="60069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8644320" y="60073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8559720" y="5905440"/>
                <a:ext cx="165240" cy="82440"/>
                <a:chOff x="8559720" y="5905440"/>
                <a:chExt cx="165240" cy="8244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8559720" y="59054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644320" y="59058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8636040" y="5841720"/>
                <a:ext cx="165240" cy="82800"/>
                <a:chOff x="8636040" y="5841720"/>
                <a:chExt cx="165240" cy="8280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8636040" y="584172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720640" y="58420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8699400" y="5816520"/>
                <a:ext cx="165240" cy="82440"/>
                <a:chOff x="8699400" y="5816520"/>
                <a:chExt cx="165240" cy="8244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8699400" y="58165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8784000" y="58168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8775720" y="5778360"/>
                <a:ext cx="165240" cy="82440"/>
                <a:chOff x="8775720" y="5778360"/>
                <a:chExt cx="165240" cy="8244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8775720" y="57783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8860320" y="57787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8979120" y="5702040"/>
                <a:ext cx="164520" cy="82800"/>
                <a:chOff x="8979120" y="5702040"/>
                <a:chExt cx="164520" cy="828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8979120" y="5702040"/>
                  <a:ext cx="7776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9063360" y="570240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584280" y="5956200"/>
                <a:ext cx="165240" cy="82440"/>
                <a:chOff x="584280" y="5956200"/>
                <a:chExt cx="165240" cy="8244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584280" y="59562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668880" y="59565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355680" y="6006960"/>
                <a:ext cx="165240" cy="82440"/>
                <a:chOff x="355680" y="6006960"/>
                <a:chExt cx="165240" cy="8244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355680" y="60069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40280" y="60073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30120" y="5841720"/>
                <a:ext cx="165240" cy="82800"/>
                <a:chOff x="330120" y="5841720"/>
                <a:chExt cx="165240" cy="8280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330120" y="584172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14720" y="58420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406440" y="5803920"/>
                <a:ext cx="165240" cy="82440"/>
                <a:chOff x="406440" y="5803920"/>
                <a:chExt cx="165240" cy="8244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406440" y="58039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491040" y="58042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609480" y="5727600"/>
                <a:ext cx="165240" cy="82440"/>
                <a:chOff x="609480" y="5727600"/>
                <a:chExt cx="165240" cy="8244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609480" y="57276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94080" y="57279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1549440" y="5943600"/>
                <a:ext cx="165240" cy="82440"/>
                <a:chOff x="1549440" y="5943600"/>
                <a:chExt cx="165240" cy="8244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1549440" y="59436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634040" y="59439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1320840" y="5994360"/>
                <a:ext cx="165240" cy="82440"/>
                <a:chOff x="1320840" y="5994360"/>
                <a:chExt cx="165240" cy="8244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1320840" y="59943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405440" y="59947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1155600" y="6019560"/>
                <a:ext cx="165240" cy="82800"/>
                <a:chOff x="1155600" y="6019560"/>
                <a:chExt cx="165240" cy="8280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1155600" y="601956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240200" y="60199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1155600" y="5918040"/>
                <a:ext cx="165240" cy="82440"/>
                <a:chOff x="1155600" y="5918040"/>
                <a:chExt cx="165240" cy="8244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1155600" y="59180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240200" y="59184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1231920" y="5854680"/>
                <a:ext cx="165240" cy="82440"/>
                <a:chOff x="1231920" y="5854680"/>
                <a:chExt cx="165240" cy="8244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1231920" y="58546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316520" y="58550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1295280" y="5829120"/>
                <a:ext cx="165240" cy="82440"/>
                <a:chOff x="1295280" y="5829120"/>
                <a:chExt cx="165240" cy="8244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1295280" y="58291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379880" y="58294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1371600" y="5790960"/>
                <a:ext cx="165240" cy="82800"/>
                <a:chOff x="1371600" y="5790960"/>
                <a:chExt cx="165240" cy="8280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1371600" y="579096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456200" y="57913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1575000" y="5715000"/>
                <a:ext cx="164520" cy="82440"/>
                <a:chOff x="1575000" y="5715000"/>
                <a:chExt cx="164520" cy="8244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1575000" y="571500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659240" y="571536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1486080" y="5752800"/>
                <a:ext cx="685800" cy="222480"/>
                <a:chOff x="1486080" y="5752800"/>
                <a:chExt cx="685800" cy="22248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1486080" y="5752800"/>
                  <a:ext cx="324000" cy="22248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837080" y="5754600"/>
                  <a:ext cx="334800" cy="1890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2125800" y="6286680"/>
                <a:ext cx="1740600" cy="447840"/>
                <a:chOff x="2125800" y="6286680"/>
                <a:chExt cx="1740600" cy="447840"/>
              </a:xfrm>
            </p:grpSpPr>
            <p:grpSp>
              <p:nvGrpSpPr>
                <p:cNvPr id="670" name=""/>
                <p:cNvGrpSpPr/>
                <p:nvPr/>
              </p:nvGrpSpPr>
              <p:grpSpPr>
                <a:xfrm>
                  <a:off x="2125800" y="6286680"/>
                  <a:ext cx="978480" cy="447840"/>
                  <a:chOff x="2125800" y="6286680"/>
                  <a:chExt cx="978480" cy="447840"/>
                </a:xfrm>
              </p:grpSpPr>
              <p:grpSp>
                <p:nvGrpSpPr>
                  <p:cNvPr id="671" name=""/>
                  <p:cNvGrpSpPr/>
                  <p:nvPr/>
                </p:nvGrpSpPr>
                <p:grpSpPr>
                  <a:xfrm>
                    <a:off x="2125800" y="6341040"/>
                    <a:ext cx="492120" cy="393480"/>
                    <a:chOff x="2125800" y="6341040"/>
                    <a:chExt cx="492120" cy="393480"/>
                  </a:xfrm>
                </p:grpSpPr>
                <p:grpSp>
                  <p:nvGrpSpPr>
                    <p:cNvPr id="672" name=""/>
                    <p:cNvGrpSpPr/>
                    <p:nvPr/>
                  </p:nvGrpSpPr>
                  <p:grpSpPr>
                    <a:xfrm>
                      <a:off x="2423520" y="6341040"/>
                      <a:ext cx="194400" cy="277200"/>
                      <a:chOff x="2423520" y="6341040"/>
                      <a:chExt cx="194400" cy="277200"/>
                    </a:xfrm>
                  </p:grpSpPr>
                  <p:sp>
                    <p:nvSpPr>
                      <p:cNvPr id="673" name=""/>
                      <p:cNvSpPr/>
                      <p:nvPr/>
                    </p:nvSpPr>
                    <p:spPr>
                      <a:xfrm flipH="1" rot="21099600">
                        <a:off x="2440080" y="635112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4" name=""/>
                      <p:cNvSpPr/>
                      <p:nvPr/>
                    </p:nvSpPr>
                    <p:spPr>
                      <a:xfrm flipH="1" rot="21099600">
                        <a:off x="2448720" y="635832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75" name=""/>
                    <p:cNvGrpSpPr/>
                    <p:nvPr/>
                  </p:nvGrpSpPr>
                  <p:grpSpPr>
                    <a:xfrm>
                      <a:off x="2307600" y="6384240"/>
                      <a:ext cx="220680" cy="288720"/>
                      <a:chOff x="2307600" y="6384240"/>
                      <a:chExt cx="220680" cy="288720"/>
                    </a:xfrm>
                  </p:grpSpPr>
                  <p:sp>
                    <p:nvSpPr>
                      <p:cNvPr id="676" name=""/>
                      <p:cNvSpPr/>
                      <p:nvPr/>
                    </p:nvSpPr>
                    <p:spPr>
                      <a:xfrm flipH="1" rot="20649000">
                        <a:off x="2336760" y="640152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7" name=""/>
                      <p:cNvSpPr/>
                      <p:nvPr/>
                    </p:nvSpPr>
                    <p:spPr>
                      <a:xfrm flipH="1" rot="20649000">
                        <a:off x="2347200" y="641052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78" name=""/>
                    <p:cNvGrpSpPr/>
                    <p:nvPr/>
                  </p:nvGrpSpPr>
                  <p:grpSpPr>
                    <a:xfrm>
                      <a:off x="2125800" y="6435000"/>
                      <a:ext cx="268920" cy="299520"/>
                      <a:chOff x="2125800" y="6435000"/>
                      <a:chExt cx="268920" cy="299520"/>
                    </a:xfrm>
                  </p:grpSpPr>
                  <p:sp>
                    <p:nvSpPr>
                      <p:cNvPr id="679" name=""/>
                      <p:cNvSpPr/>
                      <p:nvPr/>
                    </p:nvSpPr>
                    <p:spPr>
                      <a:xfrm flipH="1" rot="19542600">
                        <a:off x="2178720" y="6459480"/>
                        <a:ext cx="16200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0" name=""/>
                      <p:cNvSpPr/>
                      <p:nvPr/>
                    </p:nvSpPr>
                    <p:spPr>
                      <a:xfrm flipH="1" rot="19542600">
                        <a:off x="2196000" y="647316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81" name=""/>
                  <p:cNvGrpSpPr/>
                  <p:nvPr/>
                </p:nvGrpSpPr>
                <p:grpSpPr>
                  <a:xfrm>
                    <a:off x="2622960" y="6286680"/>
                    <a:ext cx="481320" cy="341280"/>
                    <a:chOff x="2622960" y="6286680"/>
                    <a:chExt cx="481320" cy="341280"/>
                  </a:xfrm>
                </p:grpSpPr>
                <p:grpSp>
                  <p:nvGrpSpPr>
                    <p:cNvPr id="682" name=""/>
                    <p:cNvGrpSpPr/>
                    <p:nvPr/>
                  </p:nvGrpSpPr>
                  <p:grpSpPr>
                    <a:xfrm>
                      <a:off x="2622960" y="6286680"/>
                      <a:ext cx="165600" cy="259200"/>
                      <a:chOff x="2622960" y="6286680"/>
                      <a:chExt cx="165600" cy="259200"/>
                    </a:xfrm>
                  </p:grpSpPr>
                  <p:sp>
                    <p:nvSpPr>
                      <p:cNvPr id="683" name=""/>
                      <p:cNvSpPr/>
                      <p:nvPr/>
                    </p:nvSpPr>
                    <p:spPr>
                      <a:xfrm rot="21544800">
                        <a:off x="2624760" y="628776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4" name=""/>
                      <p:cNvSpPr/>
                      <p:nvPr/>
                    </p:nvSpPr>
                    <p:spPr>
                      <a:xfrm rot="21544800">
                        <a:off x="2674440" y="629136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85" name=""/>
                    <p:cNvGrpSpPr/>
                    <p:nvPr/>
                  </p:nvGrpSpPr>
                  <p:grpSpPr>
                    <a:xfrm>
                      <a:off x="2721240" y="6312600"/>
                      <a:ext cx="187920" cy="272520"/>
                      <a:chOff x="2721240" y="6312600"/>
                      <a:chExt cx="187920" cy="272520"/>
                    </a:xfrm>
                  </p:grpSpPr>
                  <p:sp>
                    <p:nvSpPr>
                      <p:cNvPr id="686" name=""/>
                      <p:cNvSpPr/>
                      <p:nvPr/>
                    </p:nvSpPr>
                    <p:spPr>
                      <a:xfrm rot="395400">
                        <a:off x="2734200" y="6320880"/>
                        <a:ext cx="16164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7" name=""/>
                      <p:cNvSpPr/>
                      <p:nvPr/>
                    </p:nvSpPr>
                    <p:spPr>
                      <a:xfrm rot="395400">
                        <a:off x="2782800" y="632664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88" name=""/>
                    <p:cNvGrpSpPr/>
                    <p:nvPr/>
                  </p:nvGrpSpPr>
                  <p:grpSpPr>
                    <a:xfrm>
                      <a:off x="2856240" y="6329880"/>
                      <a:ext cx="248040" cy="298080"/>
                      <a:chOff x="2856240" y="6329880"/>
                      <a:chExt cx="248040" cy="298080"/>
                    </a:xfrm>
                  </p:grpSpPr>
                  <p:sp>
                    <p:nvSpPr>
                      <p:cNvPr id="689" name=""/>
                      <p:cNvSpPr/>
                      <p:nvPr/>
                    </p:nvSpPr>
                    <p:spPr>
                      <a:xfrm rot="1501800">
                        <a:off x="2899440" y="635256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0" name=""/>
                      <p:cNvSpPr/>
                      <p:nvPr/>
                    </p:nvSpPr>
                    <p:spPr>
                      <a:xfrm rot="1501800">
                        <a:off x="2942640" y="636408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91" name=""/>
                <p:cNvGrpSpPr/>
                <p:nvPr/>
              </p:nvGrpSpPr>
              <p:grpSpPr>
                <a:xfrm>
                  <a:off x="2887920" y="6286680"/>
                  <a:ext cx="978480" cy="447840"/>
                  <a:chOff x="2887920" y="6286680"/>
                  <a:chExt cx="978480" cy="447840"/>
                </a:xfrm>
              </p:grpSpPr>
              <p:grpSp>
                <p:nvGrpSpPr>
                  <p:cNvPr id="692" name=""/>
                  <p:cNvGrpSpPr/>
                  <p:nvPr/>
                </p:nvGrpSpPr>
                <p:grpSpPr>
                  <a:xfrm>
                    <a:off x="3374280" y="6341040"/>
                    <a:ext cx="492120" cy="393480"/>
                    <a:chOff x="3374280" y="6341040"/>
                    <a:chExt cx="492120" cy="393480"/>
                  </a:xfrm>
                </p:grpSpPr>
                <p:grpSp>
                  <p:nvGrpSpPr>
                    <p:cNvPr id="693" name=""/>
                    <p:cNvGrpSpPr/>
                    <p:nvPr/>
                  </p:nvGrpSpPr>
                  <p:grpSpPr>
                    <a:xfrm>
                      <a:off x="3374280" y="6341040"/>
                      <a:ext cx="194400" cy="276840"/>
                      <a:chOff x="3374280" y="6341040"/>
                      <a:chExt cx="194400" cy="276840"/>
                    </a:xfrm>
                  </p:grpSpPr>
                  <p:sp>
                    <p:nvSpPr>
                      <p:cNvPr id="694" name=""/>
                      <p:cNvSpPr/>
                      <p:nvPr/>
                    </p:nvSpPr>
                    <p:spPr>
                      <a:xfrm rot="500400">
                        <a:off x="3390840" y="635112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5" name=""/>
                      <p:cNvSpPr/>
                      <p:nvPr/>
                    </p:nvSpPr>
                    <p:spPr>
                      <a:xfrm rot="500400">
                        <a:off x="3438360" y="635832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96" name=""/>
                    <p:cNvGrpSpPr/>
                    <p:nvPr/>
                  </p:nvGrpSpPr>
                  <p:grpSpPr>
                    <a:xfrm>
                      <a:off x="3464280" y="6384240"/>
                      <a:ext cx="220320" cy="288720"/>
                      <a:chOff x="3464280" y="6384240"/>
                      <a:chExt cx="220320" cy="288720"/>
                    </a:xfrm>
                  </p:grpSpPr>
                  <p:sp>
                    <p:nvSpPr>
                      <p:cNvPr id="697" name=""/>
                      <p:cNvSpPr/>
                      <p:nvPr/>
                    </p:nvSpPr>
                    <p:spPr>
                      <a:xfrm rot="951000">
                        <a:off x="3493800" y="6401520"/>
                        <a:ext cx="16128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8" name=""/>
                      <p:cNvSpPr/>
                      <p:nvPr/>
                    </p:nvSpPr>
                    <p:spPr>
                      <a:xfrm rot="951000">
                        <a:off x="3539880" y="641052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99" name=""/>
                    <p:cNvGrpSpPr/>
                    <p:nvPr/>
                  </p:nvGrpSpPr>
                  <p:grpSpPr>
                    <a:xfrm>
                      <a:off x="3597120" y="6435000"/>
                      <a:ext cx="269280" cy="299520"/>
                      <a:chOff x="3597120" y="6435000"/>
                      <a:chExt cx="269280" cy="299520"/>
                    </a:xfrm>
                  </p:grpSpPr>
                  <p:sp>
                    <p:nvSpPr>
                      <p:cNvPr id="700" name=""/>
                      <p:cNvSpPr/>
                      <p:nvPr/>
                    </p:nvSpPr>
                    <p:spPr>
                      <a:xfrm rot="2057400">
                        <a:off x="3650400" y="6459480"/>
                        <a:ext cx="162000" cy="24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1" name=""/>
                      <p:cNvSpPr/>
                      <p:nvPr/>
                    </p:nvSpPr>
                    <p:spPr>
                      <a:xfrm rot="2057400">
                        <a:off x="3690720" y="6473160"/>
                        <a:ext cx="104760" cy="253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2887920" y="6286680"/>
                    <a:ext cx="481320" cy="341280"/>
                    <a:chOff x="2887920" y="6286680"/>
                    <a:chExt cx="481320" cy="341280"/>
                  </a:xfrm>
                </p:grpSpPr>
                <p:grpSp>
                  <p:nvGrpSpPr>
                    <p:cNvPr id="703" name=""/>
                    <p:cNvGrpSpPr/>
                    <p:nvPr/>
                  </p:nvGrpSpPr>
                  <p:grpSpPr>
                    <a:xfrm>
                      <a:off x="3204000" y="6286680"/>
                      <a:ext cx="165240" cy="259200"/>
                      <a:chOff x="3204000" y="6286680"/>
                      <a:chExt cx="165240" cy="259200"/>
                    </a:xfrm>
                  </p:grpSpPr>
                  <p:sp>
                    <p:nvSpPr>
                      <p:cNvPr id="704" name=""/>
                      <p:cNvSpPr/>
                      <p:nvPr/>
                    </p:nvSpPr>
                    <p:spPr>
                      <a:xfrm flipH="1" rot="55200">
                        <a:off x="3205440" y="628776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5" name=""/>
                      <p:cNvSpPr/>
                      <p:nvPr/>
                    </p:nvSpPr>
                    <p:spPr>
                      <a:xfrm flipH="1" rot="55200">
                        <a:off x="3211920" y="629136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06" name=""/>
                    <p:cNvGrpSpPr/>
                    <p:nvPr/>
                  </p:nvGrpSpPr>
                  <p:grpSpPr>
                    <a:xfrm>
                      <a:off x="3083040" y="6312600"/>
                      <a:ext cx="188280" cy="272520"/>
                      <a:chOff x="3083040" y="6312600"/>
                      <a:chExt cx="188280" cy="272520"/>
                    </a:xfrm>
                  </p:grpSpPr>
                  <p:sp>
                    <p:nvSpPr>
                      <p:cNvPr id="707" name=""/>
                      <p:cNvSpPr/>
                      <p:nvPr/>
                    </p:nvSpPr>
                    <p:spPr>
                      <a:xfrm flipH="1" rot="21204600">
                        <a:off x="3096000" y="6320880"/>
                        <a:ext cx="161640" cy="23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8" name=""/>
                      <p:cNvSpPr/>
                      <p:nvPr/>
                    </p:nvSpPr>
                    <p:spPr>
                      <a:xfrm flipH="1" rot="21204600">
                        <a:off x="3103920" y="632664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09" name=""/>
                    <p:cNvGrpSpPr/>
                    <p:nvPr/>
                  </p:nvGrpSpPr>
                  <p:grpSpPr>
                    <a:xfrm>
                      <a:off x="2887920" y="6329880"/>
                      <a:ext cx="248040" cy="298080"/>
                      <a:chOff x="2887920" y="6329880"/>
                      <a:chExt cx="248040" cy="298080"/>
                    </a:xfrm>
                  </p:grpSpPr>
                  <p:sp>
                    <p:nvSpPr>
                      <p:cNvPr id="710" name=""/>
                      <p:cNvSpPr/>
                      <p:nvPr/>
                    </p:nvSpPr>
                    <p:spPr>
                      <a:xfrm flipH="1" rot="20098200">
                        <a:off x="2930760" y="635256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"/>
                      <p:cNvSpPr/>
                      <p:nvPr/>
                    </p:nvSpPr>
                    <p:spPr>
                      <a:xfrm flipH="1" rot="20098200">
                        <a:off x="2943720" y="636408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712" name=""/>
              <p:cNvGrpSpPr/>
              <p:nvPr/>
            </p:nvGrpSpPr>
            <p:grpSpPr>
              <a:xfrm>
                <a:off x="6581880" y="5829480"/>
                <a:ext cx="1740600" cy="447840"/>
                <a:chOff x="6581880" y="5829480"/>
                <a:chExt cx="1740600" cy="447840"/>
              </a:xfrm>
            </p:grpSpPr>
            <p:grpSp>
              <p:nvGrpSpPr>
                <p:cNvPr id="713" name=""/>
                <p:cNvGrpSpPr/>
                <p:nvPr/>
              </p:nvGrpSpPr>
              <p:grpSpPr>
                <a:xfrm>
                  <a:off x="6581880" y="5829480"/>
                  <a:ext cx="978480" cy="447840"/>
                  <a:chOff x="6581880" y="5829480"/>
                  <a:chExt cx="978480" cy="447840"/>
                </a:xfrm>
              </p:grpSpPr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6581880" y="5883840"/>
                    <a:ext cx="492120" cy="393480"/>
                    <a:chOff x="6581880" y="5883840"/>
                    <a:chExt cx="492120" cy="393480"/>
                  </a:xfrm>
                </p:grpSpPr>
                <p:grpSp>
                  <p:nvGrpSpPr>
                    <p:cNvPr id="715" name=""/>
                    <p:cNvGrpSpPr/>
                    <p:nvPr/>
                  </p:nvGrpSpPr>
                  <p:grpSpPr>
                    <a:xfrm>
                      <a:off x="6879600" y="5883840"/>
                      <a:ext cx="194400" cy="277200"/>
                      <a:chOff x="6879600" y="5883840"/>
                      <a:chExt cx="194400" cy="277200"/>
                    </a:xfrm>
                  </p:grpSpPr>
                  <p:sp>
                    <p:nvSpPr>
                      <p:cNvPr id="716" name=""/>
                      <p:cNvSpPr/>
                      <p:nvPr/>
                    </p:nvSpPr>
                    <p:spPr>
                      <a:xfrm flipH="1" rot="21099600">
                        <a:off x="6896160" y="589392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"/>
                      <p:cNvSpPr/>
                      <p:nvPr/>
                    </p:nvSpPr>
                    <p:spPr>
                      <a:xfrm flipH="1" rot="21099600">
                        <a:off x="6904800" y="590112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8" name=""/>
                    <p:cNvGrpSpPr/>
                    <p:nvPr/>
                  </p:nvGrpSpPr>
                  <p:grpSpPr>
                    <a:xfrm>
                      <a:off x="6763680" y="5927040"/>
                      <a:ext cx="220680" cy="288720"/>
                      <a:chOff x="6763680" y="5927040"/>
                      <a:chExt cx="220680" cy="288720"/>
                    </a:xfrm>
                  </p:grpSpPr>
                  <p:sp>
                    <p:nvSpPr>
                      <p:cNvPr id="719" name=""/>
                      <p:cNvSpPr/>
                      <p:nvPr/>
                    </p:nvSpPr>
                    <p:spPr>
                      <a:xfrm flipH="1" rot="20649000">
                        <a:off x="6792840" y="594432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"/>
                      <p:cNvSpPr/>
                      <p:nvPr/>
                    </p:nvSpPr>
                    <p:spPr>
                      <a:xfrm flipH="1" rot="20649000">
                        <a:off x="6803280" y="595332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1" name=""/>
                    <p:cNvGrpSpPr/>
                    <p:nvPr/>
                  </p:nvGrpSpPr>
                  <p:grpSpPr>
                    <a:xfrm>
                      <a:off x="6581880" y="5977800"/>
                      <a:ext cx="268920" cy="299520"/>
                      <a:chOff x="6581880" y="5977800"/>
                      <a:chExt cx="268920" cy="299520"/>
                    </a:xfrm>
                  </p:grpSpPr>
                  <p:sp>
                    <p:nvSpPr>
                      <p:cNvPr id="722" name=""/>
                      <p:cNvSpPr/>
                      <p:nvPr/>
                    </p:nvSpPr>
                    <p:spPr>
                      <a:xfrm flipH="1" rot="19542600">
                        <a:off x="6634800" y="6002280"/>
                        <a:ext cx="16200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3" name=""/>
                      <p:cNvSpPr/>
                      <p:nvPr/>
                    </p:nvSpPr>
                    <p:spPr>
                      <a:xfrm flipH="1" rot="19542600">
                        <a:off x="6652080" y="601596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24" name=""/>
                  <p:cNvGrpSpPr/>
                  <p:nvPr/>
                </p:nvGrpSpPr>
                <p:grpSpPr>
                  <a:xfrm>
                    <a:off x="7079040" y="5829480"/>
                    <a:ext cx="481320" cy="341280"/>
                    <a:chOff x="7079040" y="5829480"/>
                    <a:chExt cx="481320" cy="341280"/>
                  </a:xfrm>
                </p:grpSpPr>
                <p:grpSp>
                  <p:nvGrpSpPr>
                    <p:cNvPr id="725" name=""/>
                    <p:cNvGrpSpPr/>
                    <p:nvPr/>
                  </p:nvGrpSpPr>
                  <p:grpSpPr>
                    <a:xfrm>
                      <a:off x="7079040" y="5829480"/>
                      <a:ext cx="165600" cy="259200"/>
                      <a:chOff x="7079040" y="5829480"/>
                      <a:chExt cx="165600" cy="259200"/>
                    </a:xfrm>
                  </p:grpSpPr>
                  <p:sp>
                    <p:nvSpPr>
                      <p:cNvPr id="726" name=""/>
                      <p:cNvSpPr/>
                      <p:nvPr/>
                    </p:nvSpPr>
                    <p:spPr>
                      <a:xfrm rot="21544800">
                        <a:off x="7080840" y="583056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"/>
                      <p:cNvSpPr/>
                      <p:nvPr/>
                    </p:nvSpPr>
                    <p:spPr>
                      <a:xfrm rot="21544800">
                        <a:off x="7130520" y="583416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8" name=""/>
                    <p:cNvGrpSpPr/>
                    <p:nvPr/>
                  </p:nvGrpSpPr>
                  <p:grpSpPr>
                    <a:xfrm>
                      <a:off x="7177320" y="5855400"/>
                      <a:ext cx="187920" cy="272520"/>
                      <a:chOff x="7177320" y="5855400"/>
                      <a:chExt cx="187920" cy="272520"/>
                    </a:xfrm>
                  </p:grpSpPr>
                  <p:sp>
                    <p:nvSpPr>
                      <p:cNvPr id="729" name=""/>
                      <p:cNvSpPr/>
                      <p:nvPr/>
                    </p:nvSpPr>
                    <p:spPr>
                      <a:xfrm rot="395400">
                        <a:off x="7190280" y="5863680"/>
                        <a:ext cx="16164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0" name=""/>
                      <p:cNvSpPr/>
                      <p:nvPr/>
                    </p:nvSpPr>
                    <p:spPr>
                      <a:xfrm rot="395400">
                        <a:off x="7238880" y="586944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31" name=""/>
                    <p:cNvGrpSpPr/>
                    <p:nvPr/>
                  </p:nvGrpSpPr>
                  <p:grpSpPr>
                    <a:xfrm>
                      <a:off x="7312320" y="5872680"/>
                      <a:ext cx="248040" cy="298080"/>
                      <a:chOff x="7312320" y="5872680"/>
                      <a:chExt cx="248040" cy="298080"/>
                    </a:xfrm>
                  </p:grpSpPr>
                  <p:sp>
                    <p:nvSpPr>
                      <p:cNvPr id="732" name=""/>
                      <p:cNvSpPr/>
                      <p:nvPr/>
                    </p:nvSpPr>
                    <p:spPr>
                      <a:xfrm rot="1501800">
                        <a:off x="7355520" y="589536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3" name=""/>
                      <p:cNvSpPr/>
                      <p:nvPr/>
                    </p:nvSpPr>
                    <p:spPr>
                      <a:xfrm rot="1501800">
                        <a:off x="7398720" y="590688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34" name=""/>
                <p:cNvGrpSpPr/>
                <p:nvPr/>
              </p:nvGrpSpPr>
              <p:grpSpPr>
                <a:xfrm>
                  <a:off x="7344000" y="5829480"/>
                  <a:ext cx="978480" cy="447840"/>
                  <a:chOff x="7344000" y="5829480"/>
                  <a:chExt cx="978480" cy="447840"/>
                </a:xfrm>
              </p:grpSpPr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7830360" y="5883840"/>
                    <a:ext cx="492120" cy="393480"/>
                    <a:chOff x="7830360" y="5883840"/>
                    <a:chExt cx="492120" cy="393480"/>
                  </a:xfrm>
                </p:grpSpPr>
                <p:grpSp>
                  <p:nvGrpSpPr>
                    <p:cNvPr id="736" name=""/>
                    <p:cNvGrpSpPr/>
                    <p:nvPr/>
                  </p:nvGrpSpPr>
                  <p:grpSpPr>
                    <a:xfrm>
                      <a:off x="7830360" y="5883840"/>
                      <a:ext cx="194400" cy="276840"/>
                      <a:chOff x="7830360" y="5883840"/>
                      <a:chExt cx="194400" cy="276840"/>
                    </a:xfrm>
                  </p:grpSpPr>
                  <p:sp>
                    <p:nvSpPr>
                      <p:cNvPr id="737" name=""/>
                      <p:cNvSpPr/>
                      <p:nvPr/>
                    </p:nvSpPr>
                    <p:spPr>
                      <a:xfrm rot="500400">
                        <a:off x="7846920" y="589392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8" name=""/>
                      <p:cNvSpPr/>
                      <p:nvPr/>
                    </p:nvSpPr>
                    <p:spPr>
                      <a:xfrm rot="500400">
                        <a:off x="7894440" y="590112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39" name=""/>
                    <p:cNvGrpSpPr/>
                    <p:nvPr/>
                  </p:nvGrpSpPr>
                  <p:grpSpPr>
                    <a:xfrm>
                      <a:off x="7920360" y="5927040"/>
                      <a:ext cx="220320" cy="288720"/>
                      <a:chOff x="7920360" y="5927040"/>
                      <a:chExt cx="220320" cy="288720"/>
                    </a:xfrm>
                  </p:grpSpPr>
                  <p:sp>
                    <p:nvSpPr>
                      <p:cNvPr id="740" name=""/>
                      <p:cNvSpPr/>
                      <p:nvPr/>
                    </p:nvSpPr>
                    <p:spPr>
                      <a:xfrm rot="951000">
                        <a:off x="7949880" y="5944320"/>
                        <a:ext cx="16128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1" name=""/>
                      <p:cNvSpPr/>
                      <p:nvPr/>
                    </p:nvSpPr>
                    <p:spPr>
                      <a:xfrm rot="951000">
                        <a:off x="7995960" y="595332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42" name=""/>
                    <p:cNvGrpSpPr/>
                    <p:nvPr/>
                  </p:nvGrpSpPr>
                  <p:grpSpPr>
                    <a:xfrm>
                      <a:off x="8053200" y="5977800"/>
                      <a:ext cx="269280" cy="299520"/>
                      <a:chOff x="8053200" y="5977800"/>
                      <a:chExt cx="269280" cy="299520"/>
                    </a:xfrm>
                  </p:grpSpPr>
                  <p:sp>
                    <p:nvSpPr>
                      <p:cNvPr id="743" name=""/>
                      <p:cNvSpPr/>
                      <p:nvPr/>
                    </p:nvSpPr>
                    <p:spPr>
                      <a:xfrm rot="2057400">
                        <a:off x="8106480" y="6002280"/>
                        <a:ext cx="162000" cy="24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4" name=""/>
                      <p:cNvSpPr/>
                      <p:nvPr/>
                    </p:nvSpPr>
                    <p:spPr>
                      <a:xfrm rot="2057400">
                        <a:off x="8146800" y="6015960"/>
                        <a:ext cx="104760" cy="253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45" name=""/>
                  <p:cNvGrpSpPr/>
                  <p:nvPr/>
                </p:nvGrpSpPr>
                <p:grpSpPr>
                  <a:xfrm>
                    <a:off x="7344000" y="5829480"/>
                    <a:ext cx="481320" cy="341280"/>
                    <a:chOff x="7344000" y="5829480"/>
                    <a:chExt cx="481320" cy="341280"/>
                  </a:xfrm>
                </p:grpSpPr>
                <p:grpSp>
                  <p:nvGrpSpPr>
                    <p:cNvPr id="746" name=""/>
                    <p:cNvGrpSpPr/>
                    <p:nvPr/>
                  </p:nvGrpSpPr>
                  <p:grpSpPr>
                    <a:xfrm>
                      <a:off x="7660080" y="5829480"/>
                      <a:ext cx="165240" cy="259200"/>
                      <a:chOff x="7660080" y="5829480"/>
                      <a:chExt cx="165240" cy="259200"/>
                    </a:xfrm>
                  </p:grpSpPr>
                  <p:sp>
                    <p:nvSpPr>
                      <p:cNvPr id="747" name=""/>
                      <p:cNvSpPr/>
                      <p:nvPr/>
                    </p:nvSpPr>
                    <p:spPr>
                      <a:xfrm flipH="1" rot="55200">
                        <a:off x="7661520" y="583056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8" name=""/>
                      <p:cNvSpPr/>
                      <p:nvPr/>
                    </p:nvSpPr>
                    <p:spPr>
                      <a:xfrm flipH="1" rot="55200">
                        <a:off x="7668000" y="583416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49" name=""/>
                    <p:cNvGrpSpPr/>
                    <p:nvPr/>
                  </p:nvGrpSpPr>
                  <p:grpSpPr>
                    <a:xfrm>
                      <a:off x="7539120" y="5855400"/>
                      <a:ext cx="188280" cy="272520"/>
                      <a:chOff x="7539120" y="5855400"/>
                      <a:chExt cx="188280" cy="272520"/>
                    </a:xfrm>
                  </p:grpSpPr>
                  <p:sp>
                    <p:nvSpPr>
                      <p:cNvPr id="750" name=""/>
                      <p:cNvSpPr/>
                      <p:nvPr/>
                    </p:nvSpPr>
                    <p:spPr>
                      <a:xfrm flipH="1" rot="21204600">
                        <a:off x="7552080" y="5863680"/>
                        <a:ext cx="161640" cy="23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1" name=""/>
                      <p:cNvSpPr/>
                      <p:nvPr/>
                    </p:nvSpPr>
                    <p:spPr>
                      <a:xfrm flipH="1" rot="21204600">
                        <a:off x="7560000" y="586944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2" name=""/>
                    <p:cNvGrpSpPr/>
                    <p:nvPr/>
                  </p:nvGrpSpPr>
                  <p:grpSpPr>
                    <a:xfrm>
                      <a:off x="7344000" y="5872680"/>
                      <a:ext cx="248040" cy="298080"/>
                      <a:chOff x="7344000" y="5872680"/>
                      <a:chExt cx="248040" cy="298080"/>
                    </a:xfrm>
                  </p:grpSpPr>
                  <p:sp>
                    <p:nvSpPr>
                      <p:cNvPr id="753" name=""/>
                      <p:cNvSpPr/>
                      <p:nvPr/>
                    </p:nvSpPr>
                    <p:spPr>
                      <a:xfrm flipH="1" rot="20098200">
                        <a:off x="7386840" y="589536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4" name=""/>
                      <p:cNvSpPr/>
                      <p:nvPr/>
                    </p:nvSpPr>
                    <p:spPr>
                      <a:xfrm flipH="1" rot="20098200">
                        <a:off x="7399800" y="590688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755" name=""/>
          <p:cNvSpPr/>
          <p:nvPr/>
        </p:nvSpPr>
        <p:spPr>
          <a:xfrm>
            <a:off x="6248520" y="6248520"/>
            <a:ext cx="1752480" cy="457200"/>
          </a:xfrm>
          <a:custGeom>
            <a:avLst/>
            <a:gdLst>
              <a:gd name="textAreaLeft" fmla="*/ 29520 w 1752480"/>
              <a:gd name="textAreaRight" fmla="*/ 1722960 w 1752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81346" y="1400"/>
                </a:lnTo>
                <a:lnTo>
                  <a:pt x="1400" y="140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81346" y="20200"/>
                </a:lnTo>
                <a:lnTo>
                  <a:pt x="81346" y="140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46" y="2020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казать 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52280" y="115920"/>
            <a:ext cx="888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з пункта В вышли одновременно в противоположных направлениях 2 пешехода. Скорость первого пешехода 3 км/ч, а скорость второго пешехода 5 км/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изменится расстояние между ними за 4 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ойдет ли встреч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2044800" y="3252600"/>
            <a:ext cx="2998440" cy="1178280"/>
            <a:chOff x="2044800" y="3252600"/>
            <a:chExt cx="2998440" cy="1178280"/>
          </a:xfrm>
        </p:grpSpPr>
        <p:sp>
          <p:nvSpPr>
            <p:cNvPr id="759" name=""/>
            <p:cNvSpPr/>
            <p:nvPr/>
          </p:nvSpPr>
          <p:spPr>
            <a:xfrm rot="21175800">
              <a:off x="2084400" y="3429000"/>
              <a:ext cx="2919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 </a:t>
              </a: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Arial"/>
                </a:rPr>
                <a:t>3 км/ч</a:t>
              </a:r>
              <a:r>
                <a:rPr b="1" i="1" lang="en-US" sz="4800" spc="-1" strike="noStrike">
                  <a:solidFill>
                    <a:srgbClr val="000099"/>
                  </a:solidFill>
                  <a:latin typeface="Arial"/>
                  <a:ea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08360" y="4224240"/>
              <a:ext cx="1477800" cy="169920"/>
            </a:xfrm>
            <a:custGeom>
              <a:avLst/>
              <a:gdLst/>
              <a:ahLst/>
              <a:rect l="l" t="t" r="r" b="b"/>
              <a:pathLst>
                <a:path w="931" h="107">
                  <a:moveTo>
                    <a:pt x="931" y="0"/>
                  </a:moveTo>
                  <a:lnTo>
                    <a:pt x="0" y="107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3750120" y="3380040"/>
            <a:ext cx="2902680" cy="952920"/>
            <a:chOff x="3750120" y="3380040"/>
            <a:chExt cx="2902680" cy="952920"/>
          </a:xfrm>
        </p:grpSpPr>
        <p:sp>
          <p:nvSpPr>
            <p:cNvPr id="762" name=""/>
            <p:cNvSpPr/>
            <p:nvPr/>
          </p:nvSpPr>
          <p:spPr>
            <a:xfrm rot="21175800">
              <a:off x="3779640" y="3535200"/>
              <a:ext cx="25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  </a:t>
              </a: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Arial"/>
                </a:rPr>
                <a:t>5 км/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41680" y="3965400"/>
              <a:ext cx="2211120" cy="255600"/>
            </a:xfrm>
            <a:custGeom>
              <a:avLst/>
              <a:gdLst/>
              <a:ahLst/>
              <a:rect l="l" t="t" r="r" b="b"/>
              <a:pathLst>
                <a:path w="1140" h="161">
                  <a:moveTo>
                    <a:pt x="0" y="161"/>
                  </a:moveTo>
                  <a:lnTo>
                    <a:pt x="1140" y="0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 rot="412800">
            <a:off x="4427640" y="4184280"/>
            <a:ext cx="690480" cy="118908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2"/>
          <a:stretch/>
        </p:blipFill>
        <p:spPr>
          <a:xfrm flipH="1" rot="20977800">
            <a:off x="3780000" y="4225680"/>
            <a:ext cx="73764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67" name=""/>
          <p:cNvGrpSpPr/>
          <p:nvPr/>
        </p:nvGrpSpPr>
        <p:grpSpPr>
          <a:xfrm>
            <a:off x="1828800" y="4648320"/>
            <a:ext cx="5638680" cy="1142640"/>
            <a:chOff x="1828800" y="4648320"/>
            <a:chExt cx="5638680" cy="1142640"/>
          </a:xfrm>
        </p:grpSpPr>
        <p:grpSp>
          <p:nvGrpSpPr>
            <p:cNvPr id="768" name=""/>
            <p:cNvGrpSpPr/>
            <p:nvPr/>
          </p:nvGrpSpPr>
          <p:grpSpPr>
            <a:xfrm>
              <a:off x="1828800" y="5410080"/>
              <a:ext cx="304560" cy="380880"/>
              <a:chOff x="1828800" y="5410080"/>
              <a:chExt cx="304560" cy="380880"/>
            </a:xfrm>
          </p:grpSpPr>
          <p:grpSp>
            <p:nvGrpSpPr>
              <p:cNvPr id="769" name=""/>
              <p:cNvGrpSpPr/>
              <p:nvPr/>
            </p:nvGrpSpPr>
            <p:grpSpPr>
              <a:xfrm>
                <a:off x="1828800" y="5664240"/>
                <a:ext cx="256680" cy="126720"/>
                <a:chOff x="1828800" y="5664240"/>
                <a:chExt cx="256680" cy="1267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1828800" y="5689440"/>
                  <a:ext cx="256680" cy="10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863720" y="5676840"/>
                  <a:ext cx="1983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887120" y="5664240"/>
                  <a:ext cx="140040" cy="3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3" name=""/>
              <p:cNvSpPr/>
              <p:nvPr/>
            </p:nvSpPr>
            <p:spPr>
              <a:xfrm>
                <a:off x="1956960" y="5410080"/>
                <a:ext cx="176400" cy="280440"/>
              </a:xfrm>
              <a:custGeom>
                <a:avLst/>
                <a:gdLst/>
                <a:ahLst/>
                <a:rect l="l" t="t" r="r" b="b"/>
                <a:pathLst>
                  <a:path w="454" h="544">
                    <a:moveTo>
                      <a:pt x="0" y="318"/>
                    </a:moveTo>
                    <a:lnTo>
                      <a:pt x="454" y="318"/>
                    </a:lnTo>
                    <a:lnTo>
                      <a:pt x="0" y="0"/>
                    </a:lnTo>
                    <a:lnTo>
                      <a:pt x="0" y="544"/>
                    </a:lnTo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7120080" y="4648320"/>
              <a:ext cx="347400" cy="380520"/>
              <a:chOff x="7120080" y="4648320"/>
              <a:chExt cx="347400" cy="380520"/>
            </a:xfrm>
          </p:grpSpPr>
          <p:grpSp>
            <p:nvGrpSpPr>
              <p:cNvPr id="775" name=""/>
              <p:cNvGrpSpPr/>
              <p:nvPr/>
            </p:nvGrpSpPr>
            <p:grpSpPr>
              <a:xfrm>
                <a:off x="7120080" y="4902120"/>
                <a:ext cx="292320" cy="126720"/>
                <a:chOff x="7120080" y="4902120"/>
                <a:chExt cx="292320" cy="1267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7120080" y="4927320"/>
                  <a:ext cx="292320" cy="10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7159680" y="4914720"/>
                  <a:ext cx="22572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7186320" y="4902120"/>
                  <a:ext cx="159480" cy="3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9" name=""/>
              <p:cNvSpPr/>
              <p:nvPr/>
            </p:nvSpPr>
            <p:spPr>
              <a:xfrm>
                <a:off x="7266240" y="4648320"/>
                <a:ext cx="201240" cy="280080"/>
              </a:xfrm>
              <a:custGeom>
                <a:avLst/>
                <a:gdLst/>
                <a:ahLst/>
                <a:rect l="l" t="t" r="r" b="b"/>
                <a:pathLst>
                  <a:path w="454" h="544">
                    <a:moveTo>
                      <a:pt x="0" y="318"/>
                    </a:moveTo>
                    <a:lnTo>
                      <a:pt x="454" y="318"/>
                    </a:lnTo>
                    <a:lnTo>
                      <a:pt x="0" y="0"/>
                    </a:lnTo>
                    <a:lnTo>
                      <a:pt x="0" y="544"/>
                    </a:lnTo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152280" y="4343400"/>
            <a:ext cx="8991360" cy="1752120"/>
            <a:chOff x="152280" y="4343400"/>
            <a:chExt cx="8991360" cy="1752120"/>
          </a:xfrm>
        </p:grpSpPr>
        <p:grpSp>
          <p:nvGrpSpPr>
            <p:cNvPr id="781" name=""/>
            <p:cNvGrpSpPr/>
            <p:nvPr/>
          </p:nvGrpSpPr>
          <p:grpSpPr>
            <a:xfrm>
              <a:off x="8796240" y="4343400"/>
              <a:ext cx="347400" cy="380520"/>
              <a:chOff x="8796240" y="4343400"/>
              <a:chExt cx="347400" cy="380520"/>
            </a:xfrm>
          </p:grpSpPr>
          <p:grpSp>
            <p:nvGrpSpPr>
              <p:cNvPr id="782" name=""/>
              <p:cNvGrpSpPr/>
              <p:nvPr/>
            </p:nvGrpSpPr>
            <p:grpSpPr>
              <a:xfrm>
                <a:off x="8796240" y="4597200"/>
                <a:ext cx="292680" cy="126720"/>
                <a:chOff x="8796240" y="4597200"/>
                <a:chExt cx="292680" cy="12672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8796240" y="4622400"/>
                  <a:ext cx="292680" cy="10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8836200" y="4609800"/>
                  <a:ext cx="22608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8862840" y="4597200"/>
                  <a:ext cx="159480" cy="3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6" name=""/>
              <p:cNvSpPr/>
              <p:nvPr/>
            </p:nvSpPr>
            <p:spPr>
              <a:xfrm>
                <a:off x="8942400" y="4343400"/>
                <a:ext cx="201240" cy="280080"/>
              </a:xfrm>
              <a:custGeom>
                <a:avLst/>
                <a:gdLst/>
                <a:ahLst/>
                <a:rect l="l" t="t" r="r" b="b"/>
                <a:pathLst>
                  <a:path w="454" h="544">
                    <a:moveTo>
                      <a:pt x="0" y="318"/>
                    </a:moveTo>
                    <a:lnTo>
                      <a:pt x="454" y="318"/>
                    </a:lnTo>
                    <a:lnTo>
                      <a:pt x="0" y="0"/>
                    </a:lnTo>
                    <a:lnTo>
                      <a:pt x="0" y="544"/>
                    </a:lnTo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152280" y="5715000"/>
              <a:ext cx="304560" cy="380520"/>
              <a:chOff x="152280" y="5715000"/>
              <a:chExt cx="304560" cy="38052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152280" y="5968800"/>
                <a:ext cx="256680" cy="126720"/>
                <a:chOff x="152280" y="5968800"/>
                <a:chExt cx="256680" cy="12672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152280" y="5994000"/>
                  <a:ext cx="256680" cy="10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87200" y="5981400"/>
                  <a:ext cx="1983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10600" y="5968800"/>
                  <a:ext cx="140040" cy="3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" name=""/>
              <p:cNvSpPr/>
              <p:nvPr/>
            </p:nvSpPr>
            <p:spPr>
              <a:xfrm>
                <a:off x="280440" y="5715000"/>
                <a:ext cx="176400" cy="280080"/>
              </a:xfrm>
              <a:custGeom>
                <a:avLst/>
                <a:gdLst/>
                <a:ahLst/>
                <a:rect l="l" t="t" r="r" b="b"/>
                <a:pathLst>
                  <a:path w="454" h="544">
                    <a:moveTo>
                      <a:pt x="0" y="318"/>
                    </a:moveTo>
                    <a:lnTo>
                      <a:pt x="454" y="318"/>
                    </a:lnTo>
                    <a:lnTo>
                      <a:pt x="0" y="0"/>
                    </a:lnTo>
                    <a:lnTo>
                      <a:pt x="0" y="544"/>
                    </a:lnTo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3" name=""/>
          <p:cNvGrpSpPr/>
          <p:nvPr/>
        </p:nvGrpSpPr>
        <p:grpSpPr>
          <a:xfrm>
            <a:off x="1066680" y="4495680"/>
            <a:ext cx="7238880" cy="1447560"/>
            <a:chOff x="1066680" y="4495680"/>
            <a:chExt cx="7238880" cy="1447560"/>
          </a:xfrm>
        </p:grpSpPr>
        <p:grpSp>
          <p:nvGrpSpPr>
            <p:cNvPr id="794" name=""/>
            <p:cNvGrpSpPr/>
            <p:nvPr/>
          </p:nvGrpSpPr>
          <p:grpSpPr>
            <a:xfrm>
              <a:off x="7958160" y="4495680"/>
              <a:ext cx="347400" cy="380880"/>
              <a:chOff x="7958160" y="4495680"/>
              <a:chExt cx="347400" cy="38088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7958160" y="4749840"/>
                <a:ext cx="292680" cy="126720"/>
                <a:chOff x="7958160" y="4749840"/>
                <a:chExt cx="292680" cy="1267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7958160" y="4775040"/>
                  <a:ext cx="292680" cy="10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7998120" y="4762440"/>
                  <a:ext cx="22608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8024760" y="4749840"/>
                  <a:ext cx="159480" cy="3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9" name=""/>
              <p:cNvSpPr/>
              <p:nvPr/>
            </p:nvSpPr>
            <p:spPr>
              <a:xfrm>
                <a:off x="8104320" y="4495680"/>
                <a:ext cx="201240" cy="280440"/>
              </a:xfrm>
              <a:custGeom>
                <a:avLst/>
                <a:gdLst/>
                <a:ahLst/>
                <a:rect l="l" t="t" r="r" b="b"/>
                <a:pathLst>
                  <a:path w="454" h="544">
                    <a:moveTo>
                      <a:pt x="0" y="318"/>
                    </a:moveTo>
                    <a:lnTo>
                      <a:pt x="454" y="318"/>
                    </a:lnTo>
                    <a:lnTo>
                      <a:pt x="0" y="0"/>
                    </a:lnTo>
                    <a:lnTo>
                      <a:pt x="0" y="544"/>
                    </a:lnTo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1066680" y="5562720"/>
              <a:ext cx="304560" cy="380520"/>
              <a:chOff x="1066680" y="5562720"/>
              <a:chExt cx="304560" cy="380520"/>
            </a:xfrm>
          </p:grpSpPr>
          <p:grpSp>
            <p:nvGrpSpPr>
              <p:cNvPr id="801" name=""/>
              <p:cNvGrpSpPr/>
              <p:nvPr/>
            </p:nvGrpSpPr>
            <p:grpSpPr>
              <a:xfrm>
                <a:off x="1066680" y="5816520"/>
                <a:ext cx="256680" cy="126720"/>
                <a:chOff x="1066680" y="5816520"/>
                <a:chExt cx="256680" cy="12672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1066680" y="5841720"/>
                  <a:ext cx="256680" cy="10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101600" y="5829120"/>
                  <a:ext cx="1983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125000" y="5816520"/>
                  <a:ext cx="140040" cy="3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5" name=""/>
              <p:cNvSpPr/>
              <p:nvPr/>
            </p:nvSpPr>
            <p:spPr>
              <a:xfrm>
                <a:off x="1194840" y="5562720"/>
                <a:ext cx="176400" cy="280080"/>
              </a:xfrm>
              <a:custGeom>
                <a:avLst/>
                <a:gdLst/>
                <a:ahLst/>
                <a:rect l="l" t="t" r="r" b="b"/>
                <a:pathLst>
                  <a:path w="454" h="544">
                    <a:moveTo>
                      <a:pt x="0" y="318"/>
                    </a:moveTo>
                    <a:lnTo>
                      <a:pt x="454" y="318"/>
                    </a:lnTo>
                    <a:lnTo>
                      <a:pt x="0" y="0"/>
                    </a:lnTo>
                    <a:lnTo>
                      <a:pt x="0" y="544"/>
                    </a:lnTo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6" name=""/>
          <p:cNvSpPr/>
          <p:nvPr/>
        </p:nvSpPr>
        <p:spPr>
          <a:xfrm>
            <a:off x="4356000" y="4149720"/>
            <a:ext cx="216000" cy="1224000"/>
          </a:xfrm>
          <a:prstGeom prst="line">
            <a:avLst/>
          </a:prstGeom>
          <a:ln w="2160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24000" y="4723920"/>
            <a:ext cx="8712000" cy="12970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rot="4871400">
            <a:off x="4443120" y="1350720"/>
            <a:ext cx="576360" cy="8812080"/>
          </a:xfrm>
          <a:custGeom>
            <a:avLst/>
            <a:gdLst>
              <a:gd name="textAreaLeft" fmla="*/ 0 w 576360"/>
              <a:gd name="textAreaRight" fmla="*/ 208080 w 576360"/>
              <a:gd name="textAreaTop" fmla="*/ 229680 h 8812080"/>
              <a:gd name="textAreaBottom" fmla="*/ 8582400 h 881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801720" y="2247840"/>
            <a:ext cx="3409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) V1 +V2 =Vуд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801720" y="2824200"/>
            <a:ext cx="3409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) Vуд. х t = 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5940360" y="2116080"/>
            <a:ext cx="15908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3300"/>
                    </a:gs>
                  </a:gsLst>
                  <a:lin ang="10800000"/>
                </a:gradFill>
                <a:latin typeface="Arial"/>
              </a:rPr>
              <a:t>28км =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108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3300"/>
                    </a:gs>
                  </a:gsLst>
                  <a:lin ang="10800000"/>
                </a:gradFill>
                <a:latin typeface="Arial"/>
              </a:rPr>
              <a:t>32 км =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108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3300"/>
                    </a:gs>
                  </a:gsLst>
                  <a:lin ang="10800000"/>
                </a:gradFill>
                <a:latin typeface="Arial"/>
              </a:rPr>
              <a:t>36 км =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596360" y="2133720"/>
            <a:ext cx="288720" cy="36036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667640" y="3357720"/>
            <a:ext cx="422280" cy="360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V="1" rot="12519600">
            <a:off x="7740360" y="2491560"/>
            <a:ext cx="290520" cy="58104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885080" y="2565360"/>
            <a:ext cx="287280" cy="57636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755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755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28476E-006 L -0.43403 0.08883 E">
                                      <p:cBhvr>
                                        <p:cTn id="384" dur="5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26556E-006 L 0.4507 -0.0812 E">
                                      <p:cBhvr>
                                        <p:cTn id="386" dur="5000" fill="hold"/>
                                        <p:tgtEl>
                                          <p:spTgt spid="7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evt="onClick">
                          <p:tgtEl>
                            <p:spTgt spid="755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2916360" y="2565360"/>
            <a:ext cx="4895640" cy="367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17" name=""/>
          <p:cNvSpPr txBox="1"/>
          <p:nvPr/>
        </p:nvSpPr>
        <p:spPr>
          <a:xfrm>
            <a:off x="1258920" y="476280"/>
            <a:ext cx="6481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ЕГИПЕТСКИЕ ПИРАМИДЫ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1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5337000"/>
            <a:ext cx="718920" cy="649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1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68360" y="4689360"/>
            <a:ext cx="718920" cy="614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2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68360" y="4076640"/>
            <a:ext cx="718920" cy="568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21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68360" y="3500280"/>
            <a:ext cx="718920" cy="487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22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68360" y="2421000"/>
            <a:ext cx="718920" cy="460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23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68360" y="1809720"/>
            <a:ext cx="718920" cy="53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24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468360" y="2924280"/>
            <a:ext cx="718920" cy="504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25" name=""/>
          <p:cNvSpPr/>
          <p:nvPr/>
        </p:nvSpPr>
        <p:spPr>
          <a:xfrm>
            <a:off x="250920" y="333360"/>
            <a:ext cx="8642160" cy="6120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84963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а грандиозная Египетская пирамида является древнейшим из Семи чудес древности. Кроме того, это единственное из чудес, сохранившееся до наших дней. Во времена своего создания Великая пирамида была самым высоким сооружением в мире. И удерживала она этот рекорд, по всей видимости, почти 4000 ле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АРСКАЯ ГРОБНИЦ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ликая пирамида была построена как гробница Хуфу, известного грекам как Хеопс. Он был одним из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араон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или царей древнего Египта, а его гробница была завершена в 2580 году до н.э. Позднее в Гизе было построено еще две пирамиды, для сына и внука Хуфу, а также меньшие по размерам пирамиды для их цариц. Пирамида Хуфу, самая дальняя на рисунке, является самой большой. Пирамида его сына находится в середине и смотрится выше, потому что стоит на более высоком мест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ОИТЕЛЬСТВО ПИРАМИД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рамиды стоят на древнем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ладбищ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 Гизе, на противоположном от Каира, столицы современного Египта, берегу реки Нил. Некоторы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рхеолог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читают, что, возможно, на строительство Великой пирамиды 100 000 человек потребовалось 20 лет. Она была создана из более чем 2 миллионов каменных блоков, каждый из которых весил не менее 2,5 тонн. Рабочие подтаскивали их к месту, используя пандусы, блоки и рычаги, а затем подгоняли друг к другу, без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аство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>
            <a:hlinkClick r:id="" action="ppaction://hlinkshowjump?jump=firstslide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7301" y="11202"/>
                </a:moveTo>
                <a:lnTo>
                  <a:pt x="17806" y="4196"/>
                </a:lnTo>
                <a:lnTo>
                  <a:pt x="17806" y="18209"/>
                </a:lnTo>
                <a:close/>
              </a:path>
              <a:path fill="darken" w="21600" h="22405">
                <a:moveTo>
                  <a:pt x="3794" y="4196"/>
                </a:moveTo>
                <a:lnTo>
                  <a:pt x="5456" y="4196"/>
                </a:lnTo>
                <a:lnTo>
                  <a:pt x="5456" y="18209"/>
                </a:lnTo>
                <a:lnTo>
                  <a:pt x="3794" y="1820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"/>
          <p:cNvGrpSpPr/>
          <p:nvPr/>
        </p:nvGrpSpPr>
        <p:grpSpPr>
          <a:xfrm>
            <a:off x="3048120" y="4419720"/>
            <a:ext cx="2619360" cy="850680"/>
            <a:chOff x="3048120" y="4419720"/>
            <a:chExt cx="2619360" cy="850680"/>
          </a:xfrm>
        </p:grpSpPr>
        <p:sp>
          <p:nvSpPr>
            <p:cNvPr id="829" name=""/>
            <p:cNvSpPr/>
            <p:nvPr/>
          </p:nvSpPr>
          <p:spPr>
            <a:xfrm>
              <a:off x="3048120" y="4502160"/>
              <a:ext cx="2619360" cy="384120"/>
            </a:xfrm>
            <a:custGeom>
              <a:avLst/>
              <a:gdLst/>
              <a:ahLst/>
              <a:rect l="l" t="t" r="r" b="b"/>
              <a:pathLst>
                <a:path w="1650" h="242">
                  <a:moveTo>
                    <a:pt x="480" y="242"/>
                  </a:moveTo>
                  <a:lnTo>
                    <a:pt x="0" y="242"/>
                  </a:lnTo>
                  <a:lnTo>
                    <a:pt x="192" y="2"/>
                  </a:lnTo>
                  <a:lnTo>
                    <a:pt x="1410" y="0"/>
                  </a:lnTo>
                  <a:lnTo>
                    <a:pt x="1650" y="232"/>
                  </a:lnTo>
                  <a:lnTo>
                    <a:pt x="1152" y="242"/>
                  </a:lnTo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146400" y="5267160"/>
              <a:ext cx="2406600" cy="3240"/>
            </a:xfrm>
            <a:custGeom>
              <a:avLst/>
              <a:gdLst/>
              <a:ahLst/>
              <a:rect l="l" t="t" r="r" b="b"/>
              <a:pathLst>
                <a:path w="1516" h="2">
                  <a:moveTo>
                    <a:pt x="1516" y="2"/>
                  </a:moveTo>
                  <a:lnTo>
                    <a:pt x="0" y="2"/>
                  </a:lnTo>
                  <a:lnTo>
                    <a:pt x="3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228840" y="4444920"/>
              <a:ext cx="2257560" cy="822240"/>
            </a:xfrm>
            <a:custGeom>
              <a:avLst/>
              <a:gdLst/>
              <a:ahLst/>
              <a:rect l="l" t="t" r="r" b="b"/>
              <a:pathLst>
                <a:path w="1422" h="518">
                  <a:moveTo>
                    <a:pt x="8" y="512"/>
                  </a:moveTo>
                  <a:lnTo>
                    <a:pt x="0" y="300"/>
                  </a:lnTo>
                  <a:lnTo>
                    <a:pt x="372" y="300"/>
                  </a:lnTo>
                  <a:lnTo>
                    <a:pt x="366" y="230"/>
                  </a:lnTo>
                  <a:lnTo>
                    <a:pt x="692" y="0"/>
                  </a:lnTo>
                  <a:lnTo>
                    <a:pt x="1024" y="208"/>
                  </a:lnTo>
                  <a:lnTo>
                    <a:pt x="1024" y="272"/>
                  </a:lnTo>
                  <a:lnTo>
                    <a:pt x="1422" y="278"/>
                  </a:lnTo>
                  <a:lnTo>
                    <a:pt x="1422" y="51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dddddd"/>
                </a:gs>
                <a:gs pos="100000">
                  <a:srgbClr val="ffffff"/>
                </a:gs>
              </a:gsLst>
              <a:lin ang="81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3352680" y="4962600"/>
              <a:ext cx="381240" cy="228240"/>
              <a:chOff x="3352680" y="4962600"/>
              <a:chExt cx="381240" cy="228240"/>
            </a:xfrm>
          </p:grpSpPr>
          <p:sp>
            <p:nvSpPr>
              <p:cNvPr id="833" name=""/>
              <p:cNvSpPr/>
              <p:nvPr/>
            </p:nvSpPr>
            <p:spPr>
              <a:xfrm>
                <a:off x="3352680" y="4962600"/>
                <a:ext cx="381240" cy="214920"/>
              </a:xfrm>
              <a:custGeom>
                <a:avLst/>
                <a:gdLst/>
                <a:ahLst/>
                <a:rect l="l" t="t" r="r" b="b"/>
                <a:pathLst>
                  <a:path w="240" h="96">
                    <a:moveTo>
                      <a:pt x="0" y="0"/>
                    </a:moveTo>
                    <a:lnTo>
                      <a:pt x="240" y="0"/>
                    </a:lnTo>
                    <a:lnTo>
                      <a:pt x="240" y="96"/>
                    </a:lnTo>
                    <a:lnTo>
                      <a:pt x="0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bfff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546360" y="4966560"/>
                <a:ext cx="1800" cy="215640"/>
              </a:xfrm>
              <a:custGeom>
                <a:avLst/>
                <a:gdLst/>
                <a:ahLst/>
                <a:rect l="l" t="t" r="r" b="b"/>
                <a:pathLst>
                  <a:path w="1" h="96">
                    <a:moveTo>
                      <a:pt x="0" y="0"/>
                    </a:moveTo>
                    <a:lnTo>
                      <a:pt x="0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444840" y="4966560"/>
                <a:ext cx="1800" cy="2242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1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41760" y="4966560"/>
                <a:ext cx="6480" cy="206280"/>
              </a:xfrm>
              <a:custGeom>
                <a:avLst/>
                <a:gdLst/>
                <a:ahLst/>
                <a:rect l="l" t="t" r="r" b="b"/>
                <a:pathLst>
                  <a:path w="4" h="92">
                    <a:moveTo>
                      <a:pt x="0" y="0"/>
                    </a:moveTo>
                    <a:lnTo>
                      <a:pt x="4" y="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4952880" y="4962600"/>
              <a:ext cx="381240" cy="228240"/>
              <a:chOff x="4952880" y="4962600"/>
              <a:chExt cx="381240" cy="228240"/>
            </a:xfrm>
          </p:grpSpPr>
          <p:sp>
            <p:nvSpPr>
              <p:cNvPr id="838" name=""/>
              <p:cNvSpPr/>
              <p:nvPr/>
            </p:nvSpPr>
            <p:spPr>
              <a:xfrm>
                <a:off x="4952880" y="4962600"/>
                <a:ext cx="381240" cy="214920"/>
              </a:xfrm>
              <a:custGeom>
                <a:avLst/>
                <a:gdLst/>
                <a:ahLst/>
                <a:rect l="l" t="t" r="r" b="b"/>
                <a:pathLst>
                  <a:path w="240" h="96">
                    <a:moveTo>
                      <a:pt x="0" y="0"/>
                    </a:moveTo>
                    <a:lnTo>
                      <a:pt x="240" y="0"/>
                    </a:lnTo>
                    <a:lnTo>
                      <a:pt x="240" y="96"/>
                    </a:lnTo>
                    <a:lnTo>
                      <a:pt x="0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bfff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146560" y="4966560"/>
                <a:ext cx="1800" cy="215640"/>
              </a:xfrm>
              <a:custGeom>
                <a:avLst/>
                <a:gdLst/>
                <a:ahLst/>
                <a:rect l="l" t="t" r="r" b="b"/>
                <a:pathLst>
                  <a:path w="1" h="96">
                    <a:moveTo>
                      <a:pt x="0" y="0"/>
                    </a:moveTo>
                    <a:lnTo>
                      <a:pt x="0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045040" y="4966560"/>
                <a:ext cx="1800" cy="2242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1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241960" y="4966560"/>
                <a:ext cx="6480" cy="206280"/>
              </a:xfrm>
              <a:custGeom>
                <a:avLst/>
                <a:gdLst/>
                <a:ahLst/>
                <a:rect l="l" t="t" r="r" b="b"/>
                <a:pathLst>
                  <a:path w="4" h="92">
                    <a:moveTo>
                      <a:pt x="0" y="0"/>
                    </a:moveTo>
                    <a:lnTo>
                      <a:pt x="4" y="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2" name=""/>
            <p:cNvSpPr/>
            <p:nvPr/>
          </p:nvSpPr>
          <p:spPr>
            <a:xfrm>
              <a:off x="3990960" y="4959360"/>
              <a:ext cx="657360" cy="311040"/>
            </a:xfrm>
            <a:custGeom>
              <a:avLst/>
              <a:gdLst/>
              <a:ahLst/>
              <a:rect l="l" t="t" r="r" b="b"/>
              <a:pathLst>
                <a:path w="414" h="196">
                  <a:moveTo>
                    <a:pt x="0" y="196"/>
                  </a:moveTo>
                  <a:cubicBezTo>
                    <a:pt x="0" y="191"/>
                    <a:pt x="0" y="185"/>
                    <a:pt x="0" y="180"/>
                  </a:cubicBezTo>
                  <a:lnTo>
                    <a:pt x="0" y="0"/>
                  </a:lnTo>
                  <a:lnTo>
                    <a:pt x="414" y="2"/>
                  </a:lnTo>
                  <a:lnTo>
                    <a:pt x="414" y="194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14800" y="4962600"/>
              <a:ext cx="457200" cy="3045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192"/>
                  </a:moveTo>
                  <a:lnTo>
                    <a:pt x="0" y="0"/>
                  </a:lnTo>
                  <a:lnTo>
                    <a:pt x="288" y="0"/>
                  </a:lnTo>
                  <a:lnTo>
                    <a:pt x="288" y="19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267080" y="5038560"/>
              <a:ext cx="152640" cy="22860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144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96" y="144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"/>
            <p:cNvGrpSpPr/>
            <p:nvPr/>
          </p:nvGrpSpPr>
          <p:grpSpPr>
            <a:xfrm>
              <a:off x="4187880" y="4581360"/>
              <a:ext cx="307800" cy="304560"/>
              <a:chOff x="4187880" y="4581360"/>
              <a:chExt cx="307800" cy="304560"/>
            </a:xfrm>
          </p:grpSpPr>
          <p:sp>
            <p:nvSpPr>
              <p:cNvPr id="846" name=""/>
              <p:cNvSpPr/>
              <p:nvPr/>
            </p:nvSpPr>
            <p:spPr>
              <a:xfrm>
                <a:off x="4210200" y="4591800"/>
                <a:ext cx="280800" cy="158760"/>
              </a:xfrm>
              <a:custGeom>
                <a:avLst/>
                <a:gdLst/>
                <a:ahLst/>
                <a:rect l="l" t="t" r="r" b="b"/>
                <a:pathLst>
                  <a:path w="177" h="75">
                    <a:moveTo>
                      <a:pt x="0" y="69"/>
                    </a:moveTo>
                    <a:cubicBezTo>
                      <a:pt x="8" y="75"/>
                      <a:pt x="55" y="70"/>
                      <a:pt x="84" y="69"/>
                    </a:cubicBezTo>
                    <a:cubicBezTo>
                      <a:pt x="113" y="68"/>
                      <a:pt x="175" y="72"/>
                      <a:pt x="176" y="61"/>
                    </a:cubicBezTo>
                    <a:cubicBezTo>
                      <a:pt x="177" y="50"/>
                      <a:pt x="115" y="10"/>
                      <a:pt x="88" y="5"/>
                    </a:cubicBezTo>
                    <a:cubicBezTo>
                      <a:pt x="61" y="0"/>
                      <a:pt x="31" y="22"/>
                      <a:pt x="16" y="33"/>
                    </a:cubicBezTo>
                    <a:cubicBezTo>
                      <a:pt x="1" y="44"/>
                      <a:pt x="3" y="62"/>
                      <a:pt x="0" y="6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bfff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187880" y="4581360"/>
                <a:ext cx="304920" cy="304560"/>
              </a:xfrm>
              <a:prstGeom prst="blockArc">
                <a:avLst>
                  <a:gd name="adj1" fmla="val 10800000"/>
                  <a:gd name="adj2" fmla="val 0"/>
                  <a:gd name="adj3" fmla="val 1041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197240" y="4685040"/>
                <a:ext cx="298440" cy="53280"/>
              </a:xfrm>
              <a:custGeom>
                <a:avLst/>
                <a:gdLst/>
                <a:ahLst/>
                <a:rect l="l" t="t" r="r" b="b"/>
                <a:pathLst>
                  <a:path w="188" h="25">
                    <a:moveTo>
                      <a:pt x="0" y="25"/>
                    </a:moveTo>
                    <a:lnTo>
                      <a:pt x="188" y="25"/>
                    </a:lnTo>
                    <a:lnTo>
                      <a:pt x="18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337280" y="4610880"/>
                <a:ext cx="75960" cy="12708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0" y="0"/>
                    </a:moveTo>
                    <a:lnTo>
                      <a:pt x="0" y="60"/>
                    </a:lnTo>
                    <a:lnTo>
                      <a:pt x="48" y="1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248360" y="4653360"/>
                <a:ext cx="101520" cy="8496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0" y="0"/>
                    </a:moveTo>
                    <a:lnTo>
                      <a:pt x="64" y="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3311640" y="4581360"/>
              <a:ext cx="368280" cy="304920"/>
              <a:chOff x="3311640" y="4581360"/>
              <a:chExt cx="368280" cy="304920"/>
            </a:xfrm>
          </p:grpSpPr>
          <p:sp>
            <p:nvSpPr>
              <p:cNvPr id="852" name=""/>
              <p:cNvSpPr/>
              <p:nvPr/>
            </p:nvSpPr>
            <p:spPr>
              <a:xfrm>
                <a:off x="3336840" y="4581360"/>
                <a:ext cx="324000" cy="212760"/>
              </a:xfrm>
              <a:custGeom>
                <a:avLst/>
                <a:gdLst/>
                <a:ahLst/>
                <a:rect l="l" t="t" r="r" b="b"/>
                <a:pathLst>
                  <a:path w="204" h="134">
                    <a:moveTo>
                      <a:pt x="4" y="134"/>
                    </a:moveTo>
                    <a:lnTo>
                      <a:pt x="204" y="134"/>
                    </a:lnTo>
                    <a:lnTo>
                      <a:pt x="202" y="96"/>
                    </a:lnTo>
                    <a:lnTo>
                      <a:pt x="106" y="0"/>
                    </a:lnTo>
                    <a:lnTo>
                      <a:pt x="0" y="86"/>
                    </a:lnTo>
                    <a:lnTo>
                      <a:pt x="4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11640" y="4581360"/>
                <a:ext cx="368280" cy="168480"/>
              </a:xfrm>
              <a:custGeom>
                <a:avLst/>
                <a:gdLst/>
                <a:ahLst/>
                <a:rect l="l" t="t" r="r" b="b"/>
                <a:pathLst>
                  <a:path w="232" h="106">
                    <a:moveTo>
                      <a:pt x="0" y="102"/>
                    </a:moveTo>
                    <a:lnTo>
                      <a:pt x="122" y="0"/>
                    </a:lnTo>
                    <a:lnTo>
                      <a:pt x="232" y="10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3429000" y="4657680"/>
                <a:ext cx="151920" cy="228600"/>
                <a:chOff x="3429000" y="4657680"/>
                <a:chExt cx="151920" cy="22860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3439800" y="4665600"/>
                  <a:ext cx="138960" cy="119160"/>
                </a:xfrm>
                <a:custGeom>
                  <a:avLst/>
                  <a:gdLst/>
                  <a:ahLst/>
                  <a:rect l="l" t="t" r="r" b="b"/>
                  <a:pathLst>
                    <a:path w="177" h="75">
                      <a:moveTo>
                        <a:pt x="0" y="69"/>
                      </a:moveTo>
                      <a:cubicBezTo>
                        <a:pt x="8" y="75"/>
                        <a:pt x="55" y="70"/>
                        <a:pt x="84" y="69"/>
                      </a:cubicBezTo>
                      <a:cubicBezTo>
                        <a:pt x="113" y="68"/>
                        <a:pt x="175" y="72"/>
                        <a:pt x="176" y="61"/>
                      </a:cubicBezTo>
                      <a:cubicBezTo>
                        <a:pt x="177" y="50"/>
                        <a:pt x="115" y="10"/>
                        <a:pt x="88" y="5"/>
                      </a:cubicBezTo>
                      <a:cubicBezTo>
                        <a:pt x="61" y="0"/>
                        <a:pt x="31" y="22"/>
                        <a:pt x="16" y="33"/>
                      </a:cubicBezTo>
                      <a:cubicBezTo>
                        <a:pt x="1" y="44"/>
                        <a:pt x="3" y="62"/>
                        <a:pt x="0" y="6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bfffb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3429000" y="4657680"/>
                  <a:ext cx="150840" cy="228600"/>
                </a:xfrm>
                <a:prstGeom prst="blockArc">
                  <a:avLst>
                    <a:gd name="adj1" fmla="val 10800000"/>
                    <a:gd name="adj2" fmla="val 0"/>
                    <a:gd name="adj3" fmla="val 10417"/>
                  </a:avLst>
                </a:prstGeom>
                <a:solidFill>
                  <a:srgbClr val="bbe0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3433320" y="4735440"/>
                  <a:ext cx="147600" cy="39960"/>
                </a:xfrm>
                <a:custGeom>
                  <a:avLst/>
                  <a:gdLst/>
                  <a:ahLst/>
                  <a:rect l="l" t="t" r="r" b="b"/>
                  <a:pathLst>
                    <a:path w="188" h="25">
                      <a:moveTo>
                        <a:pt x="0" y="25"/>
                      </a:moveTo>
                      <a:lnTo>
                        <a:pt x="188" y="25"/>
                      </a:lnTo>
                      <a:lnTo>
                        <a:pt x="186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3502800" y="4680000"/>
                  <a:ext cx="37440" cy="95400"/>
                </a:xfrm>
                <a:custGeom>
                  <a:avLst/>
                  <a:gdLst/>
                  <a:ahLst/>
                  <a:rect l="l" t="t" r="r" b="b"/>
                  <a:pathLst>
                    <a:path w="48" h="60">
                      <a:moveTo>
                        <a:pt x="0" y="0"/>
                      </a:moveTo>
                      <a:lnTo>
                        <a:pt x="0" y="60"/>
                      </a:lnTo>
                      <a:lnTo>
                        <a:pt x="48" y="16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3458880" y="4711680"/>
                  <a:ext cx="50040" cy="63720"/>
                </a:xfrm>
                <a:custGeom>
                  <a:avLst/>
                  <a:gdLst/>
                  <a:ahLst/>
                  <a:rect l="l" t="t" r="r" b="b"/>
                  <a:pathLst>
                    <a:path w="64" h="40">
                      <a:moveTo>
                        <a:pt x="0" y="0"/>
                      </a:moveTo>
                      <a:lnTo>
                        <a:pt x="64" y="4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0" name=""/>
            <p:cNvSpPr/>
            <p:nvPr/>
          </p:nvSpPr>
          <p:spPr>
            <a:xfrm>
              <a:off x="3908520" y="4883040"/>
              <a:ext cx="815760" cy="79560"/>
            </a:xfrm>
            <a:custGeom>
              <a:avLst/>
              <a:gdLst/>
              <a:ahLst/>
              <a:rect l="l" t="t" r="r" b="b"/>
              <a:pathLst>
                <a:path w="514" h="50">
                  <a:moveTo>
                    <a:pt x="0" y="48"/>
                  </a:moveTo>
                  <a:lnTo>
                    <a:pt x="514" y="50"/>
                  </a:lnTo>
                  <a:lnTo>
                    <a:pt x="452" y="0"/>
                  </a:lnTo>
                  <a:lnTo>
                    <a:pt x="82" y="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c8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51000" y="4908600"/>
              <a:ext cx="762120" cy="1440"/>
            </a:xfrm>
            <a:custGeom>
              <a:avLst/>
              <a:gdLst/>
              <a:ahLst/>
              <a:rect l="l" t="t" r="r" b="b"/>
              <a:pathLst>
                <a:path w="480" h="1">
                  <a:moveTo>
                    <a:pt x="48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48120" y="4883040"/>
              <a:ext cx="819360" cy="6480"/>
            </a:xfrm>
            <a:custGeom>
              <a:avLst/>
              <a:gdLst/>
              <a:ahLst/>
              <a:rect l="l" t="t" r="r" b="b"/>
              <a:pathLst>
                <a:path w="516" h="4">
                  <a:moveTo>
                    <a:pt x="516" y="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4952880" y="4581360"/>
              <a:ext cx="368280" cy="304920"/>
              <a:chOff x="4952880" y="4581360"/>
              <a:chExt cx="368280" cy="304920"/>
            </a:xfrm>
          </p:grpSpPr>
          <p:sp>
            <p:nvSpPr>
              <p:cNvPr id="864" name=""/>
              <p:cNvSpPr/>
              <p:nvPr/>
            </p:nvSpPr>
            <p:spPr>
              <a:xfrm>
                <a:off x="4978080" y="4581360"/>
                <a:ext cx="324000" cy="212760"/>
              </a:xfrm>
              <a:custGeom>
                <a:avLst/>
                <a:gdLst/>
                <a:ahLst/>
                <a:rect l="l" t="t" r="r" b="b"/>
                <a:pathLst>
                  <a:path w="204" h="134">
                    <a:moveTo>
                      <a:pt x="4" y="134"/>
                    </a:moveTo>
                    <a:lnTo>
                      <a:pt x="204" y="134"/>
                    </a:lnTo>
                    <a:lnTo>
                      <a:pt x="202" y="96"/>
                    </a:lnTo>
                    <a:lnTo>
                      <a:pt x="106" y="0"/>
                    </a:lnTo>
                    <a:lnTo>
                      <a:pt x="0" y="86"/>
                    </a:lnTo>
                    <a:lnTo>
                      <a:pt x="4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952880" y="4581360"/>
                <a:ext cx="368280" cy="168480"/>
              </a:xfrm>
              <a:custGeom>
                <a:avLst/>
                <a:gdLst/>
                <a:ahLst/>
                <a:rect l="l" t="t" r="r" b="b"/>
                <a:pathLst>
                  <a:path w="232" h="106">
                    <a:moveTo>
                      <a:pt x="0" y="102"/>
                    </a:moveTo>
                    <a:lnTo>
                      <a:pt x="122" y="0"/>
                    </a:lnTo>
                    <a:lnTo>
                      <a:pt x="232" y="10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"/>
              <p:cNvGrpSpPr/>
              <p:nvPr/>
            </p:nvGrpSpPr>
            <p:grpSpPr>
              <a:xfrm>
                <a:off x="5070240" y="4657680"/>
                <a:ext cx="151920" cy="228600"/>
                <a:chOff x="5070240" y="4657680"/>
                <a:chExt cx="151920" cy="22860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5081040" y="4665600"/>
                  <a:ext cx="138960" cy="119160"/>
                </a:xfrm>
                <a:custGeom>
                  <a:avLst/>
                  <a:gdLst/>
                  <a:ahLst/>
                  <a:rect l="l" t="t" r="r" b="b"/>
                  <a:pathLst>
                    <a:path w="177" h="75">
                      <a:moveTo>
                        <a:pt x="0" y="69"/>
                      </a:moveTo>
                      <a:cubicBezTo>
                        <a:pt x="8" y="75"/>
                        <a:pt x="55" y="70"/>
                        <a:pt x="84" y="69"/>
                      </a:cubicBezTo>
                      <a:cubicBezTo>
                        <a:pt x="113" y="68"/>
                        <a:pt x="175" y="72"/>
                        <a:pt x="176" y="61"/>
                      </a:cubicBezTo>
                      <a:cubicBezTo>
                        <a:pt x="177" y="50"/>
                        <a:pt x="115" y="10"/>
                        <a:pt x="88" y="5"/>
                      </a:cubicBezTo>
                      <a:cubicBezTo>
                        <a:pt x="61" y="0"/>
                        <a:pt x="31" y="22"/>
                        <a:pt x="16" y="33"/>
                      </a:cubicBezTo>
                      <a:cubicBezTo>
                        <a:pt x="1" y="44"/>
                        <a:pt x="3" y="62"/>
                        <a:pt x="0" y="6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bfffb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070240" y="4657680"/>
                  <a:ext cx="150840" cy="228600"/>
                </a:xfrm>
                <a:prstGeom prst="blockArc">
                  <a:avLst>
                    <a:gd name="adj1" fmla="val 10800000"/>
                    <a:gd name="adj2" fmla="val 0"/>
                    <a:gd name="adj3" fmla="val 10417"/>
                  </a:avLst>
                </a:prstGeom>
                <a:solidFill>
                  <a:srgbClr val="bbe0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074560" y="4735440"/>
                  <a:ext cx="147600" cy="39960"/>
                </a:xfrm>
                <a:custGeom>
                  <a:avLst/>
                  <a:gdLst/>
                  <a:ahLst/>
                  <a:rect l="l" t="t" r="r" b="b"/>
                  <a:pathLst>
                    <a:path w="188" h="25">
                      <a:moveTo>
                        <a:pt x="0" y="25"/>
                      </a:moveTo>
                      <a:lnTo>
                        <a:pt x="188" y="25"/>
                      </a:lnTo>
                      <a:lnTo>
                        <a:pt x="186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144040" y="4680000"/>
                  <a:ext cx="37440" cy="95400"/>
                </a:xfrm>
                <a:custGeom>
                  <a:avLst/>
                  <a:gdLst/>
                  <a:ahLst/>
                  <a:rect l="l" t="t" r="r" b="b"/>
                  <a:pathLst>
                    <a:path w="48" h="60">
                      <a:moveTo>
                        <a:pt x="0" y="0"/>
                      </a:moveTo>
                      <a:lnTo>
                        <a:pt x="0" y="60"/>
                      </a:lnTo>
                      <a:lnTo>
                        <a:pt x="48" y="16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100120" y="4711680"/>
                  <a:ext cx="50040" cy="63720"/>
                </a:xfrm>
                <a:custGeom>
                  <a:avLst/>
                  <a:gdLst/>
                  <a:ahLst/>
                  <a:rect l="l" t="t" r="r" b="b"/>
                  <a:pathLst>
                    <a:path w="64" h="40">
                      <a:moveTo>
                        <a:pt x="0" y="0"/>
                      </a:moveTo>
                      <a:lnTo>
                        <a:pt x="64" y="4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2" name=""/>
            <p:cNvSpPr/>
            <p:nvPr/>
          </p:nvSpPr>
          <p:spPr>
            <a:xfrm>
              <a:off x="3819600" y="4800600"/>
              <a:ext cx="1440" cy="463680"/>
            </a:xfrm>
            <a:custGeom>
              <a:avLst/>
              <a:gdLst/>
              <a:ahLst/>
              <a:rect l="l" t="t" r="r" b="b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854600" y="4781520"/>
              <a:ext cx="6480" cy="488880"/>
            </a:xfrm>
            <a:custGeom>
              <a:avLst/>
              <a:gdLst/>
              <a:ahLst/>
              <a:rect l="l" t="t" r="r" b="b"/>
              <a:pathLst>
                <a:path w="4" h="308">
                  <a:moveTo>
                    <a:pt x="0" y="0"/>
                  </a:moveTo>
                  <a:lnTo>
                    <a:pt x="4" y="30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3280" y="4419720"/>
              <a:ext cx="1200240" cy="425160"/>
            </a:xfrm>
            <a:custGeom>
              <a:avLst/>
              <a:gdLst/>
              <a:ahLst/>
              <a:rect l="l" t="t" r="r" b="b"/>
              <a:pathLst>
                <a:path w="756" h="268">
                  <a:moveTo>
                    <a:pt x="0" y="268"/>
                  </a:moveTo>
                  <a:lnTo>
                    <a:pt x="368" y="0"/>
                  </a:lnTo>
                  <a:lnTo>
                    <a:pt x="756" y="25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"/>
          <p:cNvSpPr/>
          <p:nvPr/>
        </p:nvSpPr>
        <p:spPr>
          <a:xfrm>
            <a:off x="257040" y="1219320"/>
            <a:ext cx="888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т одной пристани одновременно в противоположных направлениях отплыли два катера. Через 3 ч расстояние между ними стало равно 168 км. Найди скорость второго катера, если известно, что скорость первого катера составляет 25 км/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-131760" y="5172120"/>
            <a:ext cx="9275760" cy="1685880"/>
            <a:chOff x="-131760" y="5172120"/>
            <a:chExt cx="9275760" cy="1685880"/>
          </a:xfrm>
        </p:grpSpPr>
        <p:grpSp>
          <p:nvGrpSpPr>
            <p:cNvPr id="877" name=""/>
            <p:cNvGrpSpPr/>
            <p:nvPr/>
          </p:nvGrpSpPr>
          <p:grpSpPr>
            <a:xfrm>
              <a:off x="-77040" y="5172120"/>
              <a:ext cx="9218520" cy="248760"/>
              <a:chOff x="-77040" y="5172120"/>
              <a:chExt cx="9218520" cy="248760"/>
            </a:xfrm>
          </p:grpSpPr>
          <p:sp>
            <p:nvSpPr>
              <p:cNvPr id="878" name=""/>
              <p:cNvSpPr/>
              <p:nvPr/>
            </p:nvSpPr>
            <p:spPr>
              <a:xfrm flipH="1" rot="27600">
                <a:off x="-76320" y="5181480"/>
                <a:ext cx="2324160" cy="17604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 rot="27600">
                <a:off x="2225160" y="5199120"/>
                <a:ext cx="2324160" cy="17604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 rot="27600">
                <a:off x="4514400" y="5217840"/>
                <a:ext cx="2324160" cy="1764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 rot="27600">
                <a:off x="6816240" y="5235480"/>
                <a:ext cx="2324160" cy="17604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>
              <a:off x="-131760" y="5333760"/>
              <a:ext cx="9275760" cy="152424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33ccff"/>
                </a:gs>
                <a:gs pos="100000">
                  <a:srgbClr val="66ffff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808600" y="400680"/>
            <a:ext cx="2712600" cy="2019960"/>
            <a:chOff x="5808600" y="400680"/>
            <a:chExt cx="2712600" cy="2019960"/>
          </a:xfrm>
        </p:grpSpPr>
        <p:sp>
          <p:nvSpPr>
            <p:cNvPr id="884" name=""/>
            <p:cNvSpPr/>
            <p:nvPr/>
          </p:nvSpPr>
          <p:spPr>
            <a:xfrm rot="19272600">
              <a:off x="7324560" y="597240"/>
              <a:ext cx="986760" cy="1017720"/>
            </a:xfrm>
            <a:custGeom>
              <a:avLst/>
              <a:gdLst/>
              <a:ahLst/>
              <a:rect l="l" t="t" r="r" b="b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19272600">
              <a:off x="6552360" y="885600"/>
              <a:ext cx="1155600" cy="985320"/>
            </a:xfrm>
            <a:custGeom>
              <a:avLst/>
              <a:gdLst/>
              <a:ahLst/>
              <a:rect l="l" t="t" r="r" b="b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19272600">
              <a:off x="5943600" y="1374120"/>
              <a:ext cx="1056960" cy="803880"/>
            </a:xfrm>
            <a:custGeom>
              <a:avLst/>
              <a:gdLst/>
              <a:ahLst/>
              <a:rect l="l" t="t" r="r" b="b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1139760" y="-56520"/>
            <a:ext cx="2712600" cy="2019960"/>
            <a:chOff x="1139760" y="-56520"/>
            <a:chExt cx="2712600" cy="2019960"/>
          </a:xfrm>
        </p:grpSpPr>
        <p:sp>
          <p:nvSpPr>
            <p:cNvPr id="888" name=""/>
            <p:cNvSpPr/>
            <p:nvPr/>
          </p:nvSpPr>
          <p:spPr>
            <a:xfrm rot="19272600">
              <a:off x="2655720" y="140040"/>
              <a:ext cx="986760" cy="1017720"/>
            </a:xfrm>
            <a:custGeom>
              <a:avLst/>
              <a:gdLst/>
              <a:ahLst/>
              <a:rect l="l" t="t" r="r" b="b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9272600">
              <a:off x="1883520" y="428400"/>
              <a:ext cx="1155600" cy="985320"/>
            </a:xfrm>
            <a:custGeom>
              <a:avLst/>
              <a:gdLst/>
              <a:ahLst/>
              <a:rect l="l" t="t" r="r" b="b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9272600">
              <a:off x="1274760" y="916920"/>
              <a:ext cx="1056960" cy="803880"/>
            </a:xfrm>
            <a:custGeom>
              <a:avLst/>
              <a:gdLst/>
              <a:ahLst/>
              <a:rect l="l" t="t" r="r" b="b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2992320" y="483120"/>
            <a:ext cx="2712600" cy="2019960"/>
            <a:chOff x="2992320" y="483120"/>
            <a:chExt cx="2712600" cy="2019960"/>
          </a:xfrm>
        </p:grpSpPr>
        <p:sp>
          <p:nvSpPr>
            <p:cNvPr id="892" name=""/>
            <p:cNvSpPr/>
            <p:nvPr/>
          </p:nvSpPr>
          <p:spPr>
            <a:xfrm rot="19272600">
              <a:off x="4508280" y="679680"/>
              <a:ext cx="986760" cy="1017720"/>
            </a:xfrm>
            <a:custGeom>
              <a:avLst/>
              <a:gdLst/>
              <a:ahLst/>
              <a:rect l="l" t="t" r="r" b="b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19272600">
              <a:off x="3736080" y="968040"/>
              <a:ext cx="1155600" cy="985320"/>
            </a:xfrm>
            <a:custGeom>
              <a:avLst/>
              <a:gdLst/>
              <a:ahLst/>
              <a:rect l="l" t="t" r="r" b="b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19272600">
              <a:off x="3127320" y="1456560"/>
              <a:ext cx="1056960" cy="803880"/>
            </a:xfrm>
            <a:custGeom>
              <a:avLst/>
              <a:gdLst/>
              <a:ahLst/>
              <a:rect l="l" t="t" r="r" b="b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6845400" y="237960"/>
            <a:ext cx="2154240" cy="676440"/>
          </a:xfrm>
          <a:prstGeom prst="cloudCallout">
            <a:avLst>
              <a:gd name="adj1" fmla="val -14703"/>
              <a:gd name="adj2" fmla="val 43425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452480" y="32464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16000" y="4267080"/>
            <a:ext cx="8762760" cy="1257480"/>
          </a:xfrm>
          <a:custGeom>
            <a:avLst/>
            <a:gdLst/>
            <a:ahLst/>
            <a:rect l="l" t="t" r="r" b="b"/>
            <a:pathLst>
              <a:path w="5520" h="792">
                <a:moveTo>
                  <a:pt x="2600" y="32"/>
                </a:moveTo>
                <a:lnTo>
                  <a:pt x="2592" y="792"/>
                </a:lnTo>
                <a:lnTo>
                  <a:pt x="0" y="792"/>
                </a:lnTo>
                <a:lnTo>
                  <a:pt x="5520" y="792"/>
                </a:lnTo>
                <a:lnTo>
                  <a:pt x="2656" y="792"/>
                </a:lnTo>
                <a:lnTo>
                  <a:pt x="2656" y="792"/>
                </a:lnTo>
                <a:lnTo>
                  <a:pt x="2648" y="0"/>
                </a:ln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>
            <a:hlinkClick r:id="" action="ppaction://hlinkshowjump?jump=nextslide"/>
          </p:cNvPr>
          <p:cNvSpPr/>
          <p:nvPr/>
        </p:nvSpPr>
        <p:spPr>
          <a:xfrm>
            <a:off x="8458200" y="6248520"/>
            <a:ext cx="469800" cy="46836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66" h="21600">
                <a:moveTo>
                  <a:pt x="0" y="0"/>
                </a:moveTo>
                <a:lnTo>
                  <a:pt x="21666" y="0"/>
                </a:lnTo>
                <a:lnTo>
                  <a:pt x="21666" y="21600"/>
                </a:lnTo>
                <a:lnTo>
                  <a:pt x="0" y="21600"/>
                </a:lnTo>
                <a:close/>
              </a:path>
              <a:path fill="lightenLess" w="21666" h="21600">
                <a:moveTo>
                  <a:pt x="0" y="0"/>
                </a:moveTo>
                <a:lnTo>
                  <a:pt x="21666" y="0"/>
                </a:lnTo>
                <a:lnTo>
                  <a:pt x="20266" y="1400"/>
                </a:lnTo>
                <a:lnTo>
                  <a:pt x="1400" y="1400"/>
                </a:lnTo>
                <a:close/>
              </a:path>
              <a:path fill="darken" w="21666" h="21600">
                <a:moveTo>
                  <a:pt x="21666" y="0"/>
                </a:moveTo>
                <a:lnTo>
                  <a:pt x="21666" y="21600"/>
                </a:lnTo>
                <a:lnTo>
                  <a:pt x="20266" y="20200"/>
                </a:lnTo>
                <a:lnTo>
                  <a:pt x="20266" y="1400"/>
                </a:lnTo>
                <a:close/>
              </a:path>
              <a:path fill="darkenLess" w="21666" h="21600">
                <a:moveTo>
                  <a:pt x="21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6" y="20200"/>
                </a:lnTo>
                <a:close/>
              </a:path>
              <a:path fill="lighten" w="21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6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2972160" y="3581280"/>
            <a:ext cx="1599480" cy="687600"/>
            <a:chOff x="2972160" y="3581280"/>
            <a:chExt cx="1599480" cy="687600"/>
          </a:xfrm>
        </p:grpSpPr>
        <p:sp>
          <p:nvSpPr>
            <p:cNvPr id="900" name=""/>
            <p:cNvSpPr/>
            <p:nvPr/>
          </p:nvSpPr>
          <p:spPr>
            <a:xfrm>
              <a:off x="3352680" y="4267080"/>
              <a:ext cx="992160" cy="1800"/>
            </a:xfrm>
            <a:custGeom>
              <a:avLst/>
              <a:gdLst/>
              <a:ahLst/>
              <a:rect l="l" t="t" r="r" b="b"/>
              <a:pathLst>
                <a:path w="625" h="1">
                  <a:moveTo>
                    <a:pt x="625" y="0"/>
                  </a:moveTo>
                  <a:lnTo>
                    <a:pt x="0" y="0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72160" y="3581280"/>
              <a:ext cx="159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25 км/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4268160" y="3581280"/>
            <a:ext cx="1762920" cy="685800"/>
            <a:chOff x="4268160" y="3581280"/>
            <a:chExt cx="1762920" cy="685800"/>
          </a:xfrm>
        </p:grpSpPr>
        <p:sp>
          <p:nvSpPr>
            <p:cNvPr id="903" name=""/>
            <p:cNvSpPr/>
            <p:nvPr/>
          </p:nvSpPr>
          <p:spPr>
            <a:xfrm>
              <a:off x="4419720" y="426708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268160" y="3581280"/>
              <a:ext cx="110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    </a:t>
              </a: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3644640" y="3886200"/>
            <a:ext cx="2159640" cy="2053080"/>
            <a:chOff x="3644640" y="3886200"/>
            <a:chExt cx="2159640" cy="2053080"/>
          </a:xfrm>
        </p:grpSpPr>
        <p:pic>
          <p:nvPicPr>
            <p:cNvPr id="906" name="" descr=""/>
            <p:cNvPicPr/>
            <p:nvPr/>
          </p:nvPicPr>
          <p:blipFill>
            <a:blip r:embed="rId1"/>
            <a:stretch/>
          </p:blipFill>
          <p:spPr>
            <a:xfrm rot="48000">
              <a:off x="3657600" y="4038480"/>
              <a:ext cx="2133720" cy="18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4039200" y="3886200"/>
              <a:ext cx="50904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415680" y="3962520"/>
            <a:ext cx="2083680" cy="2052360"/>
            <a:chOff x="3415680" y="3962520"/>
            <a:chExt cx="2083680" cy="2052360"/>
          </a:xfrm>
        </p:grpSpPr>
        <p:pic>
          <p:nvPicPr>
            <p:cNvPr id="909" name="" descr=""/>
            <p:cNvPicPr/>
            <p:nvPr/>
          </p:nvPicPr>
          <p:blipFill>
            <a:blip r:embed="rId2"/>
            <a:stretch/>
          </p:blipFill>
          <p:spPr>
            <a:xfrm flipH="1" rot="21552000">
              <a:off x="3428640" y="4114440"/>
              <a:ext cx="2057400" cy="18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 flipH="1">
              <a:off x="4626720" y="3962520"/>
              <a:ext cx="4906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7238880" y="3048120"/>
            <a:ext cx="1746360" cy="380880"/>
          </a:xfrm>
          <a:custGeom>
            <a:avLst/>
            <a:gdLst>
              <a:gd name="textAreaLeft" fmla="*/ 24480 w 1746360"/>
              <a:gd name="textAreaRight" fmla="*/ 1721880 w 1746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8964" h="21600">
                <a:moveTo>
                  <a:pt x="0" y="0"/>
                </a:moveTo>
                <a:lnTo>
                  <a:pt x="98964" y="0"/>
                </a:lnTo>
                <a:lnTo>
                  <a:pt x="98964" y="21600"/>
                </a:lnTo>
                <a:lnTo>
                  <a:pt x="0" y="21600"/>
                </a:lnTo>
                <a:close/>
              </a:path>
              <a:path fill="lightenLess" w="98964" h="21600">
                <a:moveTo>
                  <a:pt x="0" y="0"/>
                </a:moveTo>
                <a:lnTo>
                  <a:pt x="98964" y="0"/>
                </a:lnTo>
                <a:lnTo>
                  <a:pt x="97564" y="1400"/>
                </a:lnTo>
                <a:lnTo>
                  <a:pt x="1400" y="1400"/>
                </a:lnTo>
                <a:close/>
              </a:path>
              <a:path fill="darken" w="98964" h="21600">
                <a:moveTo>
                  <a:pt x="98964" y="0"/>
                </a:moveTo>
                <a:lnTo>
                  <a:pt x="98964" y="21600"/>
                </a:lnTo>
                <a:lnTo>
                  <a:pt x="97564" y="20200"/>
                </a:lnTo>
                <a:lnTo>
                  <a:pt x="97564" y="1400"/>
                </a:lnTo>
                <a:close/>
              </a:path>
              <a:path fill="darkenLess" w="98964" h="21600">
                <a:moveTo>
                  <a:pt x="98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564" y="20200"/>
                </a:lnTo>
                <a:close/>
              </a:path>
              <a:path fill="lighten" w="98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о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187920" y="5458320"/>
            <a:ext cx="8841960" cy="1444680"/>
            <a:chOff x="187920" y="5458320"/>
            <a:chExt cx="8841960" cy="1444680"/>
          </a:xfrm>
        </p:grpSpPr>
        <p:sp>
          <p:nvSpPr>
            <p:cNvPr id="913" name=""/>
            <p:cNvSpPr/>
            <p:nvPr/>
          </p:nvSpPr>
          <p:spPr>
            <a:xfrm rot="25200">
              <a:off x="3118680" y="5879520"/>
              <a:ext cx="401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990000"/>
                  </a:solidFill>
                  <a:latin typeface="Arial"/>
                  <a:ea typeface="Arial"/>
                </a:rPr>
                <a:t>    </a:t>
              </a:r>
              <a:r>
                <a:rPr b="1" lang="en-US" sz="4800" spc="-1" strike="noStrike">
                  <a:solidFill>
                    <a:srgbClr val="990000"/>
                  </a:solidFill>
                  <a:latin typeface="Arial"/>
                  <a:ea typeface="Arial"/>
                </a:rPr>
                <a:t>168 км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16216200">
              <a:off x="4240800" y="1427400"/>
              <a:ext cx="735840" cy="8838720"/>
            </a:xfrm>
            <a:custGeom>
              <a:avLst/>
              <a:gdLst>
                <a:gd name="textAreaLeft" fmla="*/ 470160 w 735840"/>
                <a:gd name="textAreaRight" fmla="*/ 736200 w 735840"/>
                <a:gd name="textAreaTop" fmla="*/ 230400 h 8838720"/>
                <a:gd name="textAreaBottom" fmla="*/ 8608320 h 883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0" y="5486400"/>
            <a:ext cx="534960" cy="754200"/>
            <a:chOff x="0" y="5486400"/>
            <a:chExt cx="534960" cy="754200"/>
          </a:xfrm>
        </p:grpSpPr>
        <p:sp>
          <p:nvSpPr>
            <p:cNvPr id="916" name=""/>
            <p:cNvSpPr/>
            <p:nvPr/>
          </p:nvSpPr>
          <p:spPr>
            <a:xfrm>
              <a:off x="154080" y="5486400"/>
              <a:ext cx="380880" cy="487440"/>
            </a:xfrm>
            <a:custGeom>
              <a:avLst/>
              <a:gdLst/>
              <a:ahLst/>
              <a:rect l="l" t="t" r="r" b="b"/>
              <a:pathLst>
                <a:path w="240" h="307">
                  <a:moveTo>
                    <a:pt x="9" y="195"/>
                  </a:moveTo>
                  <a:lnTo>
                    <a:pt x="240" y="186"/>
                  </a:lnTo>
                  <a:lnTo>
                    <a:pt x="0" y="0"/>
                  </a:lnTo>
                  <a:lnTo>
                    <a:pt x="31" y="307"/>
                  </a:lnTo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0" y="5935680"/>
              <a:ext cx="457200" cy="304920"/>
            </a:xfrm>
            <a:custGeom>
              <a:avLst/>
              <a:gdLst/>
              <a:ahLst/>
              <a:rect l="l" t="t" r="r" b="b"/>
              <a:pathLst>
                <a:path w="432" h="344">
                  <a:moveTo>
                    <a:pt x="48" y="240"/>
                  </a:moveTo>
                  <a:lnTo>
                    <a:pt x="192" y="0"/>
                  </a:lnTo>
                  <a:lnTo>
                    <a:pt x="432" y="288"/>
                  </a:lnTo>
                  <a:lnTo>
                    <a:pt x="352" y="344"/>
                  </a:lnTo>
                  <a:lnTo>
                    <a:pt x="256" y="344"/>
                  </a:lnTo>
                  <a:lnTo>
                    <a:pt x="160" y="344"/>
                  </a:lnTo>
                  <a:lnTo>
                    <a:pt x="64" y="328"/>
                  </a:lnTo>
                  <a:lnTo>
                    <a:pt x="0" y="288"/>
                  </a:lnTo>
                  <a:lnTo>
                    <a:pt x="192" y="0"/>
                  </a:lnTo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ff0000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8458200" y="5410080"/>
            <a:ext cx="534960" cy="754200"/>
            <a:chOff x="8458200" y="5410080"/>
            <a:chExt cx="534960" cy="754200"/>
          </a:xfrm>
        </p:grpSpPr>
        <p:sp>
          <p:nvSpPr>
            <p:cNvPr id="919" name=""/>
            <p:cNvSpPr/>
            <p:nvPr/>
          </p:nvSpPr>
          <p:spPr>
            <a:xfrm>
              <a:off x="8612280" y="5410080"/>
              <a:ext cx="380880" cy="487440"/>
            </a:xfrm>
            <a:custGeom>
              <a:avLst/>
              <a:gdLst/>
              <a:ahLst/>
              <a:rect l="l" t="t" r="r" b="b"/>
              <a:pathLst>
                <a:path w="240" h="307">
                  <a:moveTo>
                    <a:pt x="9" y="195"/>
                  </a:moveTo>
                  <a:lnTo>
                    <a:pt x="240" y="186"/>
                  </a:lnTo>
                  <a:lnTo>
                    <a:pt x="0" y="0"/>
                  </a:lnTo>
                  <a:lnTo>
                    <a:pt x="31" y="307"/>
                  </a:lnTo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58200" y="5859360"/>
              <a:ext cx="457200" cy="304920"/>
            </a:xfrm>
            <a:custGeom>
              <a:avLst/>
              <a:gdLst/>
              <a:ahLst/>
              <a:rect l="l" t="t" r="r" b="b"/>
              <a:pathLst>
                <a:path w="432" h="344">
                  <a:moveTo>
                    <a:pt x="48" y="240"/>
                  </a:moveTo>
                  <a:lnTo>
                    <a:pt x="192" y="0"/>
                  </a:lnTo>
                  <a:lnTo>
                    <a:pt x="432" y="288"/>
                  </a:lnTo>
                  <a:lnTo>
                    <a:pt x="352" y="344"/>
                  </a:lnTo>
                  <a:lnTo>
                    <a:pt x="256" y="344"/>
                  </a:lnTo>
                  <a:lnTo>
                    <a:pt x="160" y="344"/>
                  </a:lnTo>
                  <a:lnTo>
                    <a:pt x="64" y="328"/>
                  </a:lnTo>
                  <a:lnTo>
                    <a:pt x="0" y="288"/>
                  </a:lnTo>
                  <a:lnTo>
                    <a:pt x="192" y="0"/>
                  </a:lnTo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ff0000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7642080" y="6207120"/>
            <a:ext cx="252720" cy="177840"/>
          </a:xfrm>
          <a:custGeom>
            <a:avLst/>
            <a:gdLst>
              <a:gd name="textAreaLeft" fmla="*/ 104040 w 252720"/>
              <a:gd name="textAreaRight" fmla="*/ 148680 w 252720"/>
              <a:gd name="textAreaTop" fmla="*/ 73080 h 177840"/>
              <a:gd name="textAreaBottom" fmla="*/ 104760 h 177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rot="2190600">
            <a:off x="7543440" y="6248520"/>
            <a:ext cx="279360" cy="236520"/>
          </a:xfrm>
          <a:custGeom>
            <a:avLst/>
            <a:gdLst>
              <a:gd name="textAreaLeft" fmla="*/ 115200 w 279360"/>
              <a:gd name="textAreaRight" fmla="*/ 164160 w 279360"/>
              <a:gd name="textAreaTop" fmla="*/ 97560 h 236520"/>
              <a:gd name="textAreaBottom" fmla="*/ 138960 h 23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4191120" y="5334120"/>
            <a:ext cx="534960" cy="753480"/>
            <a:chOff x="4191120" y="5334120"/>
            <a:chExt cx="534960" cy="753480"/>
          </a:xfrm>
        </p:grpSpPr>
        <p:sp>
          <p:nvSpPr>
            <p:cNvPr id="924" name=""/>
            <p:cNvSpPr/>
            <p:nvPr/>
          </p:nvSpPr>
          <p:spPr>
            <a:xfrm>
              <a:off x="4345200" y="5334120"/>
              <a:ext cx="380880" cy="487080"/>
            </a:xfrm>
            <a:custGeom>
              <a:avLst/>
              <a:gdLst/>
              <a:ahLst/>
              <a:rect l="l" t="t" r="r" b="b"/>
              <a:pathLst>
                <a:path w="240" h="307">
                  <a:moveTo>
                    <a:pt x="9" y="195"/>
                  </a:moveTo>
                  <a:lnTo>
                    <a:pt x="240" y="186"/>
                  </a:lnTo>
                  <a:lnTo>
                    <a:pt x="0" y="0"/>
                  </a:lnTo>
                  <a:lnTo>
                    <a:pt x="31" y="307"/>
                  </a:lnTo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191120" y="5783040"/>
              <a:ext cx="457200" cy="304560"/>
            </a:xfrm>
            <a:custGeom>
              <a:avLst/>
              <a:gdLst/>
              <a:ahLst/>
              <a:rect l="l" t="t" r="r" b="b"/>
              <a:pathLst>
                <a:path w="432" h="344">
                  <a:moveTo>
                    <a:pt x="48" y="240"/>
                  </a:moveTo>
                  <a:lnTo>
                    <a:pt x="192" y="0"/>
                  </a:lnTo>
                  <a:lnTo>
                    <a:pt x="432" y="288"/>
                  </a:lnTo>
                  <a:lnTo>
                    <a:pt x="352" y="344"/>
                  </a:lnTo>
                  <a:lnTo>
                    <a:pt x="256" y="344"/>
                  </a:lnTo>
                  <a:lnTo>
                    <a:pt x="160" y="344"/>
                  </a:lnTo>
                  <a:lnTo>
                    <a:pt x="64" y="328"/>
                  </a:lnTo>
                  <a:lnTo>
                    <a:pt x="0" y="288"/>
                  </a:lnTo>
                  <a:lnTo>
                    <a:pt x="192" y="0"/>
                  </a:lnTo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ff0000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250" autoRev="1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5" dur="250" autoRev="1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6" dur="250" autoRev="1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8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50" autoRev="1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31" dur="250" autoRev="1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2" dur="250" autoRev="1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5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9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0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0116 L -0.16979 0.00231 E">
                                      <p:cBhvr>
                                        <p:cTn id="452" dur="5000" fill="hold"/>
                                        <p:tgtEl>
                                          <p:spTgt spid="8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0"/>
                            </p:stCondLst>
                            <p:childTnLst>
                              <p:par>
                                <p:cTn id="45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979 0.00232 L -0.325 -0.00324 E">
                                      <p:cBhvr>
                                        <p:cTn id="455" dur="5000" fill="hold"/>
                                        <p:tgtEl>
                                          <p:spTgt spid="8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5 -0.00324 L -0.4842 -0.00509 E">
                                      <p:cBhvr>
                                        <p:cTn id="458" dur="5000" fill="hold"/>
                                        <p:tgtEl>
                                          <p:spTgt spid="8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00509 L -0.63038 -0.0088 E">
                                      <p:cBhvr>
                                        <p:cTn id="461" dur="5000" fill="hold"/>
                                        <p:tgtEl>
                                          <p:spTgt spid="8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038 -0.0088 L -0.74879 -0.0088 E">
                                      <p:cBhvr>
                                        <p:cTn id="464" dur="5000" fill="hold"/>
                                        <p:tgtEl>
                                          <p:spTgt spid="8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42708 -0.00417 E">
                                      <p:cBhvr>
                                        <p:cTn id="479" dur="5000" fill="hold"/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112E-017 4.44444E-006 L -0.42292 -0.00695 E">
                                      <p:cBhvr>
                                        <p:cTn id="481" dur="5000" fill="hold"/>
                                        <p:tgtEl>
                                          <p:spTgt spid="9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3" dur="2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4" dur="2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5" dur="2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5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2" dur="2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3" dur="2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4" dur="2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2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12" dur="2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3" dur="2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833 -0.08889 E">
                                      <p:cBhvr>
                                        <p:cTn id="540" dur="2000" fill="hold"/>
                                        <p:tgtEl>
                                          <p:spTgt spid="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833 -0.08889 E">
                                      <p:cBhvr>
                                        <p:cTn id="542" dur="20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0.0125 -0.06597 E">
                                      <p:cBhvr>
                                        <p:cTn id="547" dur="2000" fill="hold"/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 txBox="1"/>
          <p:nvPr/>
        </p:nvSpPr>
        <p:spPr>
          <a:xfrm>
            <a:off x="971640" y="620640"/>
            <a:ext cx="7632720" cy="865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3:03:24Z</dcterms:created>
  <dc:creator>User</dc:creator>
  <dc:description/>
  <dc:language>en-US</dc:language>
  <cp:lastModifiedBy>XP</cp:lastModifiedBy>
  <dcterms:modified xsi:type="dcterms:W3CDTF">2009-11-08T09:14:08Z</dcterms:modified>
  <cp:revision>4</cp:revision>
  <dc:subject/>
  <dc:title>Слайд 1</dc:title>
</cp:coreProperties>
</file>