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213-2CEB-47F9-9D5A-D9AD3D99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6D2-3315-405B-A56B-18C6475E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7A9-80B9-41AB-B6D7-DFAA0E1D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D30-3C78-4668-9E61-CC99D939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004-9023-4BC5-9A18-AA550497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04D-CD2C-47DA-8D9F-AB69EEA4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F8D-1F03-4EB8-B55B-7305D7C5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782-5430-4C5C-B9D2-1498BE16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7CD-80B0-4F0F-8ED6-CD041CC8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B4E-D96C-4CD0-B352-1FF3D624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007-5A7D-4E4D-8F1F-3A88F948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F9A-A880-4E69-AB2A-6A89F607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0C63-21A4-4E1C-B288-E89AE5785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9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.А.Римский-Корсак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пера «Снегуроч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340000" y="609480"/>
            <a:ext cx="4103640" cy="410364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4160880" cy="572616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5054400" y="692280"/>
            <a:ext cx="3785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Как звучит музы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в сцене тая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трас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зволнован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Трепе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осторжен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гри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ечтатель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Безмятеж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вет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адос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9786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55676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пера Снегурочка» сочинялась летом в глухой русской деревне. Как говорил композитор, ни одно произведение впоследствии не давалось ему с такой лёгкостью и быстротой. Через год на сцене Мариинского театра опера прошла с большим успех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95640" y="3691080"/>
            <a:ext cx="4968720" cy="262404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13276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Идея оперы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– прославление могущественных,  животворных сил природы, несущих людям счастье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опере противопоставлены два мира –реальный и фантастический, олицетворяющий, по словам композитора «вечные, периодически выступающие силы природ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4076640"/>
            <a:ext cx="1866960" cy="244800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4512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втор пьесы, А.Островский, принял оперу восторженно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«Музыка к моей «Снегурочке» удивительная, я ничего не мог никогда себе представить более к ней подходящего и так живо выражающего всю поэзию русского языческого культа и этой сперва снежно-холодной, а потом неудержимо страстной героини сказк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59280" y="4221000"/>
            <a:ext cx="3028680" cy="228600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3941640" cy="518472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687200" y="836640"/>
            <a:ext cx="39542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Александ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Никола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Остров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Пьеса «Снегуро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894560" y="4875120"/>
            <a:ext cx="373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Пьес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– представлен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предназначенное д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исполнения со сц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ействие происходит в сказочной стране царя Беренде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6494400" cy="491004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негурочка, дочь Мороза и Весны, стремится из глухого леса к людям – нравятся ей их пес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700360" y="1844640"/>
            <a:ext cx="4024440" cy="462600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429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рия Снегурочки «С подружками по ягоду ходит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971280" y="5300640"/>
            <a:ext cx="7090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р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вокальная партия героя, в котор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н передаёт свои мысли, чувства, переж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476280"/>
            <a:ext cx="5400720" cy="393552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797400" y="6043680"/>
            <a:ext cx="72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Сопрано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– высокий женский певческий гол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906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4581360"/>
            <a:ext cx="7918200" cy="18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удесный венок, подаренный Снегурочке Весной, рождает в её сердце прекрасное человеческое чувство – любовь. Но… под лучами Ярилы-Солнца тает Снегурочка, волшебное дитя прир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79640" y="476280"/>
            <a:ext cx="5111640" cy="386064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17:09:31Z</dcterms:created>
  <dc:creator>Катенок</dc:creator>
  <dc:description/>
  <dc:language>en-US</dc:language>
  <cp:lastModifiedBy>1</cp:lastModifiedBy>
  <dcterms:modified xsi:type="dcterms:W3CDTF">2013-02-20T11:03:41Z</dcterms:modified>
  <cp:revision>12</cp:revision>
  <dc:subject/>
  <dc:title>Презентация PowerPoint</dc:title>
</cp:coreProperties>
</file>