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6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7A4F-4C5D-4B68-A435-2EC3FD41C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49A8-8C56-4FF3-A9CF-89DBCF11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9D0E-02CC-4325-B742-7C18B87B5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C6DC-2D00-4755-8C2F-4D39815EE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F348-1629-4793-A64F-E755CFA1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ECA3-3211-4EF7-9688-22E146BF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2955-0690-4608-B08B-739E3D75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DDF9-89F0-4959-B026-377DB4D2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2240-EA04-4F66-AC7D-E6E1882A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E338-2224-4E2F-92FE-F0E8BD14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0F94-0DF3-41DB-A9CA-53851C4D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6624-0BD8-4C5E-AAA9-55C015C8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D1DD-9DDC-42F3-98BB-2E550FC4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8AC9-202D-4383-9E85-108BECE6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FF45-AE3E-4F19-9CEC-3FB1163C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68C6-29E5-411C-AE88-55C30E611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16EF-C76F-49E9-B71E-AF8E99AF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0512-692F-4705-9923-1C07C7ED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0693-C171-44D1-82F0-C836C4C8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CFCA-68F8-4F2E-A4B4-0804C859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F320-7E76-45AA-9FFB-7D71400F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13F3-E616-498A-AC80-23E8C3D2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CC11-FCEC-4D51-92AB-7B1C60B6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F212-2949-4B3F-B590-6A24B4D6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3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4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A96C-CED3-47E6-898F-DAD83758CE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4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6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5285-7663-4C75-90CD-F0F5D975AD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066680" y="1676520"/>
            <a:ext cx="7696440" cy="12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8" descr="http://www.sbor.ru/photo/img/17-full.jpg"/>
          <p:cNvPicPr/>
          <p:nvPr/>
        </p:nvPicPr>
        <p:blipFill>
          <a:blip r:embed="rId1"/>
          <a:stretch/>
        </p:blipFill>
        <p:spPr>
          <a:xfrm>
            <a:off x="7240680" y="485640"/>
            <a:ext cx="1431720" cy="179892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1258920" y="1668600"/>
            <a:ext cx="50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основый Бор - атомград Ленинградской обла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5378400" y="4772160"/>
            <a:ext cx="338472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Преподаватель-организатор   основ безопасности жизнедеятельност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Тимонина Валентина     Анатольевн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0" descr="http://content.foto.mail.ru/mail/mizgirevagalina/2645/h-2675.jpg"/>
          <p:cNvPicPr/>
          <p:nvPr/>
        </p:nvPicPr>
        <p:blipFill>
          <a:blip r:embed="rId2"/>
          <a:stretch/>
        </p:blipFill>
        <p:spPr>
          <a:xfrm>
            <a:off x="1258920" y="3259080"/>
            <a:ext cx="4033800" cy="3025800"/>
          </a:xfrm>
          <a:prstGeom prst="rect">
            <a:avLst/>
          </a:prstGeom>
          <a:ln w="0">
            <a:noFill/>
          </a:ln>
        </p:spPr>
      </p:pic>
      <p:sp>
        <p:nvSpPr>
          <p:cNvPr id="95" name="TextBox 3"/>
          <p:cNvSpPr/>
          <p:nvPr/>
        </p:nvSpPr>
        <p:spPr>
          <a:xfrm>
            <a:off x="1095480" y="449280"/>
            <a:ext cx="56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сударственное бюджетное обще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едняя общеобразовательная школа № 385 Красносельского района Санкт Петербург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http://content.foto.mail.ru/mail/mizgirevagalina/2645/h-2887.jpg"/>
          <p:cNvPicPr/>
          <p:nvPr/>
        </p:nvPicPr>
        <p:blipFill>
          <a:blip r:embed="rId1"/>
          <a:stretch/>
        </p:blipFill>
        <p:spPr>
          <a:xfrm>
            <a:off x="1692360" y="1405080"/>
            <a:ext cx="6756480" cy="4929120"/>
          </a:xfrm>
          <a:prstGeom prst="rect">
            <a:avLst/>
          </a:prstGeom>
          <a:ln w="0">
            <a:noFill/>
          </a:ln>
        </p:spPr>
      </p:pic>
      <p:sp>
        <p:nvSpPr>
          <p:cNvPr id="139" name="TextBox 2"/>
          <p:cNvSpPr/>
          <p:nvPr/>
        </p:nvSpPr>
        <p:spPr>
          <a:xfrm>
            <a:off x="1211760" y="549360"/>
            <a:ext cx="752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Дорога, зовущая в путешеств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1"/>
          <p:cNvSpPr/>
          <p:nvPr/>
        </p:nvSpPr>
        <p:spPr>
          <a:xfrm>
            <a:off x="1247760" y="1052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</a:rPr>
              <a:t>Спасибо за вниман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2" descr="http://img.tourbina.ru/photos.2/43897/big.photo/Gorod-Sosnovyy-Bor.jpg"/>
          <p:cNvPicPr/>
          <p:nvPr/>
        </p:nvPicPr>
        <p:blipFill>
          <a:blip r:embed="rId1"/>
          <a:stretch/>
        </p:blipFill>
        <p:spPr>
          <a:xfrm>
            <a:off x="1763640" y="2708280"/>
            <a:ext cx="6696000" cy="3760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content.foto.mail.ru/mail/mizgirevagalina/2645/h-2904.jpg"/>
          <p:cNvPicPr/>
          <p:nvPr/>
        </p:nvPicPr>
        <p:blipFill>
          <a:blip r:embed="rId1"/>
          <a:stretch/>
        </p:blipFill>
        <p:spPr>
          <a:xfrm>
            <a:off x="1116000" y="2852640"/>
            <a:ext cx="3840120" cy="2880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http://content.foto.mail.ru/mail/mizgirevagalina/2645/h-2690.jpg"/>
          <p:cNvPicPr/>
          <p:nvPr/>
        </p:nvPicPr>
        <p:blipFill>
          <a:blip r:embed="rId2"/>
          <a:stretch/>
        </p:blipFill>
        <p:spPr>
          <a:xfrm>
            <a:off x="5003640" y="907920"/>
            <a:ext cx="3835440" cy="511344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1258920" y="836640"/>
            <a:ext cx="36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Взгляд на город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 высоты птичьего поле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1258920" y="47628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Улицы   гор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2" descr="Prospekt Geroev4. SBOR. | &amp;Scy;&amp;ocy;&amp;scy;&amp;ncy;&amp;ocy;&amp;vcy;&amp;ycy;&amp;jcy; &amp;Bcy;&amp;ocy;&amp;rcy; (&amp;Scy;&amp;ocy;&amp;scy;&amp;ncy;&amp;ocy;&amp;vcy;&amp;ocy;&amp;bcy;&amp;ocy;&amp;rcy;&amp;scy;&amp;kcy;&amp;icy;&amp;jcy; &amp;gcy;&amp;ocy;&amp;rcy;&amp;ocy;&amp;dcy;&amp;scy;&amp;kcy;&amp;ocy;&amp;jcy; &amp;ocy;&amp;kcy;&amp;rcy;&amp;ucy;&amp;gcy;)"/>
          <p:cNvPicPr/>
          <p:nvPr/>
        </p:nvPicPr>
        <p:blipFill>
          <a:blip r:embed="rId1"/>
          <a:stretch/>
        </p:blipFill>
        <p:spPr>
          <a:xfrm>
            <a:off x="1116000" y="1197000"/>
            <a:ext cx="3340080" cy="24447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1619280" y="299736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fde3"/>
                </a:solidFill>
                <a:latin typeface="Times New Roman"/>
              </a:rPr>
              <a:t>Липовский  проез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" descr="&amp;Scy;&amp;ocy;&amp;scy;&amp;ncy;&amp;ocy;&amp;vcy;&amp;ycy;&amp;jcy; &amp;Bcy;&amp;ocy;&amp;rcy; | &amp;Scy;&amp;ocy;&amp;scy;&amp;ncy;&amp;ocy;&amp;vcy;&amp;ocy;&amp;bcy;&amp;ocy;&amp;rcy;&amp;scy;&amp;kcy;&amp;icy;&amp;jcy; &amp;gcy;&amp;ocy;&amp;rcy;&amp;ocy;&amp;dcy;&amp;scy;&amp;kcy;&amp;ocy;&amp;jcy; &amp;ocy;&amp;kcy;&amp;rcy;&amp;ucy;&amp;gcy;"/>
          <p:cNvPicPr/>
          <p:nvPr/>
        </p:nvPicPr>
        <p:blipFill>
          <a:blip r:embed="rId2"/>
          <a:stretch/>
        </p:blipFill>
        <p:spPr>
          <a:xfrm>
            <a:off x="4643280" y="1125360"/>
            <a:ext cx="3713400" cy="24717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/>
          <p:cNvSpPr/>
          <p:nvPr/>
        </p:nvSpPr>
        <p:spPr>
          <a:xfrm>
            <a:off x="5076720" y="314172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fde3"/>
                </a:solidFill>
                <a:latin typeface="Times New Roman"/>
              </a:rPr>
              <a:t>Молодежн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6" descr="http://content.foto.mail.ru/mail/mizgirevagalina/2645/h-2903.jpg"/>
          <p:cNvPicPr/>
          <p:nvPr/>
        </p:nvPicPr>
        <p:blipFill>
          <a:blip r:embed="rId3"/>
          <a:stretch/>
        </p:blipFill>
        <p:spPr>
          <a:xfrm>
            <a:off x="988920" y="3789360"/>
            <a:ext cx="3654360" cy="26640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7"/>
          <p:cNvSpPr/>
          <p:nvPr/>
        </p:nvSpPr>
        <p:spPr>
          <a:xfrm>
            <a:off x="1332000" y="573264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fde3"/>
                </a:solidFill>
                <a:latin typeface="Times New Roman"/>
              </a:rPr>
              <a:t>Ленинградск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8" descr="http://content.foto.mail.ru/mail/mizgirevagalina/2645/h-3790.jpg"/>
          <p:cNvPicPr/>
          <p:nvPr/>
        </p:nvPicPr>
        <p:blipFill>
          <a:blip r:embed="rId4"/>
          <a:stretch/>
        </p:blipFill>
        <p:spPr>
          <a:xfrm>
            <a:off x="4788000" y="3860640"/>
            <a:ext cx="3887640" cy="25927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9"/>
          <p:cNvSpPr/>
          <p:nvPr/>
        </p:nvSpPr>
        <p:spPr>
          <a:xfrm>
            <a:off x="4859280" y="580536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fde3"/>
                </a:solidFill>
                <a:latin typeface="Times New Roman"/>
              </a:rPr>
              <a:t>Тихий двори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  <p:sndAc>
      <p:stSnd>
        <p:snd r:embed="rId5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http://content.foto.mail.ru/mail/mizgirevagalina/2645/h-2773.jpg"/>
          <p:cNvPicPr/>
          <p:nvPr/>
        </p:nvPicPr>
        <p:blipFill>
          <a:blip r:embed="rId1"/>
          <a:stretch/>
        </p:blipFill>
        <p:spPr>
          <a:xfrm>
            <a:off x="1187280" y="1341360"/>
            <a:ext cx="3745080" cy="2489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http://content.foto.mail.ru/mail/mizgirevagalina/2645/h-2670.jpg"/>
          <p:cNvPicPr/>
          <p:nvPr/>
        </p:nvPicPr>
        <p:blipFill>
          <a:blip r:embed="rId2"/>
          <a:stretch/>
        </p:blipFill>
        <p:spPr>
          <a:xfrm>
            <a:off x="4427640" y="3860640"/>
            <a:ext cx="4248000" cy="2689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http://content.foto.mail.ru/mail/mizgirevagalina/2645/h-2710.jpg"/>
          <p:cNvPicPr/>
          <p:nvPr/>
        </p:nvPicPr>
        <p:blipFill>
          <a:blip r:embed="rId3"/>
          <a:stretch/>
        </p:blipFill>
        <p:spPr>
          <a:xfrm>
            <a:off x="5148360" y="1341360"/>
            <a:ext cx="3581280" cy="2448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1908360" y="549360"/>
            <a:ext cx="57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Где мы находимся сейчас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2" descr="Most r. Kovachi 2. SBOR."/>
          <p:cNvPicPr/>
          <p:nvPr/>
        </p:nvPicPr>
        <p:blipFill>
          <a:blip r:embed="rId4"/>
          <a:stretch/>
        </p:blipFill>
        <p:spPr>
          <a:xfrm>
            <a:off x="1332000" y="4221000"/>
            <a:ext cx="2676600" cy="2087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  <p:sndAc>
      <p:stSnd>
        <p:snd r:embed="rId5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http://content.foto.mail.ru/mail/mizgirevagalina/2645/h-2873.jpg"/>
          <p:cNvPicPr/>
          <p:nvPr/>
        </p:nvPicPr>
        <p:blipFill>
          <a:blip r:embed="rId1"/>
          <a:stretch/>
        </p:blipFill>
        <p:spPr>
          <a:xfrm>
            <a:off x="3203640" y="2349360"/>
            <a:ext cx="5715000" cy="4286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http://content.foto.mail.ru/mail/mizgirevagalina/2645/h-2835.jpg"/>
          <p:cNvPicPr/>
          <p:nvPr/>
        </p:nvPicPr>
        <p:blipFill>
          <a:blip r:embed="rId2"/>
          <a:stretch/>
        </p:blipFill>
        <p:spPr>
          <a:xfrm>
            <a:off x="1042920" y="333360"/>
            <a:ext cx="2016360" cy="3027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http://content.foto.mail.ru/mail/mizgirevagalina/2645/h-2832.jpg"/>
          <p:cNvPicPr/>
          <p:nvPr/>
        </p:nvPicPr>
        <p:blipFill>
          <a:blip r:embed="rId3"/>
          <a:stretch/>
        </p:blipFill>
        <p:spPr>
          <a:xfrm>
            <a:off x="1116000" y="3645000"/>
            <a:ext cx="1870200" cy="28083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3635280" y="476280"/>
            <a:ext cx="50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Такого сказочного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городка нет даже на родине Г.Х.Андерсе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  <p:sndAc>
      <p:stSnd>
        <p:snd r:embed="rId4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http://content.foto.mail.ru/mail/mizgirevagalina/2645/h-2662.jpg"/>
          <p:cNvPicPr/>
          <p:nvPr/>
        </p:nvPicPr>
        <p:blipFill>
          <a:blip r:embed="rId1"/>
          <a:stretch/>
        </p:blipFill>
        <p:spPr>
          <a:xfrm>
            <a:off x="6372360" y="1773360"/>
            <a:ext cx="2303280" cy="1726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http://content.foto.mail.ru/mail/mizgirevagalina/2645/h-2947.jpg"/>
          <p:cNvPicPr/>
          <p:nvPr/>
        </p:nvPicPr>
        <p:blipFill>
          <a:blip r:embed="rId2"/>
          <a:stretch/>
        </p:blipFill>
        <p:spPr>
          <a:xfrm>
            <a:off x="6443640" y="3645000"/>
            <a:ext cx="2255760" cy="28083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4"/>
          <p:cNvSpPr/>
          <p:nvPr/>
        </p:nvSpPr>
        <p:spPr>
          <a:xfrm>
            <a:off x="1283760" y="476280"/>
            <a:ext cx="73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Сосновоборцы чтут памят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защитников земли Ленинградск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http://content.foto.mail.ru/mail/mizgirevagalina/2645/h-2784.jpg"/>
          <p:cNvPicPr/>
          <p:nvPr/>
        </p:nvPicPr>
        <p:blipFill>
          <a:blip r:embed="rId3"/>
          <a:stretch/>
        </p:blipFill>
        <p:spPr>
          <a:xfrm>
            <a:off x="1042920" y="2133720"/>
            <a:ext cx="5184720" cy="39592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6"/>
          <p:cNvSpPr/>
          <p:nvPr/>
        </p:nvSpPr>
        <p:spPr>
          <a:xfrm>
            <a:off x="1403280" y="6091200"/>
            <a:ext cx="54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Реконструкция боя на реке Ворон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  <p:sndAc>
      <p:stSnd>
        <p:snd r:embed="rId4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http://content.foto.mail.ru/mail/mizgirevagalina/2645/h-2678.jpg"/>
          <p:cNvPicPr/>
          <p:nvPr/>
        </p:nvPicPr>
        <p:blipFill>
          <a:blip r:embed="rId1"/>
          <a:stretch/>
        </p:blipFill>
        <p:spPr>
          <a:xfrm>
            <a:off x="1476360" y="1528920"/>
            <a:ext cx="3162240" cy="2371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http://content.foto.mail.ru/mail/mizgirevagalina/2645/h-2798.jpg"/>
          <p:cNvPicPr/>
          <p:nvPr/>
        </p:nvPicPr>
        <p:blipFill>
          <a:blip r:embed="rId2"/>
          <a:stretch/>
        </p:blipFill>
        <p:spPr>
          <a:xfrm>
            <a:off x="6013440" y="3416400"/>
            <a:ext cx="2352600" cy="3114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http://content.foto.mail.ru/mail/mizgirevagalina/2645/h-2952.jpg"/>
          <p:cNvPicPr/>
          <p:nvPr/>
        </p:nvPicPr>
        <p:blipFill>
          <a:blip r:embed="rId3"/>
          <a:stretch/>
        </p:blipFill>
        <p:spPr>
          <a:xfrm>
            <a:off x="5867280" y="1504800"/>
            <a:ext cx="2313000" cy="1731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http://content.foto.mail.ru/mail/mizgirevagalina/2645/h-2918.jpg"/>
          <p:cNvPicPr/>
          <p:nvPr/>
        </p:nvPicPr>
        <p:blipFill>
          <a:blip r:embed="rId4"/>
          <a:stretch/>
        </p:blipFill>
        <p:spPr>
          <a:xfrm>
            <a:off x="1303200" y="4048200"/>
            <a:ext cx="3529080" cy="23493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6"/>
          <p:cNvSpPr/>
          <p:nvPr/>
        </p:nvSpPr>
        <p:spPr>
          <a:xfrm>
            <a:off x="1454760" y="3416400"/>
            <a:ext cx="32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Братское захорон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5651640" y="6033960"/>
            <a:ext cx="34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Митинг Памяти в д.Усть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2124000" y="5813280"/>
            <a:ext cx="39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Мотопробег по местам кровопролитных  бое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5559480" y="2935440"/>
            <a:ext cx="28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Могила солдата в лес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1"/>
          <p:cNvSpPr/>
          <p:nvPr/>
        </p:nvSpPr>
        <p:spPr>
          <a:xfrm>
            <a:off x="785880" y="314280"/>
            <a:ext cx="834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основоборцы чтут памя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защитников земли Ленинградск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  <p:sndAc>
      <p:stSnd>
        <p:snd r:embed="rId5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http://content.foto.mail.ru/mail/mizgirevagalina/2645/h-2740.jpg"/>
          <p:cNvPicPr/>
          <p:nvPr/>
        </p:nvPicPr>
        <p:blipFill>
          <a:blip r:embed="rId1"/>
          <a:stretch/>
        </p:blipFill>
        <p:spPr>
          <a:xfrm>
            <a:off x="2411280" y="2205000"/>
            <a:ext cx="5905800" cy="4267080"/>
          </a:xfrm>
          <a:prstGeom prst="rect">
            <a:avLst/>
          </a:prstGeom>
          <a:ln w="0">
            <a:noFill/>
          </a:ln>
        </p:spPr>
      </p:pic>
      <p:sp>
        <p:nvSpPr>
          <p:cNvPr id="132" name="TextBox 8"/>
          <p:cNvSpPr/>
          <p:nvPr/>
        </p:nvSpPr>
        <p:spPr>
          <a:xfrm>
            <a:off x="1365120" y="476280"/>
            <a:ext cx="714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Ленинградская атомная станци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–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градообразующе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предприят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http://content.foto.mail.ru/mail/mizgirevagalina/2645/h-2686.jpg"/>
          <p:cNvPicPr/>
          <p:nvPr/>
        </p:nvPicPr>
        <p:blipFill>
          <a:blip r:embed="rId1"/>
          <a:stretch/>
        </p:blipFill>
        <p:spPr>
          <a:xfrm>
            <a:off x="5003640" y="1484280"/>
            <a:ext cx="3384720" cy="2430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http://content.foto.mail.ru/mail/mizgirevagalina/2645/h-2919.jpg"/>
          <p:cNvPicPr/>
          <p:nvPr/>
        </p:nvPicPr>
        <p:blipFill>
          <a:blip r:embed="rId2"/>
          <a:stretch/>
        </p:blipFill>
        <p:spPr>
          <a:xfrm>
            <a:off x="4932360" y="4005360"/>
            <a:ext cx="3672000" cy="2454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http://content.foto.mail.ru/mail/mizgirevagalina/2645/h-2653.jpg"/>
          <p:cNvPicPr/>
          <p:nvPr/>
        </p:nvPicPr>
        <p:blipFill>
          <a:blip r:embed="rId3"/>
          <a:stretch/>
        </p:blipFill>
        <p:spPr>
          <a:xfrm>
            <a:off x="1187280" y="1484280"/>
            <a:ext cx="3264120" cy="2449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http://content.foto.mail.ru/mail/mizgirevagalina/2645/h-2669.jpg"/>
          <p:cNvPicPr/>
          <p:nvPr/>
        </p:nvPicPr>
        <p:blipFill>
          <a:blip r:embed="rId4"/>
          <a:stretch/>
        </p:blipFill>
        <p:spPr>
          <a:xfrm>
            <a:off x="1187280" y="4005360"/>
            <a:ext cx="3313440" cy="24843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6"/>
          <p:cNvSpPr/>
          <p:nvPr/>
        </p:nvSpPr>
        <p:spPr>
          <a:xfrm>
            <a:off x="1209240" y="476280"/>
            <a:ext cx="751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В окрестностях Соснового Бо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  <p:sndAc>
      <p:stSnd>
        <p:snd r:embed="rId5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7:24:37Z</dcterms:created>
  <dc:creator>Мама</dc:creator>
  <dc:description/>
  <dc:language>en-US</dc:language>
  <cp:lastModifiedBy>Валентина Тимонина</cp:lastModifiedBy>
  <dcterms:modified xsi:type="dcterms:W3CDTF">2020-07-23T15:59:13Z</dcterms:modified>
  <cp:revision>87</cp:revision>
  <dc:subject/>
  <dc:title>Презентация PowerPoint</dc:title>
</cp:coreProperties>
</file>