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7E2-4729-4052-9AA6-81CA6C87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0E8-9E2D-40EA-A7FD-7DE7DA93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86BB-E3D7-49FA-8427-ABF69BCE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43DB-A37A-4C9D-AFF3-17108516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D9B6-225D-43C7-B7FA-56278497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2447-6A86-4764-B926-E07E7DB5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5CD7-F8E5-4AAB-8E4E-605F4961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C3E2-E51B-4FE1-8162-1F04DC34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4879-8FDD-4359-8F12-D0F8DDA8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FD10-310E-4F98-9345-7A527478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983B-125A-4ADF-9962-9A4608A4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DE08-694F-41FC-B32B-6DC57BD3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67E2-AAE4-4DE1-AE51-951F5AB1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A6C3-C470-4951-A559-A1917005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A457-A2FE-4864-9050-328F4EC0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0D0A-7EC5-4A32-A301-D5DDBADF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0D00-DE36-477B-8B55-CEAC8D4E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AD5DB-83C1-411D-85CE-AE9C0F5A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8D0AA-14FE-4595-8BE1-9FAFCE47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F3FAF-2FCF-478D-9441-6A47E7AF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809FB-1C79-4319-B75E-A57D3B97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0898D-1EFE-419A-9547-B62E7DA6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74A-6021-4D1D-9E0E-3339C43A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7A5C9-065F-48A5-8EB1-46402F52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0E178-130E-42E9-AF28-82FDB8A9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323DB-9C83-4A85-810C-10E9BFD9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B35CF-EBA7-4F34-B16A-4072F02E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10BD8-12A2-4A63-A5C0-52F1116D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F852C-A837-4469-85F1-83C8138A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20358-B816-4A33-A17C-4E6FDCF3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BA9E5-BBAF-4BD6-89B0-DE2415A0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A55FA-5BC1-49F1-9703-3B75087C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42F6E-F51A-4DD6-993B-00BEFDB1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2848-1126-49D0-9E9E-2F9E7823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BCE2D-102E-4339-AE71-6389D779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ECF8D-C2D5-4691-B5AB-B681C787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92AD5-49ED-4D53-8D7D-AA9879C1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22E19-8654-45EF-8177-74677149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EA3D2-D538-4A79-BE21-4BA9C4EE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F77B2-2D7D-4899-9E59-30660010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7B878-4A6E-4D4F-856A-E72BEDF2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22085-58D5-4095-930C-01767DEA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99986-A84D-49C8-BDE4-FBD4EDA1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41D-6026-4048-8350-722C3FD3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98B-1C4F-4557-9C5A-55BF05DB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45E5-9311-4734-AD83-7FB57EF9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19F-BB41-48F2-9A15-CDC0381C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60F-EE2C-406B-BEAD-608548BE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C636-5093-41B5-878B-71F3323C4C4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C876-C9D8-4288-B73A-903C5153A1F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D271-E001-4183-BBA7-4212D850E0E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C08F-20DC-4F52-AA99-BE17580C97C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ТЕАТРЫ ТЮМЕНИ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1" descr="5.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1" descr="12.1.jpg"/>
          <p:cNvPicPr/>
          <p:nvPr/>
        </p:nvPicPr>
        <p:blipFill>
          <a:blip r:embed="rId1"/>
          <a:stretch/>
        </p:blipFill>
        <p:spPr>
          <a:xfrm>
            <a:off x="0" y="32688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1" descr="theatre-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1" descr="театр драматический.JPG"/>
          <p:cNvPicPr/>
          <p:nvPr/>
        </p:nvPicPr>
        <p:blipFill>
          <a:blip r:embed="rId1"/>
          <a:stretch/>
        </p:blipFill>
        <p:spPr>
          <a:xfrm>
            <a:off x="0" y="171360"/>
            <a:ext cx="9144000" cy="668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1" descr="1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3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09:18:11Z</dcterms:created>
  <dc:creator>я</dc:creator>
  <dc:description/>
  <dc:language>en-US</dc:language>
  <cp:lastModifiedBy>Воспитатель</cp:lastModifiedBy>
  <dcterms:modified xsi:type="dcterms:W3CDTF">2020-07-23T04:08:12Z</dcterms:modified>
  <cp:revision>3</cp:revision>
  <dc:subject/>
  <dc:title>ТЕАТРЫ ТЮМЕНИ</dc:title>
</cp:coreProperties>
</file>