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7B4-4A4D-4DCB-B609-BF0C20E6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800-2633-4F3E-8ED2-D07FB80D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B776B-7AC7-4328-A330-DA3D098A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1BD1A-D711-49D0-8A08-20268F4D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5A036-3891-42E0-AAAD-1A9F7E40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10DD2-56F9-478C-A9E2-5BC17AB4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7112F-4EC0-4E8D-9DF3-D8077B5F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E62E8-7655-45C9-BC79-6629D3DF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C5D8A-7CD4-440E-BEF8-C5EAFC52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1D345-72E6-49C7-848E-6BB453C9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B4A5B-95BD-4B6E-BC9A-AAB57FFE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EB0-3A6D-47F7-BA8A-3EDE9C96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E500-95C4-499D-BBC6-F786F98A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4BE0-71CB-48CD-BBBB-639275DC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F4CF-1F0C-4D4A-B4AF-18929B23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E058-E7B8-4B22-B23B-43B8C2EE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F7B4-33D6-45D6-98E5-929F7E6E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7AFB-0222-4DF4-8C1C-31F9FEC8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7589-67F2-40CB-8472-919372C6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5313-3616-4D95-8E77-DF931300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5B8-0B8E-4B41-914A-206D3A1E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152D-CB07-48C8-B991-2D7F224A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1F6C-ED56-4CCE-8E1F-0C950E70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5AF1-8603-4D71-AA70-F6EE6680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94AA-DC48-4298-9E58-7DCE8869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8036-4BAD-4391-98F0-0FAC5317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B9E58-756D-401C-98C5-453BF3D2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FC058-83B5-41D3-89CA-4EAF7BD1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3E11A-4343-40BF-AE13-9A17707A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3BA4-A221-4B98-890F-1F620ECD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503F1-B805-49CE-9A73-F44D02C5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58E-687A-4A20-A457-A2250E32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76989-3F94-48DC-AEE6-DEE4664F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6CED3-D3BB-4EE9-BB19-E667EE23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36871-E073-4BF1-A70C-2D576628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BBEC-FFA6-4D9C-A3E7-391046CF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3F150-3883-4D29-9ADC-D8947352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E9791-6F51-40E4-AA5F-DB2A8F92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4D23B-C380-4A9E-B7D9-757F4FF0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882D0-C03D-403A-831D-393D145D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FEB4D-4E91-4EC6-B696-D9942070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F6480-6517-4F51-8F23-B8245F6D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2A7-E4FB-4E26-B3BD-0A3F21FE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1454D-AE29-4648-8D92-8CE0B051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5D9EC-89E8-487A-8A6F-6369F819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DC4D2-362E-46CB-A25D-7BEDE888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A295A-19D4-4185-8B55-3DC11D57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B8104-443E-4369-B7C0-71EAF7F7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0FF13-7EA6-4EF1-BEB1-13BE57E6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8C969-FE5C-40C2-ABC3-8450B3D8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EDCF-BE61-4CAE-9D98-DF178FC0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8352A-4AA8-4DAF-AD08-1F598F6E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15EAB-6354-4E61-98B0-2686E363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D72-799B-49F7-8CFF-498E9F35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510CF-3B5F-4708-A86C-0F724ADA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C876D-79D3-4027-B353-1B36014F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BB4F6-31AF-4FD3-8A40-770EB909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4F65B-BFA2-44DA-B190-47F71030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119A1-2ADD-414B-A8C3-EE963787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F9F55-83C1-4FDF-BE94-5AA50A87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D02AE-87A8-4F02-B6BE-5DC1B483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6CDDE-DE85-4F36-8969-A3A5AC2C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AB46E-9EEE-4B04-90F0-48076E27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BDAB6-03C3-42D6-A437-4AF88256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054-4EE8-454E-98CC-DA408274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69EF6-9D92-4775-947A-1D19B6F6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C6906-0D93-445B-B0D8-D6F84491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0DBB8-AFBA-4DFB-95FA-0990D2CF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BE7DF-284A-4830-8BE3-4521AB9C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08085-4AB4-486E-9914-CDEDEA16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C56C5-E4D4-4BE8-A06A-12E77C21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F43DC-C454-4165-8929-6D78CB95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5FA1E-8317-4573-BB4E-83596DEB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D0508-8805-4F70-8C38-A86E865C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F71A3-D2C5-44DD-ABF3-3218D45D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776-930B-42B2-9CB3-8FD1945F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163F2-B277-4D3B-BA29-064DAE6A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AB622-EF79-4E30-B44B-C8B6B8C4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99D3C-7D8C-451E-A5CD-3B2B563B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8CCCC-7378-4AB3-9C41-4B381221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F6996-5BD6-439A-AA96-A39EEF9C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9E77F-59E5-4B2E-9D31-FCEA2DE7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2C25F-1538-4194-A49B-7A5832DB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AF6DD-B4CC-45A6-90F1-16AA680D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3E5A9-91FF-40E8-8523-DD7EAF3C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C55F0-2781-461B-B6D9-A109467C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F4A-9BEF-49BB-B4EB-60AB4DAF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63EBE-B849-482C-B67C-01CF445F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A02C6-F97D-47C0-B50F-6F824B3F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1C388-3B62-4C42-878B-3F9816AE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E8FDF-D8AF-44FC-A558-3B1DAEC6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2A132-2B61-41F1-A45E-CD68636C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C02E3-E39B-4C90-88CE-8EF92AFA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FE44C-726D-4C29-9997-9DB5EF7B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15446-EB3E-44A6-BAC9-3B768506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08142-120F-4229-A516-A0F3F2A4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42849-287F-46DB-9B75-6A324F84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39A-7FD3-4532-A66C-11DA26A9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CB63C-443F-4FF2-82AD-3ADBE9FB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6AF8B-3C84-436C-98FA-F63FF24C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FDB41-49C0-47D3-B1F2-513D318E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39491-FE21-4975-85AE-3FFED250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1E0A2-A0E9-4B9E-8BFD-4450CE16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69300-DAB8-4EDC-B514-A2B6EC35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A396B-94FE-445B-AC1E-56003FE5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0DA15-FA81-40E2-BC60-C3DD79D5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F5E5C-C9EF-4676-83CB-43343C10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76745-8738-4B5B-831B-7B7D4F78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6B0B-39BF-4EB8-B591-78B452FFF3CC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FA40-593D-4C84-9DAB-72186881DC3A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B7A8-A2C8-4575-9B8F-E851F1E59FA8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efa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0D18-8AE0-41F5-AD0C-E816E1CCB79D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83C2-518F-491C-894B-787D6CB66F60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77F7-CB2C-4EBE-AF30-9F65F94C8E29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A1D0-B072-4A3D-9BD2-85C5D1564622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3CFD-F02E-40F4-A68F-73522F35E52E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AD00-427F-42B9-B8D5-AED51E2EEC1D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9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78000" y="4761000"/>
            <a:ext cx="8656560" cy="1689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57120"/>
            <a:ext cx="845820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3b4320"/>
              </a:solidFill>
              <a:latin typeface="Franklin Gothic Book"/>
            </a:endParaRPr>
          </a:p>
        </p:txBody>
      </p:sp>
      <p:pic>
        <p:nvPicPr>
          <p:cNvPr id="401" name="Рисунок 3" descr="spicami.jpg"/>
          <p:cNvPicPr/>
          <p:nvPr/>
        </p:nvPicPr>
        <p:blipFill>
          <a:blip r:embed="rId2"/>
          <a:stretch/>
        </p:blipFill>
        <p:spPr>
          <a:xfrm>
            <a:off x="1523880" y="357120"/>
            <a:ext cx="60962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1" descr="1307627172_img_68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Содержимое 3" descr="images.jp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6" name="Содержимое 3" descr="imagesCAZIE4HB.jpg"/>
          <p:cNvPicPr/>
          <p:nvPr/>
        </p:nvPicPr>
        <p:blipFill>
          <a:blip r:embed="rId2"/>
          <a:stretch/>
        </p:blipFill>
        <p:spPr>
          <a:xfrm>
            <a:off x="0" y="1017720"/>
            <a:ext cx="9144000" cy="584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1" descr="img_019.jpg"/>
          <p:cNvPicPr/>
          <p:nvPr/>
        </p:nvPicPr>
        <p:blipFill>
          <a:blip r:embed="rId1"/>
          <a:stretch/>
        </p:blipFill>
        <p:spPr>
          <a:xfrm>
            <a:off x="0" y="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2" descr="image012.jpg"/>
          <p:cNvPicPr/>
          <p:nvPr/>
        </p:nvPicPr>
        <p:blipFill>
          <a:blip r:embed="rId2"/>
          <a:stretch/>
        </p:blipFill>
        <p:spPr>
          <a:xfrm>
            <a:off x="2928960" y="0"/>
            <a:ext cx="2833560" cy="214308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3" descr="image008.jpg"/>
          <p:cNvPicPr/>
          <p:nvPr/>
        </p:nvPicPr>
        <p:blipFill>
          <a:blip r:embed="rId3"/>
          <a:stretch/>
        </p:blipFill>
        <p:spPr>
          <a:xfrm>
            <a:off x="5857920" y="0"/>
            <a:ext cx="3000240" cy="21430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4" descr="11.jpg"/>
          <p:cNvPicPr/>
          <p:nvPr/>
        </p:nvPicPr>
        <p:blipFill>
          <a:blip r:embed="rId4"/>
          <a:stretch/>
        </p:blipFill>
        <p:spPr>
          <a:xfrm>
            <a:off x="0" y="2214720"/>
            <a:ext cx="2786040" cy="19285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5" descr="image010.jpg"/>
          <p:cNvPicPr/>
          <p:nvPr/>
        </p:nvPicPr>
        <p:blipFill>
          <a:blip r:embed="rId5"/>
          <a:stretch/>
        </p:blipFill>
        <p:spPr>
          <a:xfrm>
            <a:off x="2928960" y="2214720"/>
            <a:ext cx="2786040" cy="192852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6" descr="img_018.jpg"/>
          <p:cNvPicPr/>
          <p:nvPr/>
        </p:nvPicPr>
        <p:blipFill>
          <a:blip r:embed="rId6"/>
          <a:stretch/>
        </p:blipFill>
        <p:spPr>
          <a:xfrm>
            <a:off x="5929200" y="228600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7" descr="images.jpg"/>
          <p:cNvPicPr/>
          <p:nvPr/>
        </p:nvPicPr>
        <p:blipFill>
          <a:blip r:embed="rId7"/>
          <a:stretch/>
        </p:blipFill>
        <p:spPr>
          <a:xfrm>
            <a:off x="1428840" y="4500720"/>
            <a:ext cx="2214360" cy="200016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8" descr="imagesCAZIE4HB.jpg"/>
          <p:cNvPicPr/>
          <p:nvPr/>
        </p:nvPicPr>
        <p:blipFill>
          <a:blip r:embed="rId8"/>
          <a:stretch/>
        </p:blipFill>
        <p:spPr>
          <a:xfrm>
            <a:off x="4786200" y="4500720"/>
            <a:ext cx="2143080" cy="185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15854268sk6.jpg"/>
          <p:cNvPicPr/>
          <p:nvPr/>
        </p:nvPicPr>
        <p:blipFill>
          <a:blip r:embed="rId1"/>
          <a:stretch/>
        </p:blipFill>
        <p:spPr>
          <a:xfrm>
            <a:off x="214200" y="214200"/>
            <a:ext cx="4065840" cy="27990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" descr="33209.jpg"/>
          <p:cNvPicPr/>
          <p:nvPr/>
        </p:nvPicPr>
        <p:blipFill>
          <a:blip r:embed="rId2"/>
          <a:stretch/>
        </p:blipFill>
        <p:spPr>
          <a:xfrm>
            <a:off x="5214960" y="285840"/>
            <a:ext cx="3524400" cy="352404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3" descr="18792531.jpg"/>
          <p:cNvPicPr/>
          <p:nvPr/>
        </p:nvPicPr>
        <p:blipFill>
          <a:blip r:embed="rId3"/>
          <a:stretch/>
        </p:blipFill>
        <p:spPr>
          <a:xfrm>
            <a:off x="785880" y="3357720"/>
            <a:ext cx="4309920" cy="323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1" descr="img_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1" descr="img_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2" descr="image006.jpg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1" descr="image008.jpg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1" descr="image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1" descr="img_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02:55:06Z</dcterms:created>
  <dc:creator>User</dc:creator>
  <dc:description/>
  <dc:language>en-US</dc:language>
  <cp:lastModifiedBy>User</cp:lastModifiedBy>
  <dcterms:modified xsi:type="dcterms:W3CDTF">2012-02-18T03:11:39Z</dcterms:modified>
  <cp:revision>2</cp:revision>
  <dc:subject/>
  <dc:title>Вязание 4 класс</dc:title>
</cp:coreProperties>
</file>