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AEB-E7B1-4B28-89B6-77675824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215-4D4F-4725-9EA2-0680EBAC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6DD-D34C-4B16-BEE3-F69EB3B0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E9A-5BA1-4E44-BA4F-CF583AF6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83E6-11FB-4F82-B7AE-02EDBDEF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D65E-0B33-4EF8-8A5E-CB6628AE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9F4A-63A5-4CA1-8166-A3A7828F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E5A0-31B3-4A2D-9B40-EDF7B130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FA55-9250-4268-9E0E-E89086E4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01AA-BD28-459A-B1AC-2B51D51F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A80B-9038-4E48-A63C-9F5AEA8B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646-C9D7-468A-927A-908FAF1F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E83C-9EAB-4898-80A5-63AD6E3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6676-B0BC-41C1-A30B-2450954D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E59D-2CC9-4433-83F2-756CBB93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81C7-B5F7-4452-93B4-AE49752B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53B7-4FD3-4D1C-AA59-C29BBE9A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808D5-7DA1-45E0-B4FA-1CC14D63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C34A-CD14-4E99-B1E7-1528BBFA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7DCB-6198-4916-8A5E-6DEC7D51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4D3B-6F2B-46B2-9DD6-8C7C9171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8954-894C-4A1A-8BB0-9A84EA7F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193-A600-4317-B8BD-C744F1A0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FBC2-D169-4DEE-B94F-6A48A0E8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DFB5-27B4-4FA9-97AC-E3139450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C69F-076C-481E-83D1-77E4049D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A8A9-C36E-4B26-9478-BA7783AF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BD2F4-BD43-46FA-9648-3F37418D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7BA7-1E3A-4B69-AB07-7F2E6C6F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B90F8-5F93-4F89-922A-F14D838C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A2EBE-69CD-442E-AB7D-48737993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D718B-0DC3-4656-AF96-F3F725F8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BBE4-8D60-4942-BD76-080ADDBE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2B7-75D0-4372-916A-FD10546F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0F0F-9C39-4833-B4A3-A0A21E70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0BD9-5F5E-4A74-9EFB-E8557EA4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8486E-6309-4318-97F2-3D1B9043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D12B-45E7-45DA-9D53-D9AD5754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DB94-8321-4005-8380-EE62FF02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4A13D-8465-48FF-88D0-0DEC0868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72F3-9A0D-456E-A3A1-8100DA46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ACC35-375C-4B3D-A028-DB8D44C1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FB08-9994-4FB9-9A72-37C28D22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C29-A37B-4E49-A57A-3A4A823D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712-8ED7-4791-92AD-EE7FBDF8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56C-5279-4CF4-A78D-7C7C6439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39A-5703-49DB-8A14-5A67B241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514-71DF-45D6-8E75-C73C6FC5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0A4B-C403-47FA-899E-E780018DAAA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4018-E556-4488-9663-B52C110E360F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02D5-E936-4733-8B45-88FE2141B42C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09A9-405E-4A5E-A6A7-C1FB343287A5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176040" y="762120"/>
            <a:ext cx="8571240" cy="32922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500040" y="210960"/>
            <a:ext cx="8001000" cy="6218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143920" cy="6000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00040" y="0"/>
            <a:ext cx="7286760" cy="604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7929360" cy="589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8001000" cy="59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" descr=""/>
          <p:cNvPicPr/>
          <p:nvPr/>
        </p:nvPicPr>
        <p:blipFill>
          <a:blip r:embed="rId2"/>
          <a:stretch/>
        </p:blipFill>
        <p:spPr>
          <a:xfrm>
            <a:off x="306360" y="476280"/>
            <a:ext cx="8442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3" descr=""/>
          <p:cNvPicPr/>
          <p:nvPr/>
        </p:nvPicPr>
        <p:blipFill>
          <a:blip r:embed="rId2"/>
          <a:stretch/>
        </p:blipFill>
        <p:spPr>
          <a:xfrm>
            <a:off x="609480" y="333360"/>
            <a:ext cx="7418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"/>
          <p:cNvPicPr/>
          <p:nvPr/>
        </p:nvPicPr>
        <p:blipFill>
          <a:blip r:embed="rId2"/>
          <a:stretch/>
        </p:blipFill>
        <p:spPr>
          <a:xfrm>
            <a:off x="609480" y="404640"/>
            <a:ext cx="79232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"/>
          <p:cNvPicPr/>
          <p:nvPr/>
        </p:nvPicPr>
        <p:blipFill>
          <a:blip r:embed="rId2"/>
          <a:stretch/>
        </p:blipFill>
        <p:spPr>
          <a:xfrm>
            <a:off x="609480" y="333360"/>
            <a:ext cx="77788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6345360" cy="132264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2" descr=""/>
          <p:cNvPicPr/>
          <p:nvPr/>
        </p:nvPicPr>
        <p:blipFill>
          <a:blip r:embed="rId2"/>
          <a:stretch/>
        </p:blipFill>
        <p:spPr>
          <a:xfrm>
            <a:off x="609480" y="1341360"/>
            <a:ext cx="7925040" cy="469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07880" y="558720"/>
            <a:ext cx="8307360" cy="551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57120" y="268200"/>
            <a:ext cx="8429760" cy="632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8440" y="357120"/>
            <a:ext cx="8488440" cy="6000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428760" y="357120"/>
            <a:ext cx="8358120" cy="600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57120" y="270000"/>
            <a:ext cx="8286840" cy="6210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108000" y="142920"/>
            <a:ext cx="898524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28684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79280" y="285840"/>
            <a:ext cx="8678880" cy="6143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98280" y="285840"/>
            <a:ext cx="8759880" cy="628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00040" y="379440"/>
            <a:ext cx="8072640" cy="6046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08:15:07Z</dcterms:created>
  <dc:creator>Windows 7</dc:creator>
  <dc:description/>
  <dc:language>en-US</dc:language>
  <cp:lastModifiedBy>Natalya</cp:lastModifiedBy>
  <dcterms:modified xsi:type="dcterms:W3CDTF">2015-10-15T05:59:58Z</dcterms:modified>
  <cp:revision>9</cp:revision>
  <dc:subject/>
  <dc:title>"Интерьер кухни -столовой. Оборудование кухни.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60000000000010290110207f7000400038000</vt:lpwstr>
  </property>
</Properties>
</file>