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AFF-A54A-43F8-ABE3-C6CCCD05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A44-8B51-4DFE-BE5A-9EB0CCD9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B4A-2058-42E4-B76A-CE417BEF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20B-4126-471F-BBD9-0F98C76F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A11-273A-499E-A9C2-15E21357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E45-766D-4181-BF5D-688C7B2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4E5-B010-4720-86C9-683B4867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3B2-17D8-424E-8815-37093820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359-15F1-4CAE-AD7A-DD423B5C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08F-48B3-41AB-91EC-4ACF9C62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430-8E43-4748-990C-BC979A3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707-0803-401A-9A78-209935FF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151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515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515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a8a8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a8a8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a8a8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4D0-B234-411E-AE9F-CC94FF245C41}" type="slidenum">
              <a:rPr b="0" lang="en-US" sz="1200" spc="-1" strike="noStrike">
                <a:solidFill>
                  <a:srgbClr val="8a8a8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stina.info/home.php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640" y="152280"/>
            <a:ext cx="91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«Уральская школа»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бильная зависимость подростков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304920" y="4800600"/>
            <a:ext cx="8502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 проекта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горова Алина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ца  7 класса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итель проекта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овикова Е.В.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</p:txBody>
      </p:sp>
      <p:pic>
        <p:nvPicPr>
          <p:cNvPr id="43" name="Picture 2" descr="http://babyben.ru/images/babyben/2017/02/come-ritrovare-lo-smartphone-smarrito-14.jpg"/>
          <p:cNvPicPr/>
          <p:nvPr/>
        </p:nvPicPr>
        <p:blipFill>
          <a:blip r:embed="rId1"/>
          <a:stretch/>
        </p:blipFill>
        <p:spPr>
          <a:xfrm>
            <a:off x="-990720" y="-34213680"/>
            <a:ext cx="10896840" cy="815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babyben.ru/images/babyben/2017/02/come-ritrovare-lo-smartphone-smarrito-14.jpg"/>
          <p:cNvPicPr/>
          <p:nvPr/>
        </p:nvPicPr>
        <p:blipFill>
          <a:blip r:embed="rId2"/>
          <a:stretch/>
        </p:blipFill>
        <p:spPr>
          <a:xfrm>
            <a:off x="152280" y="2571840"/>
            <a:ext cx="48006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76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1515"/>
                </a:solidFill>
                <a:latin typeface="Times New Roman"/>
                <a:ea typeface="Calibri"/>
              </a:rPr>
              <a:t>Выводы по результатам анкетирования</a:t>
            </a:r>
            <a:r>
              <a:rPr b="1" lang="ru-RU" sz="4000" spc="-1" strike="noStrike">
                <a:solidFill>
                  <a:srgbClr val="151515"/>
                </a:solidFill>
                <a:latin typeface="Times New Roman"/>
                <a:ea typeface="Calibri"/>
              </a:rPr>
              <a:t>:</a:t>
            </a:r>
            <a:endParaRPr b="0" lang="en-US" sz="40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0" y="1152360"/>
            <a:ext cx="8585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51515"/>
                </a:solidFill>
                <a:uFillTx/>
                <a:latin typeface="Times New Roman"/>
                <a:ea typeface="Calibri"/>
              </a:rPr>
              <a:t>Снижение учебной мотивации возникло в результате ряда причин: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Повышенный интерес нахождения в контакте («противная» школа)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Новые  телефонные знакомства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Бесполезное времяпрепровождение. 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Психическая зависимость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Полная безответственность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Не испытывают усталости от длительного общения в «соцсетях»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Отношение родителей к учебе ребенка, как к тяжкому бремени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79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Результаты анкетирования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279360" y="990720"/>
            <a:ext cx="8585280" cy="66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51515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Таким образом, анализ результатов диагностики показывает: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indent="179280" algn="just">
              <a:lnSpc>
                <a:spcPct val="125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что у учащихся большая потребность в общении по телефону, поиску информации и играм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indent="179280" algn="just">
              <a:lnSpc>
                <a:spcPct val="125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что они проводят очень много времени с телефоном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indent="179280" algn="just">
              <a:lnSpc>
                <a:spcPct val="125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часто пренебрегают сном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indent="179280" algn="just">
              <a:lnSpc>
                <a:spcPct val="125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у большого количества учащихся телефон находится возле  кровати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indent="179280" algn="just">
              <a:lnSpc>
                <a:spcPct val="125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большинство опрошенных не хотят отказываться от телефона на какое то время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indent="179280" algn="just">
              <a:lnSpc>
                <a:spcPct val="125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немногие считает себя зависимыми от мобильного телефона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Вывод: 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пользование мобильным телефоном перестало быть необходимостью и медленно перерастает в зависимость.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Анализ  результатов анкетирования подтверждает правильность выбора актуальной темы социального проекта.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2" name="AutoShape 68"/>
          <p:cNvSpPr/>
          <p:nvPr/>
        </p:nvSpPr>
        <p:spPr>
          <a:xfrm>
            <a:off x="15228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151515"/>
                </a:solidFill>
                <a:latin typeface="Times New Roman"/>
                <a:ea typeface="Calibri"/>
              </a:rPr>
              <a:t>Способы решения проблемы:</a:t>
            </a:r>
            <a:br>
              <a:rPr sz="4000"/>
            </a:br>
            <a:r>
              <a:rPr b="1" lang="ru-RU" sz="36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52280" y="773280"/>
            <a:ext cx="8585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Индивидуальная работа с учащимися и родителями;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Работа администрации с советом школы;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Введение в устав школы правил пользования телефоном и штрафных санкций;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Общешкольные и классные родительские собрания;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Круглые столы;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Дебаты;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Деловые игры;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15151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Ситуационные задачи.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5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Вывод: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127080" y="1246320"/>
            <a:ext cx="858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51515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151515"/>
                </a:solidFill>
                <a:latin typeface="Times New Roman"/>
                <a:ea typeface="Calibri"/>
              </a:rPr>
              <a:t>Проанализировав мнения участников опроса, можно сделать заключение, что данную проблему следует решать, повышая информационную культуру, менять систему взаимоотношений, необходимо использовать телефон по назначению. </a:t>
            </a:r>
            <a:endParaRPr b="0" lang="en-US" sz="36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1515"/>
                </a:solidFill>
                <a:latin typeface="Calibri"/>
                <a:ea typeface="Calibri"/>
              </a:rPr>
              <a:t> </a:t>
            </a:r>
            <a:endParaRPr b="0" lang="en-US" sz="36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8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1515"/>
                </a:solidFill>
                <a:latin typeface="Calibri"/>
              </a:rPr>
              <a:t>Результаты:</a:t>
            </a:r>
            <a:endParaRPr b="0" lang="en-US" sz="40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127080" y="812880"/>
            <a:ext cx="90169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Работа,  проведенная в рамках социального проекта,  имеет  позитивную результативность. Отзывы родителей педагогов школы положительные.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Работать над данным социальным проектом мне было очень интересно, я сама имею мобильный телефон. Провожу в его обществе, как выяснила в процессе работы над проектом, достаточно много времени.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Важной информацией о пользе и вреде мобильников, приобретенной мной при проведенных исследованиях, я поделилась еще и со сверстниками в социальных сетях.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Своим родным и близким я даю рекомендации по правильному использованию мобильных телефонов, чтобы не подвергать опасности их здоровье.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91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1515"/>
                </a:solidFill>
                <a:latin typeface="Times New Roman"/>
                <a:ea typeface="Calibri"/>
              </a:rPr>
              <a:t>Используемая литература:</a:t>
            </a:r>
            <a:endParaRPr b="0" lang="en-US" sz="40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127080" y="812880"/>
            <a:ext cx="90169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buClr>
                <a:srgbClr val="15151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«Телефономания – болезнь нашего времени»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76879"/>
                </a:solidFill>
                <a:uFillTx/>
                <a:latin typeface="Times New Roman"/>
                <a:ea typeface="Times New Roman"/>
                <a:hlinkClick r:id="rId1"/>
              </a:rPr>
              <a:t>http://www.istina.info/home.php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http://www.prophecynewswatch.com/article.cfm?recent_news_id=468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2. Дмитриева Т.Б., Шостакович Б.В., Агрессия и психическое здоровье, Юридический центр Пресс, 2002 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3. http://www.beautytime.ru/ Виды психологических зависимостей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beautytime.ru/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4. http://imago.spb.ru/soulbody/articles/index.html Проблемы интернет-звисимост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imago.spb.ru/soulbody/articles/index.html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5. http://www.priborinfo.ru/mobile/ опасность мобильной связ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6. XXIV Конференция научного общества учащихся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http://nenuda.ru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/воздействие- мобильного- телефона</a:t>
            </a:r>
            <a:r>
              <a:rPr b="0" lang="en-US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.html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7. «Мобиломания в школе. Что делать?»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http://bulavochki.ru/?p=8801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1515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7640" y="152280"/>
            <a:ext cx="91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«Уральская школа»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бильная зависимость подростков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4800600"/>
            <a:ext cx="8502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 проекта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горова Алина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ца  7 класса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итель проекта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овикова Е.В.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200" spc="-1" strike="noStrike">
              <a:solidFill>
                <a:srgbClr val="151515"/>
              </a:solidFill>
              <a:latin typeface="Calibri"/>
            </a:endParaRPr>
          </a:p>
        </p:txBody>
      </p:sp>
      <p:pic>
        <p:nvPicPr>
          <p:cNvPr id="95" name="Picture 2" descr="http://babyben.ru/images/babyben/2017/02/come-ritrovare-lo-smartphone-smarrito-14.jpg"/>
          <p:cNvPicPr/>
          <p:nvPr/>
        </p:nvPicPr>
        <p:blipFill>
          <a:blip r:embed="rId1"/>
          <a:stretch/>
        </p:blipFill>
        <p:spPr>
          <a:xfrm>
            <a:off x="-990720" y="-34213680"/>
            <a:ext cx="10896840" cy="815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babyben.ru/images/babyben/2017/02/come-ritrovare-lo-smartphone-smarrito-14.jpg"/>
          <p:cNvPicPr/>
          <p:nvPr/>
        </p:nvPicPr>
        <p:blipFill>
          <a:blip r:embed="rId2"/>
          <a:stretch/>
        </p:blipFill>
        <p:spPr>
          <a:xfrm>
            <a:off x="152280" y="2571840"/>
            <a:ext cx="48006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6" name="AutoShape 68"/>
          <p:cNvSpPr/>
          <p:nvPr/>
        </p:nvSpPr>
        <p:spPr>
          <a:xfrm>
            <a:off x="762120" y="228600"/>
            <a:ext cx="66960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굴림"/>
              </a:rPr>
              <a:t>Цель проекта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0" y="1295280"/>
            <a:ext cx="9144000" cy="36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lnSpc>
                <a:spcPct val="115000"/>
              </a:lnSpc>
              <a:buClr>
                <a:srgbClr val="15151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выяснить причины мобильной зависимости у подростков и определить пути решения данной проблемы. </a:t>
            </a: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indent="179280" algn="just">
              <a:lnSpc>
                <a:spcPct val="115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굴림"/>
              </a:rPr>
              <a:t>Задачи  проекта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30040" y="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5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30040" y="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5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04920" y="22860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- познакомиться с имеющейся информацией о развитии мобильной связи; </a:t>
            </a: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- выявить причины мобильной зависимости у подростков; </a:t>
            </a: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- провести социологический опрос среди учащихся нашей школы с целью изучения, какая часть подростков подвержена «мобиломании»; </a:t>
            </a: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- найти способы избавления от нее. </a:t>
            </a: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pic>
        <p:nvPicPr>
          <p:cNvPr id="51" name="Picture 9" descr="http://fb.ru/media/i/7/0/4/2/2/i/70422_700x368.jpg"/>
          <p:cNvPicPr/>
          <p:nvPr/>
        </p:nvPicPr>
        <p:blipFill>
          <a:blip r:embed="rId1"/>
          <a:stretch/>
        </p:blipFill>
        <p:spPr>
          <a:xfrm>
            <a:off x="457200" y="3741840"/>
            <a:ext cx="76201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3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Гипотеза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279360" y="1198440"/>
            <a:ext cx="85852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Мобиломан воспринимает телефон как часть себя, поэтому если с ним что-то происходит, он испытывает почти физическое ощущения боли. При этом «телефонозависимые» вообще не могут представить себя без мобильного: «Если оставлю сотовый дома, возникает такое ощущение, будто наступил хаос, апокалипсис. Ведь в нем органайзер на текущий день, записи оригинальных мыслей, шопинг-лист, напоминалки, контакты, ценная информация, там все, все!»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Я думаю, что большинство учащихся нашей школы не знают о негативных последствиях влияния мобильных телефонов на их молодой организм, на психическое здоровье.</a:t>
            </a: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6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27080" y="787320"/>
            <a:ext cx="8585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Мобиломания или телефономания является болезнью нашего времени. Настораживает мобильная зависимость у детей и подростков, ведь вместо того чтоб на уроках заниматься учёбой, они играют в игры, общаются, слушают музыку, сморят фото, видео ролики. Для выяснения негативного воздействия сотовых телефонов на физиологию человека учёные провели большое количество исследований и экспериментов. Массовых воздействий и причинения вреда, выявлено не было, но отдельное негативное воздействие происходило, особенно в случае несоблюдения элементарных правил использования мобильного телефона. Самой распространённой причиной появления зависимости от мобильного телефона является стремление закрыться от мира, от жизненных проблем, укрыться в комфортном своем мире. 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59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Calibri"/>
              </a:rPr>
              <a:t>Социальная значимость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27080" y="804960"/>
            <a:ext cx="8585280" cy="63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51515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151515"/>
                </a:solidFill>
                <a:latin typeface="Times New Roman"/>
                <a:ea typeface="Calibri"/>
              </a:rPr>
              <a:t>Проекта выражается в том, что данная проблема затрагивает учащихся , учителей и родителей, т.е. всех участников образовательного процесса. Есть необходимость поиска единых методов взаимодействия учащихся, педагогов и родителей. Только совместными усилиями можно решить проблему.</a:t>
            </a:r>
            <a:endParaRPr b="0" lang="en-US" sz="36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2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Calibri"/>
              </a:rPr>
              <a:t>Практическая значимость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27080" y="804960"/>
            <a:ext cx="858528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151515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Практическая значимость проекта состоит  в том, что результаты исследования могут использоваться: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учащимися для подготовки к уроку, написания реферата, продолжения исследований,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учителями для планирования беседы с учащимися,  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классными руководителями для подготовки и проведения родительского собрания и классного часа по профилактике ЗОЖ,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родители для ознакомления и применения в своей жизни и  воспитании детей знаний о пользе и вреде телефонов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5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Calibri"/>
              </a:rPr>
              <a:t>Объект исследования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79360" y="1066680"/>
            <a:ext cx="858528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51515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Для моего социального проекта объектом исследования стали учащиеся МОУ «Уральская школа»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151515"/>
              </a:solidFill>
              <a:latin typeface="Calibri"/>
            </a:endParaRPr>
          </a:p>
        </p:txBody>
      </p:sp>
      <p:pic>
        <p:nvPicPr>
          <p:cNvPr id="67" name="Picture 6" descr="http://orenburg-gsm.ru/publishing/wp-content/uploads/2015/05/1.jpg"/>
          <p:cNvPicPr/>
          <p:nvPr/>
        </p:nvPicPr>
        <p:blipFill>
          <a:blip r:embed="rId1"/>
          <a:stretch/>
        </p:blipFill>
        <p:spPr>
          <a:xfrm>
            <a:off x="1905120" y="2133720"/>
            <a:ext cx="6781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69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Calibri"/>
              </a:rPr>
              <a:t>Предмет исследования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79360" y="1219320"/>
            <a:ext cx="85852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51515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Для моего социального проекта предметом исследования является зависимость от мобильного телефона- мобиломания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Участники проекта</a:t>
            </a:r>
            <a:r>
              <a:rPr b="0" lang="ru-RU" sz="2800" spc="-1" strike="noStrike">
                <a:solidFill>
                  <a:srgbClr val="151515"/>
                </a:solidFill>
                <a:latin typeface="Times New Roman"/>
                <a:ea typeface="Calibri"/>
              </a:rPr>
              <a:t>: учащиеся 6-11классов.</a:t>
            </a: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1515"/>
              </a:solidFill>
              <a:latin typeface="Calibri"/>
            </a:endParaRPr>
          </a:p>
        </p:txBody>
      </p:sp>
      <p:pic>
        <p:nvPicPr>
          <p:cNvPr id="71" name="Picture 6" descr="https://www.javea.com/wp-content/uploads/2014/10/Grupo-de-j%C3%B3venes-con-sus-tel%C3%A9fonos-m%C3%B3viles.jpg"/>
          <p:cNvPicPr/>
          <p:nvPr/>
        </p:nvPicPr>
        <p:blipFill>
          <a:blip r:embed="rId1"/>
          <a:stretch/>
        </p:blipFill>
        <p:spPr>
          <a:xfrm>
            <a:off x="1066680" y="3213000"/>
            <a:ext cx="69343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1701720"/>
            <a:ext cx="70106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73" name="AutoShape 68"/>
          <p:cNvSpPr/>
          <p:nvPr/>
        </p:nvSpPr>
        <p:spPr>
          <a:xfrm>
            <a:off x="533520" y="152280"/>
            <a:ext cx="7772400" cy="635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51515"/>
                </a:solidFill>
                <a:latin typeface="Times New Roman"/>
                <a:ea typeface="Times New Roman"/>
              </a:rPr>
              <a:t>Наши действия</a:t>
            </a:r>
            <a:endParaRPr b="0" lang="en-US" sz="5400" spc="-1" strike="noStrike">
              <a:solidFill>
                <a:srgbClr val="151515"/>
              </a:solidFill>
              <a:latin typeface="Calibri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279360" y="1371600"/>
            <a:ext cx="85852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1. Проведение с учащимися анкетирования.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  <a:ea typeface="Calibri"/>
              </a:rPr>
              <a:t>2. Нахождение способов повышения мотивации к учению, исходя из выясненных фактов вредного влияния «сотовых » на психическое и физическое  здоровье учащихся.</a:t>
            </a:r>
            <a:endParaRPr b="0" lang="en-US" sz="32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5151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06:14Z</dcterms:created>
  <dc:creator>Admin</dc:creator>
  <dc:description/>
  <dc:language>en-US</dc:language>
  <cp:lastModifiedBy>User</cp:lastModifiedBy>
  <dcterms:modified xsi:type="dcterms:W3CDTF">2018-03-20T14:49:41Z</dcterms:modified>
  <cp:revision>278</cp:revision>
  <dc:subject/>
  <dc:title>Slide 1</dc:title>
</cp:coreProperties>
</file>