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D72-9EC0-465A-B6F7-E6ED7A42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75A-4600-420B-9A36-EF2645F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A13-B46E-430B-86EF-3058133D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9F8-C390-4A0A-85C4-BC7F4793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6E3-0158-41D5-A9D6-A0DEF305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422-0282-4512-BB9F-9336F147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42D-6B76-4CFF-8383-325AC71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922-6325-4565-BE64-B8E16A2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198-F600-4291-A5B6-21012923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B44-5A2F-48C3-AFEA-AD3E2988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31A-13F9-4B13-8E95-4AE2B768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993-F097-454E-AD0E-6F57EF1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8D7-8FE2-4EF7-B956-0A67F4E1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hington D.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capital city of the U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3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stands on the Potomac river close to the country’s east coast. D.C stands for District of Columbia, meaning that Washington is a special area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9 из 84000"/>
          <p:cNvPicPr/>
          <p:nvPr/>
        </p:nvPicPr>
        <p:blipFill>
          <a:blip r:embed="rId1"/>
          <a:stretch/>
        </p:blipFill>
        <p:spPr>
          <a:xfrm>
            <a:off x="250920" y="1484280"/>
            <a:ext cx="5057640" cy="391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5516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s itself and is not included in any of th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2133360"/>
            <a:ext cx="8209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 из 57263"/>
          <p:cNvPicPr/>
          <p:nvPr/>
        </p:nvPicPr>
        <p:blipFill>
          <a:blip r:embed="rId1"/>
          <a:stretch/>
        </p:blipFill>
        <p:spPr>
          <a:xfrm>
            <a:off x="250920" y="404640"/>
            <a:ext cx="838836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atue of Libe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tuated on the Liberty Island, In New York Harbor, was given to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38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France to celebrate the American and French  rev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38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man   is holding a torch and represents                   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38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 из 18748"/>
          <p:cNvPicPr/>
          <p:nvPr/>
        </p:nvPicPr>
        <p:blipFill>
          <a:blip r:embed="rId1"/>
          <a:stretch/>
        </p:blipFill>
        <p:spPr>
          <a:xfrm>
            <a:off x="179280" y="1773360"/>
            <a:ext cx="587556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e American fla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s often called "The Stars and Stri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0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t has 13 horizontal white which stand for the original 13 states. In the top left hand corner there are 50 white stars on a blue background: one star for each st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18 из 910"/>
          <p:cNvPicPr/>
          <p:nvPr/>
        </p:nvPicPr>
        <p:blipFill>
          <a:blip r:embed="rId1"/>
          <a:stretch/>
        </p:blipFill>
        <p:spPr>
          <a:xfrm>
            <a:off x="179280" y="1341360"/>
            <a:ext cx="49910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d West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western US, where many European settlers moved during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to establish new farms and new c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1 из 34983"/>
          <p:cNvPicPr/>
          <p:nvPr/>
        </p:nvPicPr>
        <p:blipFill>
          <a:blip r:embed="rId1"/>
          <a:stretch/>
        </p:blipFill>
        <p:spPr>
          <a:xfrm>
            <a:off x="1763640" y="1557360"/>
            <a:ext cx="5473800" cy="364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3737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een as a place where people were able to be very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original people of America, who lived there before white people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Картинка 3 из 55868"/>
          <p:cNvPicPr/>
          <p:nvPr/>
        </p:nvPicPr>
        <p:blipFill>
          <a:blip r:embed="rId1"/>
          <a:stretch/>
        </p:blipFill>
        <p:spPr>
          <a:xfrm>
            <a:off x="5364000" y="1700280"/>
            <a:ext cx="3276720" cy="396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060640"/>
            <a:ext cx="48974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used to be called Indians by whit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he year of 1622 marked the beginning of the century-long conflict between the Native Americans and the white settl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ebrate the time when settlers who came to the north America from England were saved by Na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s.The Native Americans showed them how to grow corn and other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112 из 38930"/>
          <p:cNvPicPr/>
          <p:nvPr/>
        </p:nvPicPr>
        <p:blipFill>
          <a:blip r:embed="rId1"/>
          <a:stretch/>
        </p:blipFill>
        <p:spPr>
          <a:xfrm>
            <a:off x="1332000" y="170028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6:32:31Z</dcterms:created>
  <dc:creator>Customer</dc:creator>
  <dc:description/>
  <dc:language>en-US</dc:language>
  <cp:lastModifiedBy>Customer</cp:lastModifiedBy>
  <dcterms:modified xsi:type="dcterms:W3CDTF">2011-02-13T18:10:01Z</dcterms:modified>
  <cp:revision>2</cp:revision>
  <dc:subject/>
  <dc:title>Слайд 1</dc:title>
</cp:coreProperties>
</file>