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4.jpeg" ContentType="image/jpeg"/>
  <Override PartName="/ppt/media/image12.wmf" ContentType="image/x-wmf"/>
  <Override PartName="/ppt/media/image4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4.wmf" ContentType="image/x-wmf"/>
  <Override PartName="/ppt/media/image32.jpeg" ContentType="image/jpeg"/>
  <Override PartName="/ppt/media/image27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A47-D4E3-474F-A97A-256832D2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86A-AFAC-4814-8236-5C1B975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2FD-BD53-454B-B930-D3EB538C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D89-EE3D-4599-B366-D26CA07A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931-B937-45E9-BBF4-DD5B4246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1C0-F272-4E90-963C-9494B10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895-BBE9-4BEC-990A-0CB47A0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D45-A56C-4022-B730-EA0A658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4EA-32A3-4D39-92AF-88B3A5D8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680-796F-4D96-A92C-2E00AFC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A52-6B7D-4B25-B431-878E63A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5C4-E8EA-4871-A873-2120340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B23-245E-4AA8-83AD-4C06797B4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Швейное изделие в технике «Син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284720" y="350028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рнилова Ю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ен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9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84360" y="11253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Жакет «Микс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зучить литературу по пошиву жакета и журналы м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знакомиться с историей жакета и техники «Синел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зучить и подобрать тк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учиться конструировать и моделировать жак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добрать инструменты и вспомнить работу на швейной маш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спомнить работу с экономическими расчё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вёздочка обдумы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6"/>
          <p:cNvSpPr/>
          <p:nvPr/>
        </p:nvSpPr>
        <p:spPr>
          <a:xfrm>
            <a:off x="24120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242280" y="1367640"/>
            <a:ext cx="23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iagram 84"/>
          <p:cNvGrpSpPr/>
          <p:nvPr/>
        </p:nvGrpSpPr>
        <p:grpSpPr>
          <a:xfrm>
            <a:off x="581400" y="1373040"/>
            <a:ext cx="8061480" cy="5079240"/>
            <a:chOff x="581400" y="1373040"/>
            <a:chExt cx="8061480" cy="5079240"/>
          </a:xfrm>
        </p:grpSpPr>
        <p:sp>
          <p:nvSpPr>
            <p:cNvPr id="101" name="_s1028"/>
            <p:cNvSpPr/>
            <p:nvPr/>
          </p:nvSpPr>
          <p:spPr>
            <a:xfrm flipH="1" flipV="1">
              <a:off x="3130920" y="2680560"/>
              <a:ext cx="988560" cy="821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29"/>
            <p:cNvSpPr/>
            <p:nvPr/>
          </p:nvSpPr>
          <p:spPr>
            <a:xfrm>
              <a:off x="1798920" y="1761120"/>
              <a:ext cx="1681920" cy="1018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обосн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0"/>
            <p:cNvSpPr/>
            <p:nvPr/>
          </p:nvSpPr>
          <p:spPr>
            <a:xfrm flipH="1" flipV="1">
              <a:off x="2220480" y="3441960"/>
              <a:ext cx="1595520" cy="313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1"/>
            <p:cNvSpPr/>
            <p:nvPr/>
          </p:nvSpPr>
          <p:spPr>
            <a:xfrm>
              <a:off x="581400" y="2776680"/>
              <a:ext cx="1681920" cy="10184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Безопас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тру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 flipH="1">
              <a:off x="2220480" y="4069440"/>
              <a:ext cx="1595520" cy="313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581400" y="4032000"/>
              <a:ext cx="1681920" cy="10188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Технолог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изготовл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 flipH="1">
              <a:off x="3133800" y="4322880"/>
              <a:ext cx="985680" cy="819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1801800" y="5047200"/>
              <a:ext cx="1682640" cy="101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актическ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значим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4612320" y="4418280"/>
              <a:ext cx="0" cy="1015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7"/>
            <p:cNvSpPr/>
            <p:nvPr/>
          </p:nvSpPr>
          <p:spPr>
            <a:xfrm>
              <a:off x="3772440" y="5433480"/>
              <a:ext cx="1681920" cy="10188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нструировани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дел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5101920" y="4320720"/>
              <a:ext cx="987840" cy="821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9"/>
            <p:cNvSpPr/>
            <p:nvPr/>
          </p:nvSpPr>
          <p:spPr>
            <a:xfrm>
              <a:off x="5742720" y="5045040"/>
              <a:ext cx="1682640" cy="1018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Инструменты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испособления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оборуд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40"/>
            <p:cNvSpPr/>
            <p:nvPr/>
          </p:nvSpPr>
          <p:spPr>
            <a:xfrm>
              <a:off x="5405400" y="4067640"/>
              <a:ext cx="1595520" cy="312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1"/>
            <p:cNvSpPr/>
            <p:nvPr/>
          </p:nvSpPr>
          <p:spPr>
            <a:xfrm>
              <a:off x="6960240" y="4030200"/>
              <a:ext cx="1682640" cy="10184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Выбор тка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2"/>
            <p:cNvSpPr/>
            <p:nvPr/>
          </p:nvSpPr>
          <p:spPr>
            <a:xfrm flipV="1">
              <a:off x="5405400" y="3440520"/>
              <a:ext cx="1595520" cy="312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3"/>
            <p:cNvSpPr/>
            <p:nvPr/>
          </p:nvSpPr>
          <p:spPr>
            <a:xfrm>
              <a:off x="6960240" y="2774880"/>
              <a:ext cx="1682640" cy="10184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Экологическ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обосн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4"/>
            <p:cNvSpPr/>
            <p:nvPr/>
          </p:nvSpPr>
          <p:spPr>
            <a:xfrm flipV="1">
              <a:off x="5101920" y="2680560"/>
              <a:ext cx="984960" cy="819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5"/>
            <p:cNvSpPr/>
            <p:nvPr/>
          </p:nvSpPr>
          <p:spPr>
            <a:xfrm>
              <a:off x="5739840" y="1759320"/>
              <a:ext cx="1681920" cy="101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да, стиль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силуэ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 flipV="1">
              <a:off x="4608720" y="2389680"/>
              <a:ext cx="0" cy="1014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7"/>
            <p:cNvSpPr/>
            <p:nvPr/>
          </p:nvSpPr>
          <p:spPr>
            <a:xfrm>
              <a:off x="3769200" y="1373040"/>
              <a:ext cx="1682640" cy="10184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блема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отреб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48"/>
            <p:cNvSpPr/>
            <p:nvPr/>
          </p:nvSpPr>
          <p:spPr>
            <a:xfrm>
              <a:off x="3769200" y="3404880"/>
              <a:ext cx="1682640" cy="1018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Жакет в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техник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«Синель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нстр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8394480" cy="4664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"/>
          <p:cNvPicPr/>
          <p:nvPr/>
        </p:nvPicPr>
        <p:blipFill>
          <a:blip r:embed="rId3"/>
          <a:stretch/>
        </p:blipFill>
        <p:spPr>
          <a:xfrm>
            <a:off x="5792760" y="627120"/>
            <a:ext cx="4376880" cy="4376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"/>
          <p:cNvPicPr/>
          <p:nvPr/>
        </p:nvPicPr>
        <p:blipFill>
          <a:blip r:embed="rId4"/>
          <a:stretch/>
        </p:blipFill>
        <p:spPr>
          <a:xfrm>
            <a:off x="5351400" y="1120680"/>
            <a:ext cx="2097000" cy="2097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"/>
          <p:cNvPicPr/>
          <p:nvPr/>
        </p:nvPicPr>
        <p:blipFill>
          <a:blip r:embed="rId5"/>
          <a:stretch/>
        </p:blipFill>
        <p:spPr>
          <a:xfrm>
            <a:off x="5923080" y="3139920"/>
            <a:ext cx="1512720" cy="1317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6"/>
          <a:stretch/>
        </p:blipFill>
        <p:spPr>
          <a:xfrm>
            <a:off x="4869000" y="3324240"/>
            <a:ext cx="3792240" cy="3790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"/>
          <p:cNvPicPr/>
          <p:nvPr/>
        </p:nvPicPr>
        <p:blipFill>
          <a:blip r:embed="rId7"/>
          <a:stretch/>
        </p:blipFill>
        <p:spPr>
          <a:xfrm>
            <a:off x="3995640" y="2852640"/>
            <a:ext cx="1903680" cy="1897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8"/>
          <a:stretch/>
        </p:blipFill>
        <p:spPr>
          <a:xfrm>
            <a:off x="2771640" y="177336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"/>
          <p:cNvPicPr/>
          <p:nvPr/>
        </p:nvPicPr>
        <p:blipFill>
          <a:blip r:embed="rId9"/>
          <a:stretch/>
        </p:blipFill>
        <p:spPr>
          <a:xfrm>
            <a:off x="4067280" y="1125360"/>
            <a:ext cx="1671480" cy="16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инадле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0" descr=""/>
          <p:cNvPicPr/>
          <p:nvPr/>
        </p:nvPicPr>
        <p:blipFill>
          <a:blip r:embed="rId2"/>
          <a:stretch/>
        </p:blipFill>
        <p:spPr>
          <a:xfrm rot="300000">
            <a:off x="5435280" y="1267920"/>
            <a:ext cx="1682640" cy="2652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ранд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ртновский 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1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2462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боруд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Швейная маш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т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2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3024360" cy="2746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icture_25_16_19_04_14"/>
          <p:cNvPicPr/>
          <p:nvPr/>
        </p:nvPicPr>
        <p:blipFill>
          <a:blip r:embed="rId3"/>
          <a:stretch/>
        </p:blipFill>
        <p:spPr>
          <a:xfrm>
            <a:off x="1187280" y="3645000"/>
            <a:ext cx="3024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атериа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2"/>
          <a:stretch/>
        </p:blipFill>
        <p:spPr>
          <a:xfrm>
            <a:off x="469800" y="1600200"/>
            <a:ext cx="8202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"/>
          <p:cNvPicPr/>
          <p:nvPr/>
        </p:nvPicPr>
        <p:blipFill>
          <a:blip r:embed="rId3"/>
          <a:stretch/>
        </p:blipFill>
        <p:spPr>
          <a:xfrm>
            <a:off x="2771640" y="2205000"/>
            <a:ext cx="2567160" cy="1927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2803680" cy="1859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3" descr=""/>
          <p:cNvPicPr/>
          <p:nvPr/>
        </p:nvPicPr>
        <p:blipFill>
          <a:blip r:embed="rId5"/>
          <a:stretch/>
        </p:blipFill>
        <p:spPr>
          <a:xfrm>
            <a:off x="1692360" y="4292640"/>
            <a:ext cx="268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66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Экономическое обосн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5840" y="774720"/>
          <a:ext cx="8501040" cy="6122880"/>
        </p:xfrm>
        <a:graphic>
          <a:graphicData uri="http://schemas.openxmlformats.org/drawingml/2006/table">
            <a:tbl>
              <a:tblPr/>
              <a:tblGrid>
                <a:gridCol w="996840"/>
                <a:gridCol w="3519360"/>
                <a:gridCol w="1460520"/>
                <a:gridCol w="1524240"/>
                <a:gridCol w="100008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х/б жёлтая наб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х/б красная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х/б синяя с груш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х/б бордовая в горо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73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для основы х/б, коричне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подкладоч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73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.маши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руб. 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99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00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99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.л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00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82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 закрой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руб.(аморт. 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00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82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ю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руб.(аморт.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5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ебестоимость моего жакета без учетов оплаты труда 1035 руб. Стоимость моего труда рассчитывается, таким образом, 12100 (минимальная оплата труда): 164,2 (среднегодовая норма часов) = 73,69 руб. (стоимость одного часа работы) Я выполняла свой жакет 40 часов. Таким образом, стоимость моего труда – 73,69 * 40 = 2947,60 р. 1кВат в час работы на швейной машине стоит 5,26 р. Я работала 20 часа. 5,26 * 20 = 105,20 руб. А общая себестоимость моего жакета  1035 + 2947,60 + 105,20 = 4087,80руб. А так как жакет я шила для себя сама, имея уже инструменты и швейную машинку, мой жакет обошёлся мне в  569 руб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Рекл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01920" y="1412640"/>
            <a:ext cx="8078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Захотела сшить жак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Ткани раздобы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Собрала в слои я и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Строчки пролож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Между ними есть разрез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Я их распуш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Стильный, модный и «ручной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Креативный жакет м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Елена\Desktop\Конкурс За всякое дел берись умело 2015\20150422_144802.jpg"/>
          <p:cNvPicPr/>
          <p:nvPr/>
        </p:nvPicPr>
        <p:blipFill>
          <a:blip r:embed="rId2"/>
          <a:stretch/>
        </p:blipFill>
        <p:spPr>
          <a:xfrm>
            <a:off x="2857680" y="0"/>
            <a:ext cx="3929040" cy="6572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стория жакета и техники «Синел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ервый женский жакет появился на сцене мировой моды только в 70-х годах XX века. Первопроходцем стал модельер, представивший женский жакет в своей дизайнерской коллекции, как и в истории с брюками это был Ив Сен-Лоран. Особенно популярным жакет стал во многом благодаря развитию кинематографа. Видя на экранах актрис в стильных жакетах, женщины по всему миру поддавались желанию примерить что-то похожее. Со временем жакет начал видоизменяться, впрочем, как и непостоянный женский характер. Появились различные стильные конфигурации, новый крой, женственные детали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Италии времен Ренессанса появилась техника шитья, ныне известная как шенил или синель, предшественница моды «швы наруж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едует сказать, что несколько веков назад этот прием работы с тканью служил только целям подновления и утепления одежды, а также утилизации сильно изношенных тка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временное название сениль (или синель), очевидно, появилось уже в XX веке, когда вид этой новой ткани ассоциировался с уже знакомыми матери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обое распространение синель получила в 30-е годы XIX века. В ХХ веке использовался в основном при изготовлении детских игруше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исок используемой литерат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1513080" cy="1430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1584360" cy="1382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4"/>
          <a:stretch/>
        </p:blipFill>
        <p:spPr>
          <a:xfrm>
            <a:off x="5364000" y="3429000"/>
            <a:ext cx="1714680" cy="2168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"/>
          <p:cNvPicPr/>
          <p:nvPr/>
        </p:nvPicPr>
        <p:blipFill>
          <a:blip r:embed="rId5"/>
          <a:stretch/>
        </p:blipFill>
        <p:spPr>
          <a:xfrm>
            <a:off x="2340000" y="3429000"/>
            <a:ext cx="1711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Банк ид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mage_534441"/>
          <p:cNvPicPr/>
          <p:nvPr/>
        </p:nvPicPr>
        <p:blipFill>
          <a:blip r:embed="rId2"/>
          <a:stretch/>
        </p:blipFill>
        <p:spPr>
          <a:xfrm>
            <a:off x="179280" y="476280"/>
            <a:ext cx="2867040" cy="22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mage_736581"/>
          <p:cNvPicPr/>
          <p:nvPr/>
        </p:nvPicPr>
        <p:blipFill>
          <a:blip r:embed="rId3"/>
          <a:stretch/>
        </p:blipFill>
        <p:spPr>
          <a:xfrm>
            <a:off x="6659640" y="260280"/>
            <a:ext cx="2138400" cy="283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Documents and Settings\Admin\Рабочий стол\синель\dd25569191-odezhda-zhaket-iz-pavlovoposadskogo-platka-n2447[3].jpg"/>
          <p:cNvPicPr/>
          <p:nvPr/>
        </p:nvPicPr>
        <p:blipFill>
          <a:blip r:embed="rId4"/>
          <a:stretch/>
        </p:blipFill>
        <p:spPr>
          <a:xfrm>
            <a:off x="468360" y="3500280"/>
            <a:ext cx="216360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5003640" y="2276640"/>
            <a:ext cx="151452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3132000" y="1773360"/>
            <a:ext cx="1800360" cy="33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4922141"/>
          <p:cNvPicPr/>
          <p:nvPr/>
        </p:nvPicPr>
        <p:blipFill>
          <a:blip r:embed="rId7"/>
          <a:stretch/>
        </p:blipFill>
        <p:spPr>
          <a:xfrm>
            <a:off x="6659640" y="3500280"/>
            <a:ext cx="2095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оциологический 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Диаграмма 6" descr=""/>
          <p:cNvPicPr/>
          <p:nvPr/>
        </p:nvPicPr>
        <p:blipFill>
          <a:blip r:embed="rId2"/>
          <a:stretch/>
        </p:blipFill>
        <p:spPr>
          <a:xfrm>
            <a:off x="4637160" y="1936800"/>
            <a:ext cx="3863880" cy="2421000"/>
          </a:xfrm>
          <a:prstGeom prst="rect">
            <a:avLst/>
          </a:prstGeom>
          <a:ln w="0">
            <a:noFill/>
          </a:ln>
        </p:spPr>
      </p:pic>
      <p:pic>
        <p:nvPicPr>
          <p:cNvPr id="67" name="Диаграмма 7" descr=""/>
          <p:cNvPicPr/>
          <p:nvPr/>
        </p:nvPicPr>
        <p:blipFill>
          <a:blip r:embed="rId3"/>
          <a:stretch/>
        </p:blipFill>
        <p:spPr>
          <a:xfrm>
            <a:off x="2357280" y="4357800"/>
            <a:ext cx="3867480" cy="2341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500200" y="114300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ыло опрошено  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иаграмма 9" descr=""/>
          <p:cNvPicPr/>
          <p:nvPr/>
        </p:nvPicPr>
        <p:blipFill>
          <a:blip r:embed="rId4"/>
          <a:stretch/>
        </p:blipFill>
        <p:spPr>
          <a:xfrm>
            <a:off x="428760" y="1857240"/>
            <a:ext cx="3786120" cy="2422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1357200" y="3000240"/>
            <a:ext cx="28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285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857240" y="2928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1928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1285920" y="35719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342900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4214880" y="50720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714840" y="5857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4286160" y="5857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535788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000840" y="3214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Экспери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:\эксперемент\100_2632.JPG"/>
          <p:cNvPicPr/>
          <p:nvPr/>
        </p:nvPicPr>
        <p:blipFill>
          <a:blip r:embed="rId2"/>
          <a:stretch/>
        </p:blipFill>
        <p:spPr>
          <a:xfrm>
            <a:off x="714240" y="1357200"/>
            <a:ext cx="3130560" cy="234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:\эксперемент\100_2637.JPG"/>
          <p:cNvPicPr/>
          <p:nvPr/>
        </p:nvPicPr>
        <p:blipFill>
          <a:blip r:embed="rId3"/>
          <a:stretch/>
        </p:blipFill>
        <p:spPr>
          <a:xfrm>
            <a:off x="4714920" y="1357200"/>
            <a:ext cx="3225600" cy="241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2500200" y="4143240"/>
            <a:ext cx="340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ой выб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040" y="3142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Я выбрала модель №2 , потому что она мне больше всего понравилась. Но так как шить жакет из Павлово-посадских платков очень дорого , я решила сшить жакет из тканей х/б разного цвета. Ткань для своего изделия мне дала мама из бабушкиного шкафа. Ткань оказалась разного цвета , а мне этого и надо было. Так как техника «Синель» выполняется от 2 до 6 слоёв однородной ткани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age_736581"/>
          <p:cNvPicPr/>
          <p:nvPr/>
        </p:nvPicPr>
        <p:blipFill>
          <a:blip r:embed="rId2"/>
          <a:stretch/>
        </p:blipFill>
        <p:spPr>
          <a:xfrm>
            <a:off x="500040" y="285840"/>
            <a:ext cx="21384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Uw2x-eNDP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зготовление  жакета в технике «Синел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9:03:12Z</dcterms:created>
  <dc:creator>Пользователь</dc:creator>
  <dc:description/>
  <dc:language>en-US</dc:language>
  <cp:lastModifiedBy>днс</cp:lastModifiedBy>
  <dcterms:modified xsi:type="dcterms:W3CDTF">2020-07-24T02:00:51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a0000000000010290110207f7000400038000</vt:lpwstr>
  </property>
</Properties>
</file>