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7BC3-6EC4-4652-BE91-300F7B6AF5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8767-17CD-460C-8745-FFCFFA4FE7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F54B-6A35-46FF-A280-66902A0BC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колько частей раздели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7CF8-B1AA-47CB-B59A-9D243C0F9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колько частей раздели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8A04-17A4-4404-8011-ED5D58C711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Его ча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Цел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3AE3-D151-4BF5-AFE2-94C783ED93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уализация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то догадался : какая тема ур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ы будем учиться получать доли и их обозначать. Будем учиться сравнивать доли одного и того же предмета и записывать их дроб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64F7-E567-4EEE-87AB-1C702EE8B6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Выложите круг, разделенный на 4 ч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ак называется каждая доля круга?   (1/4 его часть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жите 2/4 к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ак записать это дробь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Покажите 4/4 круга.  (Целый кру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равните ¼ и ¾.  (1/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/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628A-0A1E-439D-BC65-1EF84E5FD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оздание проблем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19B1-AA1B-430C-9A91-E5717D5F5B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Физкультурная пауза. Солнышко выглянуло – вам улыбаетс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- Какая часть солнышка желтого цвета? Какая часть красного цвета? Какая часть солнышка вишневого цве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575A-6806-4ABC-965D-EEE5BBBD5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/6.  У куба 6 гра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4248-0345-42B6-9FAE-8CDF9F3616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546A-15DE-43B0-B3D1-470F920EE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Делить предмет на доли. Сравнивать доли одного и того же предмета, записывать их дробя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C88D-3EE9-4B34-95B0-38D5297E1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целое яблоко поделили на 2 части, доли ,т.е.попо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9033-4B34-47B1-95EB-B5EE6EB61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е половинки, две ч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7DC-EA65-4553-90E3-183BC8C6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A37-C007-46D1-9B38-5CE27EE3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FD8-EA91-4A34-8BB3-FCF50E1E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CB1-0F22-4E9C-B87F-776E0D28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C79-A304-4A96-A326-62186050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515-2B76-4E22-A18C-DD597472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499-8CD3-475C-A58B-615D4C21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3F6-A8C7-4DBE-B046-6D6DB31B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4FB-B092-497D-831A-0491905E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89B-5782-44FC-8B5D-7D81B649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BE9-3E3D-4B29-978F-BD22A7E7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404-9FBE-4F10-9C9A-544172DC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7608-114B-4F5A-ABC8-216CF8587E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Доли. Получение и образование дол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132000" y="4149720"/>
            <a:ext cx="56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Автор: учитель МБОУ «Лицей  №15» им. акад. Ю.Б.Харито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г.Са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ушко Ольга 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лександров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Как же записать нам эт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оловину, ча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Это дробь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3995640" y="2997360"/>
            <a:ext cx="136836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61308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то обозначает число под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т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39640" y="4937040"/>
            <a:ext cx="860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Число под чертой называют 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математике </a:t>
            </a: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знаменателем дроби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11280" y="321300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 сколько частей разделил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258920" y="620640"/>
            <a:ext cx="109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Arial"/>
              </a:rPr>
              <a:t>2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1116000" y="1628640"/>
            <a:ext cx="86364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836280"/>
            <a:ext cx="67788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то обозначает числ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над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т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501336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Число над чертой называют 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математик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числителем дроб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39640" y="350028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колько частей взял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54200" y="1076400"/>
            <a:ext cx="109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Arial"/>
              </a:rPr>
              <a:t>2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611280" y="2084400"/>
            <a:ext cx="86364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1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293840" y="676440"/>
            <a:ext cx="7777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Чем является половина по отношению к целому яблоку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Его частью. Долей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Что больше: целое или его часть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Целое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25"/>
          <p:cNvSpPr/>
          <p:nvPr/>
        </p:nvSpPr>
        <p:spPr>
          <a:xfrm rot="9698400">
            <a:off x="1476360" y="3715560"/>
            <a:ext cx="1657440" cy="164772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cc99"/>
              </a:gs>
              <a:gs pos="100000">
                <a:srgbClr val="ff0000"/>
              </a:gs>
            </a:gsLst>
            <a:lin ang="1730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Тема урока:</a:t>
            </a:r>
            <a:br>
              <a:rPr sz="6000"/>
            </a:b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9600" spc="-1" strike="noStrike">
                <a:solidFill>
                  <a:srgbClr val="33cc33"/>
                </a:solidFill>
                <a:latin typeface="Arial"/>
              </a:rPr>
              <a:t>Д о л 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Freeform 28"/>
          <p:cNvGrpSpPr/>
          <p:nvPr/>
        </p:nvGrpSpPr>
        <p:grpSpPr>
          <a:xfrm>
            <a:off x="5601240" y="788400"/>
            <a:ext cx="1713960" cy="1753560"/>
            <a:chOff x="5601240" y="788400"/>
            <a:chExt cx="1713960" cy="1753560"/>
          </a:xfrm>
        </p:grpSpPr>
        <p:pic>
          <p:nvPicPr>
            <p:cNvPr id="97" name="Freeform 28" descr=""/>
            <p:cNvPicPr/>
            <p:nvPr/>
          </p:nvPicPr>
          <p:blipFill>
            <a:blip r:embed="rId1"/>
            <a:stretch/>
          </p:blipFill>
          <p:spPr>
            <a:xfrm>
              <a:off x="5608800" y="828720"/>
              <a:ext cx="162396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rot="15988800">
              <a:off x="5629320" y="857520"/>
              <a:ext cx="1657440" cy="16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27"/>
          <p:cNvSpPr/>
          <p:nvPr/>
        </p:nvSpPr>
        <p:spPr>
          <a:xfrm rot="6088800">
            <a:off x="3990960" y="4370040"/>
            <a:ext cx="1657080" cy="16480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c0c0c0"/>
              </a:gs>
              <a:gs pos="100000">
                <a:srgbClr val="969696"/>
              </a:gs>
            </a:gsLst>
            <a:lin ang="2091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4"/>
          <p:cNvSpPr/>
          <p:nvPr/>
        </p:nvSpPr>
        <p:spPr>
          <a:xfrm rot="5133000">
            <a:off x="6006600" y="3217680"/>
            <a:ext cx="1657440" cy="164772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ffcc99"/>
              </a:gs>
              <a:gs pos="100000">
                <a:srgbClr val="ff9933"/>
              </a:gs>
            </a:gsLst>
            <a:lin ang="27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1"/>
          <p:cNvSpPr/>
          <p:nvPr/>
        </p:nvSpPr>
        <p:spPr>
          <a:xfrm rot="1479600">
            <a:off x="6732360" y="2637000"/>
            <a:ext cx="1657080" cy="164772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391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6"/>
          <p:cNvSpPr/>
          <p:nvPr/>
        </p:nvSpPr>
        <p:spPr>
          <a:xfrm rot="19543800">
            <a:off x="6659280" y="1699920"/>
            <a:ext cx="1657440" cy="164772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50000">
                <a:srgbClr val="ccffcc"/>
              </a:gs>
              <a:gs pos="100000">
                <a:srgbClr val="99ff66"/>
              </a:gs>
            </a:gsLst>
            <a:lin ang="745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3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знакомимся с получением долей и их обозна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учимся сравнивать доли одного и того же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учимся использовать полученные знания для решения геометрически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должим работу в парах, в групп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4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reeform 2"/>
          <p:cNvSpPr/>
          <p:nvPr/>
        </p:nvSpPr>
        <p:spPr>
          <a:xfrm>
            <a:off x="4572000" y="1773360"/>
            <a:ext cx="1595520" cy="1595160"/>
          </a:xfrm>
          <a:custGeom>
            <a:avLst/>
            <a:gdLst/>
            <a:ahLst/>
            <a:rect l="l" t="t" r="r" b="b"/>
            <a:pathLst>
              <a:path w="169" h="169">
                <a:moveTo>
                  <a:pt x="169" y="169"/>
                </a:moveTo>
                <a:cubicBezTo>
                  <a:pt x="169" y="75"/>
                  <a:pt x="93" y="0"/>
                  <a:pt x="0" y="0"/>
                </a:cubicBezTo>
                <a:lnTo>
                  <a:pt x="0" y="169"/>
                </a:lnTo>
                <a:lnTo>
                  <a:pt x="169" y="16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4572000" y="3444840"/>
            <a:ext cx="1595520" cy="1595520"/>
          </a:xfrm>
          <a:custGeom>
            <a:avLst/>
            <a:gdLst/>
            <a:ahLst/>
            <a:rect l="l" t="t" r="r" b="b"/>
            <a:pathLst>
              <a:path w="169" h="169">
                <a:moveTo>
                  <a:pt x="0" y="168"/>
                </a:moveTo>
                <a:cubicBezTo>
                  <a:pt x="93" y="169"/>
                  <a:pt x="169" y="93"/>
                  <a:pt x="169" y="0"/>
                </a:cubicBezTo>
                <a:lnTo>
                  <a:pt x="0" y="0"/>
                </a:lnTo>
                <a:lnTo>
                  <a:pt x="0" y="16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2900520" y="3444840"/>
            <a:ext cx="1595160" cy="158580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0"/>
                </a:moveTo>
                <a:cubicBezTo>
                  <a:pt x="0" y="93"/>
                  <a:pt x="75" y="168"/>
                  <a:pt x="168" y="168"/>
                </a:cubicBez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5"/>
          <p:cNvSpPr/>
          <p:nvPr/>
        </p:nvSpPr>
        <p:spPr>
          <a:xfrm>
            <a:off x="2900520" y="1773360"/>
            <a:ext cx="1595160" cy="1595160"/>
          </a:xfrm>
          <a:custGeom>
            <a:avLst/>
            <a:gdLst/>
            <a:ahLst/>
            <a:rect l="l" t="t" r="r" b="b"/>
            <a:pathLst>
              <a:path w="169" h="169">
                <a:moveTo>
                  <a:pt x="168" y="0"/>
                </a:moveTo>
                <a:cubicBezTo>
                  <a:pt x="75" y="0"/>
                  <a:pt x="0" y="75"/>
                  <a:pt x="0" y="168"/>
                </a:cubicBezTo>
                <a:lnTo>
                  <a:pt x="169" y="169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5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Алгоритм деления на равные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1 разделить на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 равных часте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взять одну такую ча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записать результат: 1/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6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4"/>
          <p:cNvGrpSpPr/>
          <p:nvPr/>
        </p:nvGrpSpPr>
        <p:grpSpPr>
          <a:xfrm>
            <a:off x="1332000" y="2421000"/>
            <a:ext cx="7200360" cy="0"/>
            <a:chOff x="1332000" y="2421000"/>
            <a:chExt cx="7200360" cy="0"/>
          </a:xfrm>
        </p:grpSpPr>
        <p:sp>
          <p:nvSpPr>
            <p:cNvPr id="116" name="Line 5"/>
            <p:cNvSpPr/>
            <p:nvPr/>
          </p:nvSpPr>
          <p:spPr>
            <a:xfrm>
              <a:off x="1332000" y="2421000"/>
              <a:ext cx="1199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6"/>
            <p:cNvSpPr/>
            <p:nvPr/>
          </p:nvSpPr>
          <p:spPr>
            <a:xfrm>
              <a:off x="2531520" y="2421000"/>
              <a:ext cx="1200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>
              <a:off x="3732120" y="2421000"/>
              <a:ext cx="1199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4931640" y="2421000"/>
              <a:ext cx="1200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>
              <a:off x="6132240" y="2421000"/>
              <a:ext cx="1199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7332120" y="2421000"/>
              <a:ext cx="1200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1"/>
          <p:cNvGrpSpPr/>
          <p:nvPr/>
        </p:nvGrpSpPr>
        <p:grpSpPr>
          <a:xfrm>
            <a:off x="1332000" y="2492280"/>
            <a:ext cx="2376000" cy="0"/>
            <a:chOff x="1332000" y="2492280"/>
            <a:chExt cx="2376000" cy="0"/>
          </a:xfrm>
        </p:grpSpPr>
        <p:sp>
          <p:nvSpPr>
            <p:cNvPr id="123" name="Line 12"/>
            <p:cNvSpPr/>
            <p:nvPr/>
          </p:nvSpPr>
          <p:spPr>
            <a:xfrm>
              <a:off x="1332000" y="2492280"/>
              <a:ext cx="11872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2519280" y="2492280"/>
              <a:ext cx="1188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14"/>
          <p:cNvSpPr/>
          <p:nvPr/>
        </p:nvSpPr>
        <p:spPr>
          <a:xfrm>
            <a:off x="1332000" y="2421000"/>
            <a:ext cx="1800000" cy="0"/>
          </a:xfrm>
          <a:prstGeom prst="line">
            <a:avLst/>
          </a:prstGeom>
          <a:ln w="57240">
            <a:solidFill>
              <a:srgbClr val="33cc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66560" y="1773360"/>
            <a:ext cx="6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c73d6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8675640" y="184464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c73d6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"/>
          <p:cNvGrpSpPr/>
          <p:nvPr/>
        </p:nvGrpSpPr>
        <p:grpSpPr>
          <a:xfrm>
            <a:off x="2266920" y="2637000"/>
            <a:ext cx="647640" cy="1312920"/>
            <a:chOff x="2266920" y="2637000"/>
            <a:chExt cx="647640" cy="1312920"/>
          </a:xfrm>
        </p:grpSpPr>
        <p:sp>
          <p:nvSpPr>
            <p:cNvPr id="129" name="Text Box 18"/>
            <p:cNvSpPr/>
            <p:nvPr/>
          </p:nvSpPr>
          <p:spPr>
            <a:xfrm>
              <a:off x="2340360" y="2637000"/>
              <a:ext cx="462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>
              <a:off x="2266920" y="3284640"/>
              <a:ext cx="6476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0"/>
          <p:cNvGrpSpPr/>
          <p:nvPr/>
        </p:nvGrpSpPr>
        <p:grpSpPr>
          <a:xfrm>
            <a:off x="1979640" y="1052640"/>
            <a:ext cx="647640" cy="1312920"/>
            <a:chOff x="1979640" y="1052640"/>
            <a:chExt cx="647640" cy="1312920"/>
          </a:xfrm>
        </p:grpSpPr>
        <p:sp>
          <p:nvSpPr>
            <p:cNvPr id="132" name="Text Box 21"/>
            <p:cNvSpPr/>
            <p:nvPr/>
          </p:nvSpPr>
          <p:spPr>
            <a:xfrm>
              <a:off x="2053080" y="1052640"/>
              <a:ext cx="462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33"/>
                  </a:solidFill>
                  <a:latin typeface="Arial"/>
                </a:rPr>
                <a:t>1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33"/>
                  </a:solidFill>
                  <a:latin typeface="Arial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2"/>
            <p:cNvSpPr/>
            <p:nvPr/>
          </p:nvSpPr>
          <p:spPr>
            <a:xfrm>
              <a:off x="1979640" y="1699920"/>
              <a:ext cx="647640" cy="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23"/>
          <p:cNvSpPr/>
          <p:nvPr/>
        </p:nvSpPr>
        <p:spPr>
          <a:xfrm>
            <a:off x="7596360" y="6524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7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5"/>
          <p:cNvSpPr/>
          <p:nvPr/>
        </p:nvSpPr>
        <p:spPr>
          <a:xfrm>
            <a:off x="1403280" y="1268280"/>
            <a:ext cx="609624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7"/>
          <p:cNvSpPr/>
          <p:nvPr/>
        </p:nvSpPr>
        <p:spPr>
          <a:xfrm>
            <a:off x="4643280" y="1557360"/>
            <a:ext cx="1428840" cy="165744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4716360" y="2565360"/>
            <a:ext cx="1657440" cy="164772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"/>
          <p:cNvSpPr/>
          <p:nvPr/>
        </p:nvSpPr>
        <p:spPr>
          <a:xfrm>
            <a:off x="4572000" y="3573360"/>
            <a:ext cx="1428840" cy="164808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>
            <a:off x="2916360" y="3573360"/>
            <a:ext cx="1438200" cy="164808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2556000" y="2565360"/>
            <a:ext cx="1666800" cy="164772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2"/>
          <p:cNvSpPr/>
          <p:nvPr/>
        </p:nvSpPr>
        <p:spPr>
          <a:xfrm>
            <a:off x="2987640" y="1557360"/>
            <a:ext cx="1438200" cy="165564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8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2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0" spc="-1" strike="noStrike">
                <a:solidFill>
                  <a:srgbClr val="99cc00"/>
                </a:solidFill>
                <a:latin typeface="Arial"/>
              </a:rPr>
              <a:t>1:2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285264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Подумайте, что может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выражать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данное действие?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8"/>
          <p:cNvSpPr/>
          <p:nvPr/>
        </p:nvSpPr>
        <p:spPr>
          <a:xfrm>
            <a:off x="4572000" y="1773360"/>
            <a:ext cx="1595520" cy="1595160"/>
          </a:xfrm>
          <a:custGeom>
            <a:avLst/>
            <a:gdLst/>
            <a:ahLst/>
            <a:rect l="l" t="t" r="r" b="b"/>
            <a:pathLst>
              <a:path w="169" h="169">
                <a:moveTo>
                  <a:pt x="169" y="169"/>
                </a:moveTo>
                <a:cubicBezTo>
                  <a:pt x="169" y="75"/>
                  <a:pt x="93" y="0"/>
                  <a:pt x="0" y="0"/>
                </a:cubicBezTo>
                <a:lnTo>
                  <a:pt x="0" y="169"/>
                </a:lnTo>
                <a:lnTo>
                  <a:pt x="169" y="16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>
            <a:off x="4572000" y="3444840"/>
            <a:ext cx="1595520" cy="1595520"/>
          </a:xfrm>
          <a:custGeom>
            <a:avLst/>
            <a:gdLst/>
            <a:ahLst/>
            <a:rect l="l" t="t" r="r" b="b"/>
            <a:pathLst>
              <a:path w="169" h="169">
                <a:moveTo>
                  <a:pt x="0" y="168"/>
                </a:moveTo>
                <a:cubicBezTo>
                  <a:pt x="93" y="169"/>
                  <a:pt x="169" y="93"/>
                  <a:pt x="169" y="0"/>
                </a:cubicBezTo>
                <a:lnTo>
                  <a:pt x="0" y="0"/>
                </a:lnTo>
                <a:lnTo>
                  <a:pt x="0" y="16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2900520" y="3444840"/>
            <a:ext cx="1595160" cy="158580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0"/>
                </a:moveTo>
                <a:cubicBezTo>
                  <a:pt x="0" y="93"/>
                  <a:pt x="75" y="168"/>
                  <a:pt x="168" y="168"/>
                </a:cubicBez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2900520" y="1773360"/>
            <a:ext cx="1595160" cy="1595160"/>
          </a:xfrm>
          <a:custGeom>
            <a:avLst/>
            <a:gdLst/>
            <a:ahLst/>
            <a:rect l="l" t="t" r="r" b="b"/>
            <a:pathLst>
              <a:path w="169" h="169">
                <a:moveTo>
                  <a:pt x="168" y="0"/>
                </a:moveTo>
                <a:cubicBezTo>
                  <a:pt x="75" y="0"/>
                  <a:pt x="0" y="75"/>
                  <a:pt x="0" y="168"/>
                </a:cubicBezTo>
                <a:lnTo>
                  <a:pt x="169" y="169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0"/>
          <p:cNvGrpSpPr/>
          <p:nvPr/>
        </p:nvGrpSpPr>
        <p:grpSpPr>
          <a:xfrm>
            <a:off x="2700360" y="1944720"/>
            <a:ext cx="4103640" cy="3932280"/>
            <a:chOff x="2700360" y="1944720"/>
            <a:chExt cx="4103640" cy="3932280"/>
          </a:xfrm>
        </p:grpSpPr>
        <p:sp>
          <p:nvSpPr>
            <p:cNvPr id="149" name="AutoShape 18"/>
            <p:cNvSpPr/>
            <p:nvPr/>
          </p:nvSpPr>
          <p:spPr>
            <a:xfrm>
              <a:off x="2700360" y="1944720"/>
              <a:ext cx="4103640" cy="3932280"/>
            </a:xfrm>
            <a:custGeom>
              <a:avLst/>
              <a:gdLst>
                <a:gd name="textAreaLeft" fmla="*/ 936720 w 4103640"/>
                <a:gd name="textAreaRight" fmla="*/ 3166920 w 4103640"/>
                <a:gd name="textAreaTop" fmla="*/ 897480 h 3932280"/>
                <a:gd name="textAreaBottom" fmla="*/ 3034800 h 393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9"/>
            <p:cNvSpPr/>
            <p:nvPr/>
          </p:nvSpPr>
          <p:spPr>
            <a:xfrm>
              <a:off x="3708360" y="2952720"/>
              <a:ext cx="2087640" cy="187164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4700520" y="2946240"/>
            <a:ext cx="1581120" cy="2386080"/>
            <a:chOff x="4700520" y="2946240"/>
            <a:chExt cx="1581120" cy="2386080"/>
          </a:xfrm>
        </p:grpSpPr>
        <p:sp>
          <p:nvSpPr>
            <p:cNvPr id="152" name="Freeform 8"/>
            <p:cNvSpPr/>
            <p:nvPr/>
          </p:nvSpPr>
          <p:spPr>
            <a:xfrm>
              <a:off x="4700520" y="2946240"/>
              <a:ext cx="1581120" cy="1352880"/>
            </a:xfrm>
            <a:custGeom>
              <a:avLst/>
              <a:gdLst/>
              <a:ahLst/>
              <a:rect l="l" t="t" r="r" b="b"/>
              <a:pathLst>
                <a:path w="166" h="142">
                  <a:moveTo>
                    <a:pt x="161" y="142"/>
                  </a:moveTo>
                  <a:cubicBezTo>
                    <a:pt x="164" y="130"/>
                    <a:pt x="166" y="117"/>
                    <a:pt x="166" y="105"/>
                  </a:cubicBezTo>
                  <a:cubicBezTo>
                    <a:pt x="166" y="67"/>
                    <a:pt x="152" y="30"/>
                    <a:pt x="128" y="0"/>
                  </a:cubicBezTo>
                  <a:lnTo>
                    <a:pt x="0" y="105"/>
                  </a:lnTo>
                  <a:lnTo>
                    <a:pt x="161" y="14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700520" y="3913200"/>
              <a:ext cx="1533600" cy="1419120"/>
            </a:xfrm>
            <a:custGeom>
              <a:avLst/>
              <a:gdLst/>
              <a:ahLst/>
              <a:rect l="l" t="t" r="r" b="b"/>
              <a:pathLst>
                <a:path w="161" h="149">
                  <a:moveTo>
                    <a:pt x="72" y="149"/>
                  </a:moveTo>
                  <a:cubicBezTo>
                    <a:pt x="117" y="127"/>
                    <a:pt x="150" y="86"/>
                    <a:pt x="161" y="37"/>
                  </a:cubicBezTo>
                  <a:lnTo>
                    <a:pt x="0" y="0"/>
                  </a:lnTo>
                  <a:lnTo>
                    <a:pt x="72" y="149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1"/>
          <p:cNvGrpSpPr/>
          <p:nvPr/>
        </p:nvGrpSpPr>
        <p:grpSpPr>
          <a:xfrm>
            <a:off x="3075120" y="2940120"/>
            <a:ext cx="2301840" cy="2565360"/>
            <a:chOff x="3075120" y="2940120"/>
            <a:chExt cx="2301840" cy="2565360"/>
          </a:xfrm>
        </p:grpSpPr>
        <p:sp>
          <p:nvSpPr>
            <p:cNvPr id="155" name="Freeform 11"/>
            <p:cNvSpPr/>
            <p:nvPr/>
          </p:nvSpPr>
          <p:spPr>
            <a:xfrm>
              <a:off x="3132000" y="3933720"/>
              <a:ext cx="1533600" cy="1419480"/>
            </a:xfrm>
            <a:custGeom>
              <a:avLst/>
              <a:gdLst/>
              <a:ahLst/>
              <a:rect l="l" t="t" r="r" b="b"/>
              <a:pathLst>
                <a:path w="161" h="149">
                  <a:moveTo>
                    <a:pt x="0" y="36"/>
                  </a:moveTo>
                  <a:cubicBezTo>
                    <a:pt x="11" y="85"/>
                    <a:pt x="43" y="126"/>
                    <a:pt x="88" y="149"/>
                  </a:cubicBezTo>
                  <a:lnTo>
                    <a:pt x="161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3995640" y="3933720"/>
              <a:ext cx="1381320" cy="1571760"/>
            </a:xfrm>
            <a:custGeom>
              <a:avLst/>
              <a:gdLst/>
              <a:ahLst/>
              <a:rect l="l" t="t" r="r" b="b"/>
              <a:pathLst>
                <a:path w="145" h="165">
                  <a:moveTo>
                    <a:pt x="0" y="149"/>
                  </a:moveTo>
                  <a:cubicBezTo>
                    <a:pt x="23" y="160"/>
                    <a:pt x="48" y="165"/>
                    <a:pt x="73" y="165"/>
                  </a:cubicBezTo>
                  <a:cubicBezTo>
                    <a:pt x="98" y="165"/>
                    <a:pt x="123" y="160"/>
                    <a:pt x="145" y="149"/>
                  </a:cubicBezTo>
                  <a:lnTo>
                    <a:pt x="73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3075120" y="2940120"/>
              <a:ext cx="1581120" cy="1333440"/>
            </a:xfrm>
            <a:custGeom>
              <a:avLst/>
              <a:gdLst/>
              <a:ahLst/>
              <a:rect l="l" t="t" r="r" b="b"/>
              <a:pathLst>
                <a:path w="166" h="140">
                  <a:moveTo>
                    <a:pt x="38" y="0"/>
                  </a:moveTo>
                  <a:cubicBezTo>
                    <a:pt x="14" y="29"/>
                    <a:pt x="1" y="66"/>
                    <a:pt x="1" y="104"/>
                  </a:cubicBezTo>
                  <a:cubicBezTo>
                    <a:pt x="0" y="116"/>
                    <a:pt x="2" y="129"/>
                    <a:pt x="5" y="140"/>
                  </a:cubicBezTo>
                  <a:lnTo>
                    <a:pt x="166" y="10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3"/>
          <p:cNvGrpSpPr/>
          <p:nvPr/>
        </p:nvGrpSpPr>
        <p:grpSpPr>
          <a:xfrm>
            <a:off x="3460680" y="2349360"/>
            <a:ext cx="2438640" cy="1597320"/>
            <a:chOff x="3460680" y="2349360"/>
            <a:chExt cx="2438640" cy="1597320"/>
          </a:xfrm>
        </p:grpSpPr>
        <p:sp>
          <p:nvSpPr>
            <p:cNvPr id="159" name="Freeform 7"/>
            <p:cNvSpPr/>
            <p:nvPr/>
          </p:nvSpPr>
          <p:spPr>
            <a:xfrm>
              <a:off x="4680000" y="2365200"/>
              <a:ext cx="1219320" cy="1581480"/>
            </a:xfrm>
            <a:custGeom>
              <a:avLst/>
              <a:gdLst/>
              <a:ahLst/>
              <a:rect l="l" t="t" r="r" b="b"/>
              <a:pathLst>
                <a:path w="128" h="166">
                  <a:moveTo>
                    <a:pt x="128" y="61"/>
                  </a:moveTo>
                  <a:cubicBezTo>
                    <a:pt x="97" y="23"/>
                    <a:pt x="50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166"/>
                  </a:lnTo>
                  <a:lnTo>
                    <a:pt x="128" y="61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3"/>
            <p:cNvSpPr/>
            <p:nvPr/>
          </p:nvSpPr>
          <p:spPr>
            <a:xfrm>
              <a:off x="3460680" y="2349360"/>
              <a:ext cx="1219320" cy="1571760"/>
            </a:xfrm>
            <a:custGeom>
              <a:avLst/>
              <a:gdLst/>
              <a:ahLst/>
              <a:rect l="l" t="t" r="r" b="b"/>
              <a:pathLst>
                <a:path w="128" h="165">
                  <a:moveTo>
                    <a:pt x="128" y="0"/>
                  </a:moveTo>
                  <a:cubicBezTo>
                    <a:pt x="78" y="0"/>
                    <a:pt x="31" y="22"/>
                    <a:pt x="0" y="61"/>
                  </a:cubicBezTo>
                  <a:lnTo>
                    <a:pt x="128" y="165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24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135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"/>
          <p:cNvGrpSpPr/>
          <p:nvPr/>
        </p:nvGrpSpPr>
        <p:grpSpPr>
          <a:xfrm>
            <a:off x="2340000" y="1773360"/>
            <a:ext cx="4536360" cy="4498200"/>
            <a:chOff x="2340000" y="1773360"/>
            <a:chExt cx="4536360" cy="4498200"/>
          </a:xfrm>
        </p:grpSpPr>
        <p:sp>
          <p:nvSpPr>
            <p:cNvPr id="163" name="Rectangle 5"/>
            <p:cNvSpPr/>
            <p:nvPr/>
          </p:nvSpPr>
          <p:spPr>
            <a:xfrm>
              <a:off x="2373840" y="1773360"/>
              <a:ext cx="4502520" cy="449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 flipH="1">
              <a:off x="2373480" y="1773360"/>
              <a:ext cx="4502520" cy="449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2373840" y="1773360"/>
              <a:ext cx="4502520" cy="449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2340000" y="4046040"/>
              <a:ext cx="450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4611600" y="1773360"/>
              <a:ext cx="0" cy="449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15"/>
          <p:cNvSpPr/>
          <p:nvPr/>
        </p:nvSpPr>
        <p:spPr>
          <a:xfrm>
            <a:off x="411120" y="387360"/>
            <a:ext cx="18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900000" y="40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 рисунке квадрат разделен на 8 равны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астей. Заштрихуйте 4/8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1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39"/>
          <p:cNvGrpSpPr/>
          <p:nvPr/>
        </p:nvGrpSpPr>
        <p:grpSpPr>
          <a:xfrm>
            <a:off x="324000" y="1197000"/>
            <a:ext cx="1888560" cy="1873080"/>
            <a:chOff x="324000" y="1197000"/>
            <a:chExt cx="1888560" cy="1873080"/>
          </a:xfrm>
        </p:grpSpPr>
        <p:sp>
          <p:nvSpPr>
            <p:cNvPr id="172" name="Rectangle 4"/>
            <p:cNvSpPr/>
            <p:nvPr/>
          </p:nvSpPr>
          <p:spPr>
            <a:xfrm>
              <a:off x="338040" y="1197000"/>
              <a:ext cx="1874520" cy="187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 flipH="1">
              <a:off x="337680" y="1197000"/>
              <a:ext cx="187452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338040" y="1197000"/>
              <a:ext cx="187452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324000" y="2143080"/>
              <a:ext cx="18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1269720" y="119700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40"/>
          <p:cNvGrpSpPr/>
          <p:nvPr/>
        </p:nvGrpSpPr>
        <p:grpSpPr>
          <a:xfrm>
            <a:off x="6659640" y="4221000"/>
            <a:ext cx="1888560" cy="1873440"/>
            <a:chOff x="6659640" y="4221000"/>
            <a:chExt cx="1888560" cy="1873440"/>
          </a:xfrm>
        </p:grpSpPr>
        <p:sp>
          <p:nvSpPr>
            <p:cNvPr id="178" name="Rectangle 41"/>
            <p:cNvSpPr/>
            <p:nvPr/>
          </p:nvSpPr>
          <p:spPr>
            <a:xfrm>
              <a:off x="6673680" y="4221000"/>
              <a:ext cx="1874520" cy="187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2"/>
            <p:cNvSpPr/>
            <p:nvPr/>
          </p:nvSpPr>
          <p:spPr>
            <a:xfrm flipH="1">
              <a:off x="6673320" y="4221000"/>
              <a:ext cx="1874520" cy="18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3"/>
            <p:cNvSpPr/>
            <p:nvPr/>
          </p:nvSpPr>
          <p:spPr>
            <a:xfrm>
              <a:off x="6673680" y="4221000"/>
              <a:ext cx="1874520" cy="18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4"/>
            <p:cNvSpPr/>
            <p:nvPr/>
          </p:nvSpPr>
          <p:spPr>
            <a:xfrm>
              <a:off x="6659640" y="5167440"/>
              <a:ext cx="18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45"/>
            <p:cNvSpPr/>
            <p:nvPr/>
          </p:nvSpPr>
          <p:spPr>
            <a:xfrm>
              <a:off x="7605360" y="4221000"/>
              <a:ext cx="0" cy="18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46"/>
          <p:cNvGrpSpPr/>
          <p:nvPr/>
        </p:nvGrpSpPr>
        <p:grpSpPr>
          <a:xfrm>
            <a:off x="6718320" y="1222200"/>
            <a:ext cx="1888920" cy="1873440"/>
            <a:chOff x="6718320" y="1222200"/>
            <a:chExt cx="1888920" cy="1873440"/>
          </a:xfrm>
        </p:grpSpPr>
        <p:sp>
          <p:nvSpPr>
            <p:cNvPr id="184" name="Rectangle 47"/>
            <p:cNvSpPr/>
            <p:nvPr/>
          </p:nvSpPr>
          <p:spPr>
            <a:xfrm>
              <a:off x="6732360" y="1222200"/>
              <a:ext cx="1874880" cy="187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8"/>
            <p:cNvSpPr/>
            <p:nvPr/>
          </p:nvSpPr>
          <p:spPr>
            <a:xfrm flipH="1">
              <a:off x="6732360" y="1222200"/>
              <a:ext cx="1874880" cy="18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49"/>
            <p:cNvSpPr/>
            <p:nvPr/>
          </p:nvSpPr>
          <p:spPr>
            <a:xfrm>
              <a:off x="6732360" y="1222200"/>
              <a:ext cx="1874880" cy="18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50"/>
            <p:cNvSpPr/>
            <p:nvPr/>
          </p:nvSpPr>
          <p:spPr>
            <a:xfrm>
              <a:off x="6718320" y="2168640"/>
              <a:ext cx="187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51"/>
            <p:cNvSpPr/>
            <p:nvPr/>
          </p:nvSpPr>
          <p:spPr>
            <a:xfrm>
              <a:off x="7664400" y="1222200"/>
              <a:ext cx="0" cy="18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52"/>
          <p:cNvGrpSpPr/>
          <p:nvPr/>
        </p:nvGrpSpPr>
        <p:grpSpPr>
          <a:xfrm>
            <a:off x="2484360" y="1197000"/>
            <a:ext cx="1888920" cy="1873080"/>
            <a:chOff x="2484360" y="1197000"/>
            <a:chExt cx="1888920" cy="1873080"/>
          </a:xfrm>
        </p:grpSpPr>
        <p:sp>
          <p:nvSpPr>
            <p:cNvPr id="190" name="Rectangle 53"/>
            <p:cNvSpPr/>
            <p:nvPr/>
          </p:nvSpPr>
          <p:spPr>
            <a:xfrm>
              <a:off x="2498400" y="1197000"/>
              <a:ext cx="1874880" cy="187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4"/>
            <p:cNvSpPr/>
            <p:nvPr/>
          </p:nvSpPr>
          <p:spPr>
            <a:xfrm flipH="1">
              <a:off x="2498400" y="1197000"/>
              <a:ext cx="18748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55"/>
            <p:cNvSpPr/>
            <p:nvPr/>
          </p:nvSpPr>
          <p:spPr>
            <a:xfrm>
              <a:off x="2498400" y="1197000"/>
              <a:ext cx="18748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6"/>
            <p:cNvSpPr/>
            <p:nvPr/>
          </p:nvSpPr>
          <p:spPr>
            <a:xfrm>
              <a:off x="2484360" y="2143080"/>
              <a:ext cx="187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57"/>
            <p:cNvSpPr/>
            <p:nvPr/>
          </p:nvSpPr>
          <p:spPr>
            <a:xfrm>
              <a:off x="3430440" y="119700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58"/>
          <p:cNvGrpSpPr/>
          <p:nvPr/>
        </p:nvGrpSpPr>
        <p:grpSpPr>
          <a:xfrm>
            <a:off x="339840" y="4133880"/>
            <a:ext cx="1888560" cy="1873080"/>
            <a:chOff x="339840" y="4133880"/>
            <a:chExt cx="1888560" cy="1873080"/>
          </a:xfrm>
        </p:grpSpPr>
        <p:sp>
          <p:nvSpPr>
            <p:cNvPr id="196" name="Rectangle 59"/>
            <p:cNvSpPr/>
            <p:nvPr/>
          </p:nvSpPr>
          <p:spPr>
            <a:xfrm>
              <a:off x="353880" y="4133880"/>
              <a:ext cx="1874520" cy="187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60"/>
            <p:cNvSpPr/>
            <p:nvPr/>
          </p:nvSpPr>
          <p:spPr>
            <a:xfrm flipH="1">
              <a:off x="353520" y="4133880"/>
              <a:ext cx="187452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1"/>
            <p:cNvSpPr/>
            <p:nvPr/>
          </p:nvSpPr>
          <p:spPr>
            <a:xfrm>
              <a:off x="353880" y="4133880"/>
              <a:ext cx="187452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2"/>
            <p:cNvSpPr/>
            <p:nvPr/>
          </p:nvSpPr>
          <p:spPr>
            <a:xfrm>
              <a:off x="339840" y="5079960"/>
              <a:ext cx="18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63"/>
            <p:cNvSpPr/>
            <p:nvPr/>
          </p:nvSpPr>
          <p:spPr>
            <a:xfrm>
              <a:off x="1285560" y="413388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64"/>
          <p:cNvGrpSpPr/>
          <p:nvPr/>
        </p:nvGrpSpPr>
        <p:grpSpPr>
          <a:xfrm>
            <a:off x="3492360" y="4221000"/>
            <a:ext cx="1888920" cy="1873440"/>
            <a:chOff x="3492360" y="4221000"/>
            <a:chExt cx="1888920" cy="1873440"/>
          </a:xfrm>
        </p:grpSpPr>
        <p:sp>
          <p:nvSpPr>
            <p:cNvPr id="202" name="Rectangle 65"/>
            <p:cNvSpPr/>
            <p:nvPr/>
          </p:nvSpPr>
          <p:spPr>
            <a:xfrm>
              <a:off x="3506400" y="4221000"/>
              <a:ext cx="1874880" cy="187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66"/>
            <p:cNvSpPr/>
            <p:nvPr/>
          </p:nvSpPr>
          <p:spPr>
            <a:xfrm flipH="1">
              <a:off x="3506400" y="4221000"/>
              <a:ext cx="1874880" cy="18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67"/>
            <p:cNvSpPr/>
            <p:nvPr/>
          </p:nvSpPr>
          <p:spPr>
            <a:xfrm>
              <a:off x="3506400" y="4221000"/>
              <a:ext cx="1874880" cy="18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68"/>
            <p:cNvSpPr/>
            <p:nvPr/>
          </p:nvSpPr>
          <p:spPr>
            <a:xfrm>
              <a:off x="3492360" y="5167440"/>
              <a:ext cx="187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69"/>
            <p:cNvSpPr/>
            <p:nvPr/>
          </p:nvSpPr>
          <p:spPr>
            <a:xfrm>
              <a:off x="4438440" y="4221000"/>
              <a:ext cx="0" cy="18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70"/>
          <p:cNvGrpSpPr/>
          <p:nvPr/>
        </p:nvGrpSpPr>
        <p:grpSpPr>
          <a:xfrm>
            <a:off x="4572000" y="1197000"/>
            <a:ext cx="1888920" cy="1873080"/>
            <a:chOff x="4572000" y="1197000"/>
            <a:chExt cx="1888920" cy="1873080"/>
          </a:xfrm>
        </p:grpSpPr>
        <p:sp>
          <p:nvSpPr>
            <p:cNvPr id="208" name="Rectangle 71"/>
            <p:cNvSpPr/>
            <p:nvPr/>
          </p:nvSpPr>
          <p:spPr>
            <a:xfrm>
              <a:off x="4586040" y="1197000"/>
              <a:ext cx="1874880" cy="187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2"/>
            <p:cNvSpPr/>
            <p:nvPr/>
          </p:nvSpPr>
          <p:spPr>
            <a:xfrm flipH="1">
              <a:off x="4586040" y="1197000"/>
              <a:ext cx="18748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73"/>
            <p:cNvSpPr/>
            <p:nvPr/>
          </p:nvSpPr>
          <p:spPr>
            <a:xfrm>
              <a:off x="4586040" y="1197000"/>
              <a:ext cx="18748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74"/>
            <p:cNvSpPr/>
            <p:nvPr/>
          </p:nvSpPr>
          <p:spPr>
            <a:xfrm>
              <a:off x="4572000" y="2143080"/>
              <a:ext cx="187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>
              <a:off x="5518080" y="119700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AutoShape 76"/>
          <p:cNvSpPr/>
          <p:nvPr/>
        </p:nvSpPr>
        <p:spPr>
          <a:xfrm>
            <a:off x="1258920" y="5084640"/>
            <a:ext cx="884160" cy="9018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7"/>
          <p:cNvSpPr/>
          <p:nvPr/>
        </p:nvSpPr>
        <p:spPr>
          <a:xfrm>
            <a:off x="1289160" y="2189160"/>
            <a:ext cx="869760" cy="887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8"/>
          <p:cNvSpPr/>
          <p:nvPr/>
        </p:nvSpPr>
        <p:spPr>
          <a:xfrm>
            <a:off x="355680" y="1257480"/>
            <a:ext cx="869760" cy="8874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9"/>
          <p:cNvSpPr/>
          <p:nvPr/>
        </p:nvSpPr>
        <p:spPr>
          <a:xfrm flipH="1">
            <a:off x="3471840" y="1231920"/>
            <a:ext cx="884160" cy="9018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0"/>
          <p:cNvSpPr/>
          <p:nvPr/>
        </p:nvSpPr>
        <p:spPr>
          <a:xfrm rot="10800000">
            <a:off x="395280" y="1196640"/>
            <a:ext cx="884160" cy="90180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2"/>
          <p:cNvSpPr/>
          <p:nvPr/>
        </p:nvSpPr>
        <p:spPr>
          <a:xfrm>
            <a:off x="7667640" y="2205000"/>
            <a:ext cx="884160" cy="90180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3"/>
          <p:cNvSpPr/>
          <p:nvPr/>
        </p:nvSpPr>
        <p:spPr>
          <a:xfrm>
            <a:off x="3492360" y="4255920"/>
            <a:ext cx="884520" cy="90180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4"/>
          <p:cNvSpPr/>
          <p:nvPr/>
        </p:nvSpPr>
        <p:spPr>
          <a:xfrm>
            <a:off x="6711840" y="4221000"/>
            <a:ext cx="884520" cy="901800"/>
          </a:xfrm>
          <a:prstGeom prst="rtTriangl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85"/>
          <p:cNvSpPr/>
          <p:nvPr/>
        </p:nvSpPr>
        <p:spPr>
          <a:xfrm flipH="1">
            <a:off x="6732720" y="5157720"/>
            <a:ext cx="884160" cy="901800"/>
          </a:xfrm>
          <a:prstGeom prst="rtTriangl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0"/>
          <p:cNvSpPr/>
          <p:nvPr/>
        </p:nvSpPr>
        <p:spPr>
          <a:xfrm>
            <a:off x="4624560" y="1268280"/>
            <a:ext cx="884160" cy="901800"/>
          </a:xfrm>
          <a:prstGeom prst="rtTriangl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91"/>
          <p:cNvSpPr/>
          <p:nvPr/>
        </p:nvSpPr>
        <p:spPr>
          <a:xfrm rot="10800000">
            <a:off x="1332000" y="2133720"/>
            <a:ext cx="884160" cy="901440"/>
          </a:xfrm>
          <a:prstGeom prst="rtTriangl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2"/>
          <p:cNvSpPr/>
          <p:nvPr/>
        </p:nvSpPr>
        <p:spPr>
          <a:xfrm rot="5400000">
            <a:off x="3428280" y="1188360"/>
            <a:ext cx="884160" cy="901440"/>
          </a:xfrm>
          <a:prstGeom prst="rtTriangl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3"/>
          <p:cNvSpPr/>
          <p:nvPr/>
        </p:nvSpPr>
        <p:spPr>
          <a:xfrm rot="10800000">
            <a:off x="4642920" y="1196640"/>
            <a:ext cx="884520" cy="901800"/>
          </a:xfrm>
          <a:prstGeom prst="rtTriangl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4"/>
          <p:cNvSpPr/>
          <p:nvPr/>
        </p:nvSpPr>
        <p:spPr>
          <a:xfrm rot="10800000">
            <a:off x="7719480" y="2204640"/>
            <a:ext cx="884520" cy="901800"/>
          </a:xfrm>
          <a:prstGeom prst="rtTriangl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5"/>
          <p:cNvSpPr/>
          <p:nvPr/>
        </p:nvSpPr>
        <p:spPr>
          <a:xfrm rot="10800000">
            <a:off x="1332000" y="5084280"/>
            <a:ext cx="884160" cy="901800"/>
          </a:xfrm>
          <a:prstGeom prst="rtTriangl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96"/>
          <p:cNvSpPr/>
          <p:nvPr/>
        </p:nvSpPr>
        <p:spPr>
          <a:xfrm flipH="1">
            <a:off x="7667640" y="4221000"/>
            <a:ext cx="884160" cy="901800"/>
          </a:xfrm>
          <a:prstGeom prst="rtTriangl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7"/>
          <p:cNvSpPr/>
          <p:nvPr/>
        </p:nvSpPr>
        <p:spPr>
          <a:xfrm rot="5400000">
            <a:off x="2492640" y="2124720"/>
            <a:ext cx="884160" cy="901800"/>
          </a:xfrm>
          <a:prstGeom prst="rtTriangl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8"/>
          <p:cNvSpPr/>
          <p:nvPr/>
        </p:nvSpPr>
        <p:spPr>
          <a:xfrm flipH="1">
            <a:off x="2556000" y="2133720"/>
            <a:ext cx="884160" cy="901440"/>
          </a:xfrm>
          <a:prstGeom prst="rtTriangl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9"/>
          <p:cNvSpPr/>
          <p:nvPr/>
        </p:nvSpPr>
        <p:spPr>
          <a:xfrm flipH="1">
            <a:off x="5559480" y="1231920"/>
            <a:ext cx="884160" cy="901800"/>
          </a:xfrm>
          <a:prstGeom prst="rtTriangl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00"/>
          <p:cNvSpPr/>
          <p:nvPr/>
        </p:nvSpPr>
        <p:spPr>
          <a:xfrm rot="5400000">
            <a:off x="5517360" y="1188360"/>
            <a:ext cx="884160" cy="901440"/>
          </a:xfrm>
          <a:prstGeom prst="rtTriangl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1"/>
          <p:cNvSpPr/>
          <p:nvPr/>
        </p:nvSpPr>
        <p:spPr>
          <a:xfrm flipH="1">
            <a:off x="6783480" y="2205000"/>
            <a:ext cx="884160" cy="901800"/>
          </a:xfrm>
          <a:prstGeom prst="rtTriangl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2"/>
          <p:cNvSpPr/>
          <p:nvPr/>
        </p:nvSpPr>
        <p:spPr>
          <a:xfrm rot="5400000">
            <a:off x="6774120" y="2196000"/>
            <a:ext cx="884160" cy="901800"/>
          </a:xfrm>
          <a:prstGeom prst="rtTriangl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03"/>
          <p:cNvSpPr/>
          <p:nvPr/>
        </p:nvSpPr>
        <p:spPr>
          <a:xfrm flipH="1">
            <a:off x="1332000" y="4149720"/>
            <a:ext cx="884160" cy="901800"/>
          </a:xfrm>
          <a:prstGeom prst="rtTriangl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04"/>
          <p:cNvSpPr/>
          <p:nvPr/>
        </p:nvSpPr>
        <p:spPr>
          <a:xfrm flipH="1">
            <a:off x="395280" y="5084640"/>
            <a:ext cx="884160" cy="901800"/>
          </a:xfrm>
          <a:prstGeom prst="rtTriangl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5"/>
          <p:cNvSpPr/>
          <p:nvPr/>
        </p:nvSpPr>
        <p:spPr>
          <a:xfrm rot="5400000">
            <a:off x="4470840" y="4212360"/>
            <a:ext cx="884520" cy="901440"/>
          </a:xfrm>
          <a:prstGeom prst="rtTriangl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6"/>
          <p:cNvSpPr/>
          <p:nvPr/>
        </p:nvSpPr>
        <p:spPr>
          <a:xfrm rot="5400000">
            <a:off x="3534120" y="5148720"/>
            <a:ext cx="884160" cy="901800"/>
          </a:xfrm>
          <a:prstGeom prst="rtTriangl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07"/>
          <p:cNvSpPr/>
          <p:nvPr/>
        </p:nvSpPr>
        <p:spPr>
          <a:xfrm rot="10800000">
            <a:off x="3564000" y="4220640"/>
            <a:ext cx="884160" cy="901800"/>
          </a:xfrm>
          <a:prstGeom prst="rtTriangle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8"/>
          <p:cNvSpPr/>
          <p:nvPr/>
        </p:nvSpPr>
        <p:spPr>
          <a:xfrm rot="10800000">
            <a:off x="6732720" y="4220640"/>
            <a:ext cx="884160" cy="901800"/>
          </a:xfrm>
          <a:prstGeom prst="rtTriangle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9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2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думайте другой способ деления квадрата на 8 равных частей так, чтобы при этом не нужно было проводить диагоналей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штрихуйте 4/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2411280" y="1844640"/>
            <a:ext cx="439272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3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250920" y="1052640"/>
            <a:ext cx="1296720" cy="244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1547640" y="1052640"/>
            <a:ext cx="1295640" cy="24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203640" y="2421000"/>
            <a:ext cx="2592360" cy="24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6"/>
          <p:cNvSpPr/>
          <p:nvPr/>
        </p:nvSpPr>
        <p:spPr>
          <a:xfrm>
            <a:off x="3203640" y="3068640"/>
            <a:ext cx="2592360" cy="115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547640" y="105264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900000" y="105264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2195640" y="1052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539640" y="105264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1258920" y="105264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1835280" y="105264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2484360" y="105264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2195640" y="2924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4500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320364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3203640" y="36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"/>
          <p:cNvSpPr/>
          <p:nvPr/>
        </p:nvSpPr>
        <p:spPr>
          <a:xfrm>
            <a:off x="3203640" y="3068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320364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3203640" y="422100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5"/>
          <p:cNvSpPr/>
          <p:nvPr/>
        </p:nvSpPr>
        <p:spPr>
          <a:xfrm flipH="1">
            <a:off x="565128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6"/>
          <p:cNvSpPr/>
          <p:nvPr/>
        </p:nvSpPr>
        <p:spPr>
          <a:xfrm>
            <a:off x="6156360" y="3718080"/>
            <a:ext cx="2592360" cy="24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7"/>
          <p:cNvSpPr/>
          <p:nvPr/>
        </p:nvSpPr>
        <p:spPr>
          <a:xfrm>
            <a:off x="7453440" y="371808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8"/>
          <p:cNvSpPr/>
          <p:nvPr/>
        </p:nvSpPr>
        <p:spPr>
          <a:xfrm>
            <a:off x="6156360" y="501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9"/>
          <p:cNvSpPr/>
          <p:nvPr/>
        </p:nvSpPr>
        <p:spPr>
          <a:xfrm>
            <a:off x="6156360" y="4941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0"/>
          <p:cNvSpPr/>
          <p:nvPr/>
        </p:nvSpPr>
        <p:spPr>
          <a:xfrm>
            <a:off x="6156360" y="4365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1"/>
          <p:cNvSpPr/>
          <p:nvPr/>
        </p:nvSpPr>
        <p:spPr>
          <a:xfrm>
            <a:off x="615636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2"/>
          <p:cNvSpPr/>
          <p:nvPr/>
        </p:nvSpPr>
        <p:spPr>
          <a:xfrm>
            <a:off x="6156360" y="551808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3"/>
          <p:cNvSpPr/>
          <p:nvPr/>
        </p:nvSpPr>
        <p:spPr>
          <a:xfrm flipH="1">
            <a:off x="8604000" y="5518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7"/>
          <p:cNvSpPr/>
          <p:nvPr/>
        </p:nvSpPr>
        <p:spPr>
          <a:xfrm>
            <a:off x="6156360" y="3716280"/>
            <a:ext cx="1295280" cy="1225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8"/>
          <p:cNvSpPr/>
          <p:nvPr/>
        </p:nvSpPr>
        <p:spPr>
          <a:xfrm>
            <a:off x="7451640" y="4941720"/>
            <a:ext cx="1295640" cy="1225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4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Закрасили одну грань куба.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акую долю поверхности куба закрас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7"/>
          <p:cNvGrpSpPr/>
          <p:nvPr/>
        </p:nvGrpSpPr>
        <p:grpSpPr>
          <a:xfrm>
            <a:off x="2771640" y="2421000"/>
            <a:ext cx="5036400" cy="3393360"/>
            <a:chOff x="2771640" y="2421000"/>
            <a:chExt cx="5036400" cy="3393360"/>
          </a:xfrm>
        </p:grpSpPr>
        <p:sp>
          <p:nvSpPr>
            <p:cNvPr id="277" name="AutoShape 5"/>
            <p:cNvSpPr/>
            <p:nvPr/>
          </p:nvSpPr>
          <p:spPr>
            <a:xfrm>
              <a:off x="2771640" y="2421000"/>
              <a:ext cx="3711600" cy="3384000"/>
            </a:xfrm>
            <a:prstGeom prst="cube">
              <a:avLst>
                <a:gd name="adj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 rot="18937800">
              <a:off x="4610520" y="3205800"/>
              <a:ext cx="2984760" cy="1825200"/>
            </a:xfrm>
            <a:prstGeom prst="parallelogram">
              <a:avLst>
                <a:gd name="adj" fmla="val 9414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8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5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вор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зьмем круг поделен-ный на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ставим композицию из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долек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ема: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живот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6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4"/>
          <p:cNvSpPr/>
          <p:nvPr/>
        </p:nvSpPr>
        <p:spPr>
          <a:xfrm>
            <a:off x="679320" y="1052640"/>
            <a:ext cx="7738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ак получают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доли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ак записывают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доли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Что показыва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числитель дроби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Что показыва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знаменатель дроби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ему научились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-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9"/>
          <p:cNvSpPr txBox="1"/>
          <p:nvPr/>
        </p:nvSpPr>
        <p:spPr>
          <a:xfrm>
            <a:off x="468360" y="2205000"/>
            <a:ext cx="8207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работу !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0" spc="-1" strike="noStrike">
                <a:solidFill>
                  <a:srgbClr val="99cc00"/>
                </a:solidFill>
                <a:latin typeface="Arial"/>
              </a:rPr>
              <a:t>1:2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2781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Что может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обозначать число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?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А можем ли мы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99cc00"/>
                </a:solidFill>
                <a:latin typeface="Arial"/>
              </a:rPr>
              <a:t>одно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яблоко разделить на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99cc00"/>
                </a:solidFill>
                <a:latin typeface="Arial"/>
              </a:rPr>
              <a:t>две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части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4941360"/>
            <a:ext cx="856908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Как это сделать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8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Было </a:t>
            </a:r>
            <a:r>
              <a:rPr b="1" lang="ru-RU" sz="54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яблок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левое"/>
          <p:cNvPicPr/>
          <p:nvPr/>
        </p:nvPicPr>
        <p:blipFill>
          <a:blip r:embed="rId1"/>
          <a:stretch/>
        </p:blipFill>
        <p:spPr>
          <a:xfrm>
            <a:off x="2195640" y="692280"/>
            <a:ext cx="2481120" cy="4619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правое"/>
          <p:cNvPicPr/>
          <p:nvPr/>
        </p:nvPicPr>
        <p:blipFill>
          <a:blip r:embed="rId2"/>
          <a:stretch/>
        </p:blipFill>
        <p:spPr>
          <a:xfrm>
            <a:off x="4673520" y="692280"/>
            <a:ext cx="2419560" cy="4619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0" spc="-1" strike="noStrike">
                <a:solidFill>
                  <a:srgbClr val="99cc00"/>
                </a:solidFill>
                <a:latin typeface="Arial"/>
              </a:rPr>
              <a:t>1:2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24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Что может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обозначать число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?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Две половинки, две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части,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99cc00"/>
                </a:solidFill>
                <a:latin typeface="Arial"/>
              </a:rPr>
              <a:t>две доли.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393336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0" spc="-1" strike="noStrike">
                <a:solidFill>
                  <a:srgbClr val="99cc00"/>
                </a:solidFill>
                <a:latin typeface="Arial"/>
              </a:rPr>
              <a:t>1:2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0" y="54936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Значит, что обозначает выражение: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Это какая часть яблок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правое"/>
          <p:cNvPicPr/>
          <p:nvPr/>
        </p:nvPicPr>
        <p:blipFill>
          <a:blip r:embed="rId1"/>
          <a:stretch/>
        </p:blipFill>
        <p:spPr>
          <a:xfrm>
            <a:off x="4716360" y="1916280"/>
            <a:ext cx="2413080" cy="4608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Сколько половинок или втор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частей в целом ябл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евое"/>
          <p:cNvPicPr/>
          <p:nvPr/>
        </p:nvPicPr>
        <p:blipFill>
          <a:blip r:embed="rId1"/>
          <a:stretch/>
        </p:blipFill>
        <p:spPr>
          <a:xfrm>
            <a:off x="1730520" y="1773360"/>
            <a:ext cx="2481120" cy="461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правое"/>
          <p:cNvPicPr/>
          <p:nvPr/>
        </p:nvPicPr>
        <p:blipFill>
          <a:blip r:embed="rId2"/>
          <a:stretch/>
        </p:blipFill>
        <p:spPr>
          <a:xfrm>
            <a:off x="5321160" y="1773360"/>
            <a:ext cx="2419560" cy="4619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7380360" y="6308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-й слай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4:19:55Z</dcterms:created>
  <dc:creator>student</dc:creator>
  <dc:description/>
  <dc:language>en-US</dc:language>
  <cp:lastModifiedBy>Ольга</cp:lastModifiedBy>
  <dcterms:modified xsi:type="dcterms:W3CDTF">2015-03-07T17:01:57Z</dcterms:modified>
  <cp:revision>42</cp:revision>
  <dc:subject/>
  <dc:title>Доли. Получение и образование долей.</dc:title>
</cp:coreProperties>
</file>