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6F8-994E-4AAF-B9F8-C60AB69D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A3E5-D925-4339-B690-FA868BDE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44E-536E-4BE4-98D5-0E2A10E3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44B-AE10-4E12-B9A8-AF57B962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1D3-BBCF-4CC9-BBAD-F43FB9EA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546-9742-4C75-B31B-94135183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E59-B992-48FB-A84B-D2CA10E5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FFE-85A1-4A69-9A28-D6074E3A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32B-0E07-48E8-875F-2022E316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372-96D8-4516-A794-FEAA209E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8DF-F7CB-4AF0-B219-ECD1EDF1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834-C3BF-4FF9-A91F-A7199196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5D05-315E-4AC3-9703-C3864B1570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BNQrH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8440" y="0"/>
            <a:ext cx="9144000" cy="7841160"/>
          </a:xfrm>
          <a:prstGeom prst="rect">
            <a:avLst/>
          </a:prstGeom>
          <a:solidFill>
            <a:srgbClr val="cc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00"/>
                </a:solidFill>
                <a:latin typeface="Bookman Old Style"/>
              </a:rPr>
              <a:t>          </a:t>
            </a:r>
            <a:r>
              <a:rPr b="1" lang="ru-RU" sz="1800" spc="-1" strike="noStrike">
                <a:solidFill>
                  <a:srgbClr val="0033cc"/>
                </a:solidFill>
                <a:latin typeface="바탕"/>
                <a:ea typeface="바탕"/>
              </a:rPr>
              <a:t>МКОУ ДО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바탕"/>
                <a:ea typeface="바탕"/>
              </a:rPr>
              <a:t>                   Дом детского творчества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바탕"/>
                <a:ea typeface="바탕"/>
              </a:rPr>
              <a:t>                   пгт Фаленки Фаленского района </a:t>
            </a:r>
            <a:br>
              <a:rPr sz="3400"/>
            </a:br>
            <a:r>
              <a:rPr b="1" lang="ru-RU" sz="3400" spc="-1" strike="noStrike">
                <a:solidFill>
                  <a:srgbClr val="ffcc00"/>
                </a:solidFill>
                <a:latin typeface="Bookman Old Style"/>
              </a:rPr>
              <a:t>          </a:t>
            </a:r>
            <a:r>
              <a:rPr b="1" lang="ru-RU" sz="2400" spc="-1" strike="noStrike">
                <a:solidFill>
                  <a:srgbClr val="ffcc00"/>
                </a:solidFill>
                <a:latin typeface="Bookman Old Style"/>
              </a:rPr>
              <a:t>Дополнительная общеобразовательная общеразвивающая программа </a:t>
            </a:r>
            <a:r>
              <a:rPr b="1" lang="ru-RU" sz="3400" spc="-1" strike="noStrike">
                <a:solidFill>
                  <a:srgbClr val="ffcc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Bookman Old Style"/>
              </a:rPr>
              <a:t>объединения «Бу-магия» как средство развития художественно-творческих способностей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Безимени-1"/>
          <p:cNvPicPr/>
          <p:nvPr/>
        </p:nvPicPr>
        <p:blipFill>
          <a:blip r:embed="rId2"/>
          <a:stretch/>
        </p:blipFill>
        <p:spPr>
          <a:xfrm>
            <a:off x="250920" y="18900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19640" y="3284280"/>
            <a:ext cx="36720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Педагог: Микрюкова Любовь Викторовна, 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высшая квалификационная категория, педагогический стаж – 3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5" descr="E:\дети\IMG_0402.jpg"/>
          <p:cNvPicPr/>
          <p:nvPr/>
        </p:nvPicPr>
        <p:blipFill>
          <a:blip r:embed="rId3"/>
          <a:stretch/>
        </p:blipFill>
        <p:spPr>
          <a:xfrm>
            <a:off x="468360" y="3463920"/>
            <a:ext cx="4351320" cy="3263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MBNQrH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0" y="0"/>
            <a:ext cx="9144000" cy="8147160"/>
          </a:xfrm>
          <a:prstGeom prst="rect">
            <a:avLst/>
          </a:prstGeom>
          <a:solidFill>
            <a:srgbClr val="ccffff">
              <a:alpha val="47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Bookman Old Style"/>
              </a:rPr>
              <a:t>Наши результаты</a:t>
            </a:r>
            <a:br>
              <a:rPr sz="3200"/>
            </a:br>
            <a:r>
              <a:rPr b="1" i="1" lang="ru-RU" sz="2800" spc="-1" strike="noStrike">
                <a:solidFill>
                  <a:srgbClr val="ffcc00"/>
                </a:solidFill>
                <a:latin typeface="Bookman Old Style"/>
              </a:rPr>
              <a:t>на уровне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132000" y="1557000"/>
            <a:ext cx="5616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ыставка «Формула рукоделия» – 10-12 призовых мест ежего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нкурс «Гимн воде» – ежегодно призовые м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E:\Работы обучающихся 2017-2018\Бу-магия 5г.о\Алина Махнёва\Петельчатый квиллинг. Работа Махнёвой Алины.jpg"/>
          <p:cNvPicPr/>
          <p:nvPr/>
        </p:nvPicPr>
        <p:blipFill>
          <a:blip r:embed="rId2"/>
          <a:stretch/>
        </p:blipFill>
        <p:spPr>
          <a:xfrm>
            <a:off x="3995640" y="3716280"/>
            <a:ext cx="3776760" cy="273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E:\работы обучающихся 2016-2017\Корепанова Яна.jpg"/>
          <p:cNvPicPr/>
          <p:nvPr/>
        </p:nvPicPr>
        <p:blipFill>
          <a:blip r:embed="rId3"/>
          <a:stretch/>
        </p:blipFill>
        <p:spPr>
          <a:xfrm>
            <a:off x="250920" y="1577880"/>
            <a:ext cx="2765160" cy="3702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MBNQrH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0" y="0"/>
            <a:ext cx="9144000" cy="8147160"/>
          </a:xfrm>
          <a:prstGeom prst="rect">
            <a:avLst/>
          </a:prstGeom>
          <a:solidFill>
            <a:srgbClr val="ccffff">
              <a:alpha val="47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Bookman Old Style"/>
              </a:rPr>
              <a:t>Наши результаты</a:t>
            </a:r>
            <a:br>
              <a:rPr sz="3200"/>
            </a:br>
            <a:r>
              <a:rPr b="1" i="1" lang="ru-RU" sz="2800" spc="-1" strike="noStrike">
                <a:solidFill>
                  <a:srgbClr val="ffcc00"/>
                </a:solidFill>
                <a:latin typeface="Bookman Old Style"/>
              </a:rPr>
              <a:t>на уровне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59280" y="1268280"/>
            <a:ext cx="56275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Фестиваль «Город талантов»- 1 и 3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нкурс на знание государственных и региональных символов -2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нкурс «Мы мечтаем, верим, надеемся»-1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жрегиональный конкурс «Храм моей мечты» -3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нкурс «Мир моих увлечений» -2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нкурс «Гимн воде»- 1 и 2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нкурс «Путешествие по России» - у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нкурс «Вятская мозаика» – 1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E:\работы обучающихся 2016-2017\Гимн воде Микрюкова Л.В\Соболева Карина.jpg"/>
          <p:cNvPicPr/>
          <p:nvPr/>
        </p:nvPicPr>
        <p:blipFill>
          <a:blip r:embed="rId2"/>
          <a:stretch/>
        </p:blipFill>
        <p:spPr>
          <a:xfrm>
            <a:off x="611280" y="1413000"/>
            <a:ext cx="2341440" cy="4395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E:\Работы обучающихся 2017-2018\Бу-магия 5г.о\Корепанова Яна\Работа Яны Корепановой.jpg"/>
          <p:cNvPicPr/>
          <p:nvPr/>
        </p:nvPicPr>
        <p:blipFill>
          <a:blip r:embed="rId3"/>
          <a:stretch/>
        </p:blipFill>
        <p:spPr>
          <a:xfrm>
            <a:off x="4932360" y="4853160"/>
            <a:ext cx="1584360" cy="2004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BNQrH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0" y="0"/>
            <a:ext cx="9144000" cy="8147160"/>
          </a:xfrm>
          <a:prstGeom prst="rect">
            <a:avLst/>
          </a:prstGeom>
          <a:solidFill>
            <a:srgbClr val="ccffff">
              <a:alpha val="47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Bookman Old Style"/>
              </a:rPr>
              <a:t>Наши результаты</a:t>
            </a:r>
            <a:br>
              <a:rPr sz="3200"/>
            </a:br>
            <a:r>
              <a:rPr b="1" i="1" lang="ru-RU" sz="2800" spc="-1" strike="noStrike">
                <a:solidFill>
                  <a:srgbClr val="ffcc00"/>
                </a:solidFill>
                <a:latin typeface="Bookman Old Style"/>
              </a:rPr>
              <a:t>на Всероссийс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76720" y="1341360"/>
            <a:ext cx="568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Конкурс «Влажный нос, ушки и хвост» – 1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Конкурс «Символ года -2018» – 1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Конкурс «Пусть живут на свете удивительные звери» - 1и 1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Конкурс «Творческая мастерская» -1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Конкурс «Весеннее вдохновение»-1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E:\Работы обучающихся 2017-2018\Бу-магия 5г.о\Корепанова Яна\Работа Корепановой Яны.jpg"/>
          <p:cNvPicPr/>
          <p:nvPr/>
        </p:nvPicPr>
        <p:blipFill>
          <a:blip r:embed="rId2"/>
          <a:stretch/>
        </p:blipFill>
        <p:spPr>
          <a:xfrm>
            <a:off x="468360" y="1844640"/>
            <a:ext cx="2808360" cy="389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E:\Работы обучающихся 2017-2018\Бу-магия 5г.о\Ушакова Марина\Контурный квиллинг. Работа Ушаковой Марины.jpg"/>
          <p:cNvPicPr/>
          <p:nvPr/>
        </p:nvPicPr>
        <p:blipFill>
          <a:blip r:embed="rId3"/>
          <a:stretch/>
        </p:blipFill>
        <p:spPr>
          <a:xfrm>
            <a:off x="4572000" y="3929040"/>
            <a:ext cx="287964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MBNQrH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0" y="0"/>
            <a:ext cx="9144000" cy="7720560"/>
          </a:xfrm>
          <a:prstGeom prst="rect">
            <a:avLst/>
          </a:prstGeom>
          <a:solidFill>
            <a:srgbClr val="ccffff">
              <a:alpha val="47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Bookman Old Style"/>
              </a:rPr>
              <a:t>Мои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484360" y="620280"/>
            <a:ext cx="640872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йонная выставка «Формула рукоделия» -1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йонная выставка «Души прекрасные творенья» -1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йонный конкурс методических материалов – 1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жрайонный конкурс «Осенний вернисаж» -1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егиональная педагогическая олимпиада -2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бластной фестиваль « Город талантов» – 2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сероссийский конкурс «Программы, способствующие развитию детей»(г. Киров) – 1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E:\мои работы\20161006_101341.jpg"/>
          <p:cNvPicPr/>
          <p:nvPr/>
        </p:nvPicPr>
        <p:blipFill>
          <a:blip r:embed="rId2"/>
          <a:stretch/>
        </p:blipFill>
        <p:spPr>
          <a:xfrm>
            <a:off x="357120" y="1428840"/>
            <a:ext cx="2076480" cy="4214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E:\мои работы\Моя работа. Тыква. 2017.jpg"/>
          <p:cNvPicPr/>
          <p:nvPr/>
        </p:nvPicPr>
        <p:blipFill>
          <a:blip r:embed="rId3"/>
          <a:stretch/>
        </p:blipFill>
        <p:spPr>
          <a:xfrm>
            <a:off x="4000680" y="4000680"/>
            <a:ext cx="337176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BNQrH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0" y="0"/>
            <a:ext cx="9144000" cy="8462160"/>
          </a:xfrm>
          <a:prstGeom prst="rect">
            <a:avLst/>
          </a:prstGeom>
          <a:solidFill>
            <a:srgbClr val="cc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Bookman Old Style"/>
              </a:rPr>
              <a:t>Цели и задачи програм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42960" y="1571760"/>
            <a:ext cx="80438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формирования художественно-творческих способностей обучающихся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воить технику модульного оригами и квиллинга, торцевания из салфеток, вытынанки, айрис-фолдинг в процессе выполнения творческих раб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конструктивное мышление, сообразительность, координацию движений, память, воображение в процессе зан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ывать настойчивость в достижении цели, культуру труда в процессе зан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MBNQrH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0" y="0"/>
            <a:ext cx="9144000" cy="7659720"/>
          </a:xfrm>
          <a:prstGeom prst="rect">
            <a:avLst/>
          </a:prstGeom>
          <a:solidFill>
            <a:srgbClr val="cc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6760" y="1000080"/>
            <a:ext cx="8286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МАГА - САМЫЙ ДОСТУПНЫЙ И ДЕШЁВЫЙ МАТЕРИАЛ ДЛЯ ТВОРЧЕСТВА. РЕБЁНОК ЗНАКОМИТСЯ С НЕЙ РАНЬШЕ, ЧЕМ С ЛЮБЫМ ДРУГИМ МАТЕРИАЛОМ. А ПРИМЕНЕНИЕ БУМАГИ ЛЮБОГО КАЧЕСТВА ПОЗВОЛЯЕТ ЗАНИМАТЬСЯ МОДУЛЬНЫМ ОРИГАМИ И КВИЛЛИНГОМ ВСЕМ, НЕЗАВИСИМО ОТ СОЦИАЛЬНОГО ПО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ЯТИЯ МОДУЛЬНЫМ ОРИГАМИ И КВИЛЛИНГОМ НЕ ТРЕБУЮТ ОСОБЫХ  ПРИСПОСОБЛЕНИЙ И ОБОРУД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ЯТИЯ ОРИГАМИ И КВИЛЛИНГОМ В СОСТОЯНИИ  ВОЗДЕЙСТВОВАТЬ НА ЭМОЦИОНАЛЬНУЮ СРЕДУ ЧЕЛОВЕКА. ЭТО ОСОБЕННО ВАЖНО ДЛЯ ТЕХ, У КОГО ЕСТЬ РАЗЛИЧНЫЕ ПРОБЛЕМЫ ОБЩЕНИЯ, КТО ЗАСТЕНЧИВ ИЛИ, НАПРОТИВ, ИЗЛИШНЕ АГРЕССИВ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ЯТИЯ С ТОЧКИ ЗРЕНИЯ ПСИХОЛОГИИ ПОЛУЧАЮТСЯ ЭМОЦИОНАЛЬНО-РАЗГРУЗОЧНЫМИ, СЛУЖАТ СРЕДСТВОМ ИНТЕЛЛЕКТУАЛЬНОГО И ЭСТЕТИЧЕСКОГО РАЗВИТИЯ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Формы подведения итогов реал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дополнительной образовательной программы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ведение итогов теоретической части программы осуществляется в форме теста, практической – в форме выставок детского творчества, выполнения творческого проекта и участия в конкурсах  на различных уровнях: учреждения, муниципальном,  региональном, всероссийском и международн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Новизна и акт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MBNQrH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0" y="0"/>
            <a:ext cx="9144000" cy="7720560"/>
          </a:xfrm>
          <a:prstGeom prst="rect">
            <a:avLst/>
          </a:prstGeom>
          <a:solidFill>
            <a:srgbClr val="cc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Bookman Old Style"/>
              </a:rPr>
              <a:t>Отличительные особенности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14240" y="1600200"/>
            <a:ext cx="79725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т возможностей, особенностей  возраста и психологии ребенка при выборе  методов обучения и творческих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ый выбор темы творческого проекта, уровня его сложности в зависимости от интересов ребенка и индивидуальных способ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обучающихся в подготовке теоретическ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ство с творчеством профессиональных мастеров квиллинга и с творчеством известных русских худож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MBNQrH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0" y="0"/>
            <a:ext cx="9144000" cy="9691200"/>
          </a:xfrm>
          <a:prstGeom prst="rect">
            <a:avLst/>
          </a:prstGeom>
          <a:solidFill>
            <a:srgbClr val="cc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Bookman Old Style"/>
              </a:rPr>
              <a:t>Программа объединения «Бу-магия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Bookman Old Style"/>
              </a:rPr>
              <a:t>6 лет обучения, 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Bookman Old Style"/>
              </a:rPr>
              <a:t>возраст детей 9 – 1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Bookman Old Style"/>
              </a:rPr>
              <a:t>Модульное ориг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8" descr="S6304481"/>
          <p:cNvPicPr/>
          <p:nvPr/>
        </p:nvPicPr>
        <p:blipFill>
          <a:blip r:embed="rId2"/>
          <a:stretch/>
        </p:blipFill>
        <p:spPr>
          <a:xfrm rot="20697000">
            <a:off x="322200" y="830160"/>
            <a:ext cx="1025640" cy="9651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59" name="Picture 189" descr="S6304473"/>
          <p:cNvPicPr/>
          <p:nvPr/>
        </p:nvPicPr>
        <p:blipFill>
          <a:blip r:embed="rId3"/>
          <a:stretch/>
        </p:blipFill>
        <p:spPr>
          <a:xfrm rot="993000">
            <a:off x="8172360" y="1413000"/>
            <a:ext cx="754200" cy="936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0" name="Picture 190" descr="S6302937"/>
          <p:cNvPicPr/>
          <p:nvPr/>
        </p:nvPicPr>
        <p:blipFill>
          <a:blip r:embed="rId4"/>
          <a:stretch/>
        </p:blipFill>
        <p:spPr>
          <a:xfrm>
            <a:off x="928800" y="2143080"/>
            <a:ext cx="1028520" cy="693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1" name="Picture 192" descr="S6304488"/>
          <p:cNvPicPr/>
          <p:nvPr/>
        </p:nvPicPr>
        <p:blipFill>
          <a:blip r:embed="rId5"/>
          <a:stretch/>
        </p:blipFill>
        <p:spPr>
          <a:xfrm>
            <a:off x="214200" y="4643280"/>
            <a:ext cx="879480" cy="914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2" name="Picture 193" descr="S6301924"/>
          <p:cNvPicPr/>
          <p:nvPr/>
        </p:nvPicPr>
        <p:blipFill>
          <a:blip r:embed="rId6"/>
          <a:stretch/>
        </p:blipFill>
        <p:spPr>
          <a:xfrm rot="1271400">
            <a:off x="6951240" y="2246040"/>
            <a:ext cx="765360" cy="1060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3" name="Picture 194" descr="S6301914"/>
          <p:cNvPicPr/>
          <p:nvPr/>
        </p:nvPicPr>
        <p:blipFill>
          <a:blip r:embed="rId7"/>
          <a:stretch/>
        </p:blipFill>
        <p:spPr>
          <a:xfrm>
            <a:off x="6858000" y="3857760"/>
            <a:ext cx="936720" cy="869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4" name="Picture 195" descr="S6304479"/>
          <p:cNvPicPr/>
          <p:nvPr/>
        </p:nvPicPr>
        <p:blipFill>
          <a:blip r:embed="rId8"/>
          <a:srcRect l="0" t="0" r="-2726" b="0"/>
          <a:stretch/>
        </p:blipFill>
        <p:spPr>
          <a:xfrm>
            <a:off x="1357200" y="3786120"/>
            <a:ext cx="1139760" cy="836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5" name="Picture 196" descr="S6304480"/>
          <p:cNvPicPr/>
          <p:nvPr/>
        </p:nvPicPr>
        <p:blipFill>
          <a:blip r:embed="rId9"/>
          <a:stretch/>
        </p:blipFill>
        <p:spPr>
          <a:xfrm>
            <a:off x="8001000" y="2857680"/>
            <a:ext cx="849240" cy="865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6" name="Picture 197" descr="S6304472"/>
          <p:cNvPicPr/>
          <p:nvPr/>
        </p:nvPicPr>
        <p:blipFill>
          <a:blip r:embed="rId10"/>
          <a:stretch/>
        </p:blipFill>
        <p:spPr>
          <a:xfrm rot="20782800">
            <a:off x="87480" y="3169800"/>
            <a:ext cx="934920" cy="852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7" name=""/>
          <p:cNvSpPr txBox="1"/>
          <p:nvPr/>
        </p:nvSpPr>
        <p:spPr>
          <a:xfrm>
            <a:off x="2356920" y="2499840"/>
            <a:ext cx="47149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 год обучения дети знакомятся с модульным ори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изучают историю модульного ориг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ыполняют объемные поделки от простого к сложн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2 год обучения в течение первой половины учебного года выполняют сложные объёмные подел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3 год обучения выполняют плоские карти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0" descr="S6301410"/>
          <p:cNvPicPr/>
          <p:nvPr/>
        </p:nvPicPr>
        <p:blipFill>
          <a:blip r:embed="rId11">
            <a:lum bright="12000"/>
          </a:blip>
          <a:stretch/>
        </p:blipFill>
        <p:spPr>
          <a:xfrm>
            <a:off x="642960" y="5715000"/>
            <a:ext cx="1225440" cy="919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9" name="Picture 8" descr="E:\работы воспитанников\Работы прошлых лет\оригами\Бум оригами коты на крыше Булдакова Катя 2016.jpg"/>
          <p:cNvPicPr/>
          <p:nvPr/>
        </p:nvPicPr>
        <p:blipFill>
          <a:blip r:embed="rId12"/>
          <a:stretch/>
        </p:blipFill>
        <p:spPr>
          <a:xfrm>
            <a:off x="3000240" y="5214960"/>
            <a:ext cx="196704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E:\Работы обучающихся 2017-2018\Бу-магия 5г.о\Бабенкова Наталья\Модульное оригами. Работа Бабенковой Натальи.jpg"/>
          <p:cNvPicPr/>
          <p:nvPr/>
        </p:nvPicPr>
        <p:blipFill>
          <a:blip r:embed="rId13"/>
          <a:stretch/>
        </p:blipFill>
        <p:spPr>
          <a:xfrm>
            <a:off x="5500800" y="5180040"/>
            <a:ext cx="1823760" cy="1346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9" descr="S6301409"/>
          <p:cNvPicPr/>
          <p:nvPr/>
        </p:nvPicPr>
        <p:blipFill>
          <a:blip r:embed="rId14">
            <a:lum bright="12000"/>
          </a:blip>
          <a:stretch/>
        </p:blipFill>
        <p:spPr>
          <a:xfrm>
            <a:off x="7778880" y="4799160"/>
            <a:ext cx="1224000" cy="1135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MBNQrH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0"/>
            <a:ext cx="9144000" cy="9876600"/>
          </a:xfrm>
          <a:prstGeom prst="rect">
            <a:avLst/>
          </a:prstGeom>
          <a:solidFill>
            <a:srgbClr val="cc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Bookman Old Style"/>
              </a:rPr>
              <a:t>Программа объединения «Бу-магия» </a:t>
            </a:r>
            <a:r>
              <a:rPr b="1" i="1" lang="ru-RU" sz="3200" spc="-1" strike="noStrike">
                <a:solidFill>
                  <a:srgbClr val="ffcc00"/>
                </a:solidFill>
                <a:latin typeface="Bookman Old Style"/>
              </a:rPr>
              <a:t>Квилл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3" descr="P1020888"/>
          <p:cNvPicPr/>
          <p:nvPr/>
        </p:nvPicPr>
        <p:blipFill>
          <a:blip r:embed="rId2">
            <a:lum bright="12000"/>
          </a:blip>
          <a:stretch/>
        </p:blipFill>
        <p:spPr>
          <a:xfrm rot="1424400">
            <a:off x="7572240" y="642960"/>
            <a:ext cx="1027080" cy="1368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5" name=""/>
          <p:cNvSpPr txBox="1"/>
          <p:nvPr/>
        </p:nvSpPr>
        <p:spPr>
          <a:xfrm>
            <a:off x="1785960" y="1000080"/>
            <a:ext cx="5572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учение квиллинга начинается со второй половины 2 года обуч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ачала дети учатся выполнять базовые элементы, делают простые открытки и панно в технике классического квиллин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3год обучения знакомятся с петельчатым квиллингом, выполняют простые изделия. В классическом квиллинге выполняют более сложные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4 г.о. знакомятся с самым сложным видом квиллинга – контурным. Выполняют более сложные работы в технике петельчатого и классического квиллин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 и 6 г.о выполняют сложные работы, используя все виды квиллин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E:\работы воспитанников\Работы прошлых лет\Квиллинг\Бум Соболева Карина петушок.JPG"/>
          <p:cNvPicPr/>
          <p:nvPr/>
        </p:nvPicPr>
        <p:blipFill>
          <a:blip r:embed="rId3"/>
          <a:stretch/>
        </p:blipFill>
        <p:spPr>
          <a:xfrm>
            <a:off x="214200" y="3071880"/>
            <a:ext cx="1522440" cy="1309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E:\работы воспитанников\Работы прошлых лет\Квиллинг\цветы Соболева Карина.JPG"/>
          <p:cNvPicPr/>
          <p:nvPr/>
        </p:nvPicPr>
        <p:blipFill>
          <a:blip r:embed="rId4"/>
          <a:stretch/>
        </p:blipFill>
        <p:spPr>
          <a:xfrm rot="1567800">
            <a:off x="7797600" y="2154240"/>
            <a:ext cx="1082520" cy="1449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3" descr="E:\работы воспитанников\Работы прошлых лет\Квиллинг\тигры.jpg"/>
          <p:cNvPicPr/>
          <p:nvPr/>
        </p:nvPicPr>
        <p:blipFill>
          <a:blip r:embed="rId5"/>
          <a:stretch/>
        </p:blipFill>
        <p:spPr>
          <a:xfrm>
            <a:off x="6572160" y="4786200"/>
            <a:ext cx="1928880" cy="1838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E:\работы воспитанников\Работы прошлых лет\Квиллинг\Бум Соболева Карина оленёнок.jpg"/>
          <p:cNvPicPr/>
          <p:nvPr/>
        </p:nvPicPr>
        <p:blipFill>
          <a:blip r:embed="rId6"/>
          <a:stretch/>
        </p:blipFill>
        <p:spPr>
          <a:xfrm rot="20498400">
            <a:off x="247320" y="808200"/>
            <a:ext cx="1333440" cy="17856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IMG_3175.jpg"/>
          <p:cNvPicPr/>
          <p:nvPr/>
        </p:nvPicPr>
        <p:blipFill>
          <a:blip r:embed="rId7"/>
          <a:stretch/>
        </p:blipFill>
        <p:spPr>
          <a:xfrm>
            <a:off x="357120" y="5000760"/>
            <a:ext cx="2214720" cy="1612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E:\работы воспитанников\Работы прошлых лет\Квиллинг\Бум Карась 16 Соболева Карина.JPG"/>
          <p:cNvPicPr/>
          <p:nvPr/>
        </p:nvPicPr>
        <p:blipFill>
          <a:blip r:embed="rId8"/>
          <a:stretch/>
        </p:blipFill>
        <p:spPr>
          <a:xfrm rot="1028400">
            <a:off x="7443720" y="3682800"/>
            <a:ext cx="1332000" cy="998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Работы обучающихся 2017-2018\Бу-магия 5г.о\Соболева Карина\Работа Соболевой Карины. Контурный квиллинг.jpg"/>
          <p:cNvPicPr/>
          <p:nvPr/>
        </p:nvPicPr>
        <p:blipFill>
          <a:blip r:embed="rId9"/>
          <a:stretch/>
        </p:blipFill>
        <p:spPr>
          <a:xfrm>
            <a:off x="3500280" y="5005440"/>
            <a:ext cx="221472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MBNQrH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0" y="0"/>
            <a:ext cx="9144000" cy="8086320"/>
          </a:xfrm>
          <a:prstGeom prst="rect">
            <a:avLst/>
          </a:prstGeom>
          <a:solidFill>
            <a:srgbClr val="cc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Bookman Old Style"/>
              </a:rPr>
              <a:t>Программа объединения «Бу-магия» </a:t>
            </a:r>
            <a:br>
              <a:rPr sz="3200"/>
            </a:br>
            <a:r>
              <a:rPr b="1" i="1" lang="ru-RU" sz="2400" spc="-1" strike="noStrike">
                <a:solidFill>
                  <a:srgbClr val="ffcc00"/>
                </a:solidFill>
                <a:latin typeface="Bookman Old Style"/>
              </a:rPr>
              <a:t>Айрис-фолд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00160" y="2714400"/>
            <a:ext cx="521496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2 год обучения дети учатся выполнять работы в технике айрис-фолдин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6" descr="E:\работы воспитанников\работы обучающихся 2017\айрис-фолдинг\Айрис осен листья в вазе Касимов Кирилл.jpg"/>
          <p:cNvPicPr/>
          <p:nvPr/>
        </p:nvPicPr>
        <p:blipFill>
          <a:blip r:embed="rId2"/>
          <a:stretch/>
        </p:blipFill>
        <p:spPr>
          <a:xfrm>
            <a:off x="428760" y="1214280"/>
            <a:ext cx="1500120" cy="2000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5" descr="E:\работы воспитанников\работы обучающихся 2017\айрис-фолдинг\Айрис кошка Корепанова Яна.jpg"/>
          <p:cNvPicPr/>
          <p:nvPr/>
        </p:nvPicPr>
        <p:blipFill>
          <a:blip r:embed="rId3"/>
          <a:stretch/>
        </p:blipFill>
        <p:spPr>
          <a:xfrm>
            <a:off x="6429240" y="10717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0" descr="D:\маме\работы воспитанников\Работы прошлых лет\айрис -фолдинг\Айрис КарпичевФёдор 15.jpg"/>
          <p:cNvPicPr/>
          <p:nvPr/>
        </p:nvPicPr>
        <p:blipFill>
          <a:blip r:embed="rId4"/>
          <a:stretch/>
        </p:blipFill>
        <p:spPr>
          <a:xfrm>
            <a:off x="357120" y="3643200"/>
            <a:ext cx="2157480" cy="161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2" descr="D:\маме\работы воспитанников\Работы прошлых лет\айрис -фолдинг\айрис сердце роз.jpg"/>
          <p:cNvPicPr/>
          <p:nvPr/>
        </p:nvPicPr>
        <p:blipFill>
          <a:blip r:embed="rId5"/>
          <a:stretch/>
        </p:blipFill>
        <p:spPr>
          <a:xfrm>
            <a:off x="2928960" y="1000080"/>
            <a:ext cx="1947960" cy="1461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3" descr="D:\маме\работы воспитанников\Работы прошлых лет\айрис -фолдинг\Айрис Лошадь Шалыгина Рада.jpg"/>
          <p:cNvPicPr/>
          <p:nvPr/>
        </p:nvPicPr>
        <p:blipFill>
          <a:blip r:embed="rId6"/>
          <a:stretch/>
        </p:blipFill>
        <p:spPr>
          <a:xfrm>
            <a:off x="2857680" y="474516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8" descr="D:\маме\работы воспитанников\Работы прошлых лет\айрис -фолдинг\Айрис Парусник роз.jpg"/>
          <p:cNvPicPr/>
          <p:nvPr/>
        </p:nvPicPr>
        <p:blipFill>
          <a:blip r:embed="rId7"/>
          <a:stretch/>
        </p:blipFill>
        <p:spPr>
          <a:xfrm>
            <a:off x="5572080" y="3429000"/>
            <a:ext cx="3111480" cy="2333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BNQrH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0" y="0"/>
            <a:ext cx="9144000" cy="8764200"/>
          </a:xfrm>
          <a:prstGeom prst="rect">
            <a:avLst/>
          </a:prstGeom>
          <a:solidFill>
            <a:srgbClr val="cc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Bookman Old Style"/>
              </a:rPr>
              <a:t>Программа объединения «Бу-магия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Bookman Old Style"/>
              </a:rPr>
              <a:t>Вытын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E:\работы воспитанников\работы обучающихся 2017\вытынанки\Выт роза Ушакова Марина.jpg"/>
          <p:cNvPicPr/>
          <p:nvPr/>
        </p:nvPicPr>
        <p:blipFill>
          <a:blip r:embed="rId2"/>
          <a:stretch/>
        </p:blipFill>
        <p:spPr>
          <a:xfrm rot="1232400">
            <a:off x="7143840" y="857160"/>
            <a:ext cx="1368360" cy="1501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E:\работы воспитанников\работы обучающихся 2017\вытынанки\Выт рыбы Ушакова Марина (2).jpg"/>
          <p:cNvPicPr/>
          <p:nvPr/>
        </p:nvPicPr>
        <p:blipFill>
          <a:blip r:embed="rId3"/>
          <a:stretch/>
        </p:blipFill>
        <p:spPr>
          <a:xfrm rot="20778000">
            <a:off x="856800" y="2643120"/>
            <a:ext cx="1654200" cy="1508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428920" y="2142720"/>
            <a:ext cx="49291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3 год обучения дети знакомятся с историей вытынанок, выполняют простые вытына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4 год обучения выполняют сложные сюжетные вытынан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:\работы воспитанников\Работы прошлых лет\вытынанки\выт Котёнок Ушакова Марина.jpg"/>
          <p:cNvPicPr/>
          <p:nvPr/>
        </p:nvPicPr>
        <p:blipFill>
          <a:blip r:embed="rId4"/>
          <a:stretch/>
        </p:blipFill>
        <p:spPr>
          <a:xfrm>
            <a:off x="3500280" y="4643280"/>
            <a:ext cx="1785960" cy="1976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0" descr="D:\маме\работы обучающихся 2016-2017\Котик Ушакова марина.jpg"/>
          <p:cNvPicPr/>
          <p:nvPr/>
        </p:nvPicPr>
        <p:blipFill>
          <a:blip r:embed="rId5"/>
          <a:stretch/>
        </p:blipFill>
        <p:spPr>
          <a:xfrm>
            <a:off x="5929200" y="4714920"/>
            <a:ext cx="2349720" cy="1762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1" descr="D:\маме\работы воспитанников\Работы прошлых лет\вытынанки\Вытынанка Зебры Миклин Игорь.jpg"/>
          <p:cNvPicPr/>
          <p:nvPr/>
        </p:nvPicPr>
        <p:blipFill>
          <a:blip r:embed="rId6"/>
          <a:stretch/>
        </p:blipFill>
        <p:spPr>
          <a:xfrm rot="20346600">
            <a:off x="193320" y="795240"/>
            <a:ext cx="1920960" cy="144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2" descr="D:\маме\работы воспитанников\Работы прошлых лет\вытынанки\Выт бабочка Ушакова марина.jpg"/>
          <p:cNvPicPr/>
          <p:nvPr/>
        </p:nvPicPr>
        <p:blipFill>
          <a:blip r:embed="rId7"/>
          <a:stretch/>
        </p:blipFill>
        <p:spPr>
          <a:xfrm>
            <a:off x="500040" y="4643280"/>
            <a:ext cx="2563920" cy="1922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5" descr="D:\маме\работы воспитанников\работы обучающихся 2017\вытынанки\выт щенок Махнёва Алина.jpg"/>
          <p:cNvPicPr/>
          <p:nvPr/>
        </p:nvPicPr>
        <p:blipFill>
          <a:blip r:embed="rId8"/>
          <a:stretch/>
        </p:blipFill>
        <p:spPr>
          <a:xfrm>
            <a:off x="6643800" y="3154320"/>
            <a:ext cx="1857240" cy="1393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MBNQrH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0" y="0"/>
            <a:ext cx="9144000" cy="8764200"/>
          </a:xfrm>
          <a:prstGeom prst="rect">
            <a:avLst/>
          </a:prstGeom>
          <a:solidFill>
            <a:srgbClr val="cc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Bookman Old Style"/>
              </a:rPr>
              <a:t>Программа объединения «Бу-магия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Bookman Old Style"/>
              </a:rPr>
              <a:t>Торцевание из салф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E:\Работы обучающихся 2017-2018\Бу-магия 5г.о\Бабенкова Наталья\Торцевание. Работа Бабенковой Натальи.jpg"/>
          <p:cNvPicPr/>
          <p:nvPr/>
        </p:nvPicPr>
        <p:blipFill>
          <a:blip r:embed="rId2"/>
          <a:stretch/>
        </p:blipFill>
        <p:spPr>
          <a:xfrm rot="20877000">
            <a:off x="399600" y="2031840"/>
            <a:ext cx="1954440" cy="2678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E:\работы воспитанников\Работы прошлых лет\торцевание\Торцевание Бабенкова Наталья.JPG"/>
          <p:cNvPicPr/>
          <p:nvPr/>
        </p:nvPicPr>
        <p:blipFill>
          <a:blip r:embed="rId3"/>
          <a:stretch/>
        </p:blipFill>
        <p:spPr>
          <a:xfrm rot="6072600">
            <a:off x="6399360" y="2280240"/>
            <a:ext cx="2500560" cy="1994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214720" y="2071440"/>
            <a:ext cx="50004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4 год обучения дети знакомятся с торцеванием из салфет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4" descr="D:\маме\работы воспитанников\Работы прошлых лет\торцевание\Торцевание Котик Рякина Рита.JPG"/>
          <p:cNvPicPr/>
          <p:nvPr/>
        </p:nvPicPr>
        <p:blipFill>
          <a:blip r:embed="rId4"/>
          <a:stretch/>
        </p:blipFill>
        <p:spPr>
          <a:xfrm>
            <a:off x="3000240" y="2857680"/>
            <a:ext cx="3194280" cy="3755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04:34:32Z</dcterms:created>
  <dc:creator>Admin</dc:creator>
  <dc:description/>
  <dc:language>en-US</dc:language>
  <cp:lastModifiedBy>Пользователь Windows</cp:lastModifiedBy>
  <dcterms:modified xsi:type="dcterms:W3CDTF">2020-07-25T15:15:25Z</dcterms:modified>
  <cp:revision>95</cp:revision>
  <dc:subject/>
  <dc:title>Слайд 1</dc:title>
</cp:coreProperties>
</file>