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4F0-FC78-43C2-9841-47EB2930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E27-5FB8-4D2B-9DDE-C545B0E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9B4-9124-438A-95CA-4CE97364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A78-5FCA-4FB8-A4CC-60C0315F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D2C-1BA1-4702-8E08-4FE051D3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E7C-C702-4939-962A-97190EB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2C2-D549-4E0B-9B43-997175DE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2FA-DF87-4405-87BF-0464DBA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4C0-BD15-4DCF-94AE-5277BA5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F20-39AC-4E17-ADF6-BF00D6D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905-72A3-4FF0-9ED6-136A7D4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9FA-D181-4330-ADCD-547536A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0977-A963-4B25-BE22-9368F1073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kgo.ukoz.ru/" TargetMode="External"/><Relationship Id="rId2" Type="http://schemas.openxmlformats.org/officeDocument/2006/relationships/hyperlink" Target="http://www.kgo.ukoz.ru/" TargetMode="External"/><Relationship Id="rId3" Type="http://schemas.openxmlformats.org/officeDocument/2006/relationships/hyperlink" Target="http://www.kgo.ukoz.ru/" TargetMode="External"/><Relationship Id="rId4" Type="http://schemas.openxmlformats.org/officeDocument/2006/relationships/hyperlink" Target="http://www.kgo.ukoz.ru/" TargetMode="External"/><Relationship Id="rId5" Type="http://schemas.openxmlformats.org/officeDocument/2006/relationships/hyperlink" Target="http://www.kgo.ukoz.ru/" TargetMode="External"/><Relationship Id="rId6" Type="http://schemas.openxmlformats.org/officeDocument/2006/relationships/hyperlink" Target="http://www.kgo.ukoz.ru/" TargetMode="External"/><Relationship Id="rId7" Type="http://schemas.openxmlformats.org/officeDocument/2006/relationships/hyperlink" Target="http://www.kgo.ukoz.ru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 обще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казенная общеобразовательная школа ст. Евсино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итимского района Новосиби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ормирование коммуникативных компетенций у обучающихся  с ЗПР 5 – 7 классов при работе с текстом на уроках русского язы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: Титова Светлана Николаевна, учитель русского языка и литературы, высшая катег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 для обучающихся 5-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ть анализировать и характеризовать тексты различных типов речи, ст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практическими умениями различать тексты разговорного характера, научные,  тексты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П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практическими умениями работы с текстом малого объёма на определённом этап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ные задания для обучающихся 5-7 класса при работе с текс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стиль, тип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аглавить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а тема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а главная мысль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ключев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едложение, в котором отражена главная мысль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план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 пропущенные буквы, графически обозначить орф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слова на изучаемую орфограмму, объяс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ь лексическое значени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ить грамматическую основу в предложениях 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 какой частью речи выражены слова в предложен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з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для обучающихся 5-7 класса с ЗПР при работе с текс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тема текста?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ма – то, о чём говорится в тексте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тексте рассказывается  о 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предложении отражена главная мысль тек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….  б) …   в) …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СКАЗ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мысль – то, что хотел сказать автор читател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Главная мысль заключена в предложении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заглавить текст.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…», «…», «…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 с подсказкой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« Фонетика» (6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и подошёл первый месяц осени. Рассыпал золото по рощам, завесил дали пеленой туманов. То радует сентябрь ясными деньками, то засвистит, зашумит ветрами. Потянулись к юг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тицы. Всё чаще слышны в осеннем небе их прощальные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и озаглави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в тексте два слова с безударной проверяемой гласной в корне и выполнить работу по образцу: л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й – л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«Осень». «В сентябре». «Птиц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Чтобы проверить безударную гласную в корне слова, надо изменить форму слова или подобрать такое однокоренное слово, чтобы безударная гласная стала ударно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Фонетический разбор слова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гу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ГУ /           /  ? с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  /     /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     /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   / 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  /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б.   ?з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огласный звонкий или глухой мягкий или твёрд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сный ударный или безудар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 с подсказкой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«Части речи» (6к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Хорош русский лес ранней весной! 2. Гибкие ветки берёз густо покрыты смолистыми почками. 3. Маленькие осинки выстроились на опушке леса. 4. Они ждут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Возле ручья красуется ива. 6. На широкой поляне разместился могучий дуб. 7. Скоро всё зазеленеет, зацветёт, о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, выписать предложение, в котором заключена основная мысль    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, какой частью речи является каждое слово эт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мысль текста – то, что хотел сказать автор чита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Имя сущ. отвечает на вопросы 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прил. – какой? какая? какое? какие? Ка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 - что делать?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ОЧНАЯ 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2. (каков?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рош ( краткое прилаг.)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?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ий (прилаг.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что?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лес (сущ.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какой?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анней (прилаг.)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? что?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сной (сущ.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оуз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оуз-тестом принято называть текст с пропущенными компон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цель работы с клоуз-тестом -  научить ребён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имать смысл текста, устройство его смысловой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рганизаци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муникативного событ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нова работы с текстом:встреча различных пониманий, версий, правомерных по каким-либо основания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работой обучающихся с ЗПР по карточке-подсказке и проверочной карточке на основе текста, а также с клоуз-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практическую значимость использования данных приёмов работы для успешной подготовки учащихся с ЗПР к ГВ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весь текст (в том числе название и имя автора). Озаглавьте его (если у текста есть заголовок, расшифруйте его для себя, подумайте, почему текст так назван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авливая пропущенное слово, имейте в виду, что пропущенное слово, как правило, -  ключевое, то есть важное для понимания смысла всего текста, его главной мысли, оно находится во взаимосвязи с другими словами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ближним и дальним контекстом поможет восстановить слово, для этого необходимо постоянно перечитывать текст. Ключевое слово может повторяться в различных вариа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нное слово должно «вписаться» в предложение не только по смыслу, но и граммат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трелок покажите смысловые отношения между словами, которые помогли восстановить вам пропущенно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абота делается совместно или проверяется в классе, вступайте в диалог с другими чит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оуз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опушках лесов, по берегам рек и ручьев прежде всех распускается и цветет     …    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  Это очень приятное, зеленое и      …      деревце. Оно всегда улыбается, а весною, когда пахучие белые цветы сплошь его покрывают, даже смеется. Любуясь им, сам невольно начинаешь улыба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на этом дереве      …      почки, значит, окончательно проснулась и потеплела земля, а весна вошла в полную сил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  Даже в самых глухих северных лесах можно увидеть черёмуху. Там, где не растут вишни и нет хороших садов, ребята лакомятся ягодами лесной  черёмухи, а хозяйки пекут пироги с    …      начинкой. # # 89слов. (И.Соколов-Микитов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на первичное восприятие общего смысла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чём этот текст?  Что постарался передать автор читателя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версиями обучающихся; заполнение  таб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3f3f"/>
                </a:solidFill>
                <a:latin typeface="Arial"/>
              </a:rPr>
              <a:t>МОЯ ВЕ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жите, на чем основан  выбор вашей вер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ВЕРСИЯ ОДНО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версия наиболее удачн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рская вер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пушках лесов, по берегам рек и ручьев прежде всех распускается и цвет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ёмух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Это очень приятное, зеленое и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сёл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деревце. Оно всегда улыбается, а весною, когда пахучие белые цветы сплошь его покрывают, даже смеется. Любуясь им, сам невольно начинаешь улыб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 этом дерев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кр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чки, значит, окончательно проснулась и потеплела земля, а весна вошла в полную сил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Даже в самых глухих северных лесах можно увидеть черёмуху. Там, где не растут вишни и нет хороших садов, ребята лакомятся ягодами лесной  черёмухи, а хозяйки пекут пироги с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рёмух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начинкой. # # 89слов. (И.Соколов-Микит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е слово пропустили бы 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берите заглавие, в котором бы отражалась тема или основная мысль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оуз-тест с подсказ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    …     , которая возила молоко с маленькой фермы, была особенная. Это была обычная на вид машина с желтой цистерной и надписью «     …     ».  Машина  и цистерна были грязные и ржавые. Эта машина приезжала в     …     по деревне в направлении фермы      …     , а вечером, после дойки, с молоком проезжала обратно. Особенным в ней было то, что эта машина, проезжая мимо дома, давала сильные     …      на телевизор. Еще машину саму не было видно, а по     …     телевизора уже бежали полосы. Молоковозка приближалась, полоски усиливались, телевизор начинал трещать, а когда машина проезжала мимо дома, изображение на экране пропадало совсем.       …     машина – телевизор начинал работать      …      . Я узнавал у других жителей. На все телевизоры эта молоковозка действовала      …     . Никакая другая машина ничего подобного не производила и никак не влияла на прием телевизионного сигнала.#  Евгений Гришко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ние: восстановите пропущенные слова, выбрав их из предложенных вари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6912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ианты выбо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рактор, телега, машина, электри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Хлеб, Милиция, Молоко, Cовхоз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бед, пыли, завтрак, объез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громыхая,  с молоком, пустая,  с дояр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удары, помехи, звуки, разд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крышке, антенне, голове, экр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удалялась, приближалась, уезжая, ломала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плохо, нормально, волшебником, ут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) странным образом, одинаково, в обед, по-раз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MG_20190415_141827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20190415_141547"/>
          <p:cNvPicPr/>
          <p:nvPr/>
        </p:nvPicPr>
        <p:blipFill>
          <a:blip r:embed="rId1"/>
          <a:stretch/>
        </p:blipFill>
        <p:spPr>
          <a:xfrm>
            <a:off x="2627280" y="189000"/>
            <a:ext cx="3605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риально-техническое и методическое обеспечен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, проектор, экран, презентация, кар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задания  с подсказкой к тексту для обучающихся с ЗПР 6 класса и  разработать критерии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олго шёл по тропинке зимнего леса и любовался его красотой. Зимний день свернулся и погас, ночь подошла быстро и стала на пороге. Воробьи взметнулись стайкою и рассыпались по аллее. В лесу я потерял всякое представление 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А. Ладыженская, М.Т. Баранов, Л.А. Тростенцова и др. Русский язык. 5,6,7 класс.  Учебник для общеобразовательных учреждений в 2 ч.. – М.: Просвещение, 20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ман-Орлова К.Г.Самостоятельная работа по русскому языку. - М: Просвешение, 199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юшкин А.Б. Комплексный анализ текста. Рабочая тетрадь. 6класс. – М:ТЦ Сфера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ть автора: учимся смысловому чтению. Учебно-методическое пособие.(Адрес сайта кафедры гуманитарного образования НИПКиПРО:   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go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Клоуз-тест и формирование текстовой и коммуникативной компетенций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бно-методические материалы для учителей русского языка и литературы. Коммуникативно-деятельностный подход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ловьёва З.И. Сборник проверочных работ по русскому языку. Вербум -М. М: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полагаемый результа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 познакомятся с опытом работы по карточке-подсказке и проверочной карточке  при работе с текстом, а также с клоуз-тест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ят  задания и разработают критерии оц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ческая ц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готовить дидактический и диагностический материал для проверки знаний детей с ЗП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с текс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ывается правило, название орфограммы, используемой в словах данного текста, а также образец выполнения з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очная карточ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ъявляется учащемуся после того, как задание выполнено. В ней содержится ответ на поставленную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чка 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омогает ребёнку выполнить работу, корректировать 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очная карточ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ирует очень важное качество  - умение контролировать проделанную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а такого задания 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продуктивные вопросы по теории и практике; по правописанию или пунктуации с одним вариантом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дания творческого характера без вариантов ответа, деформированный текст  и задания к нему поисков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исьменное грамматическое задание (если необходим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ала перевода баллов в привычную школьную отм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е прави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8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вильно выполненных заданий и не более 1орфографической и 1пунктуационной ошибки – «5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6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е более 3-х орфографических и 3 пунктуационных ошибок  – «4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4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4-5 орфографических и 3-4 пунктуационных ошибок – «3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ее 4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ных заданий или более 5 орфографических и 5 пунктуационных ошибок – «2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5T11:13:30Z</dcterms:created>
  <dc:creator>Папа</dc:creator>
  <dc:description/>
  <dc:language>en-US</dc:language>
  <cp:lastModifiedBy>Windows User</cp:lastModifiedBy>
  <dcterms:modified xsi:type="dcterms:W3CDTF">2020-07-26T08:08:00Z</dcterms:modified>
  <cp:revision>133</cp:revision>
  <dc:subject/>
  <dc:title>Выступление </dc:title>
</cp:coreProperties>
</file>