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79F-B678-4F0E-924A-727CC517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78F-3CE1-4EFB-B6B3-090D46EE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0AE-B305-425E-A6EC-9373E1F9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7E5-01FF-44FB-81BE-D3537EE6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DF7-1189-4965-AFCD-65E426A2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AEF-2841-4748-9992-82906813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90F-5A8B-4F27-B970-29FDF5A7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DA9-2243-4F0C-96F1-CD47FE31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D5D-F15F-48E6-8C63-E9B33D27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CFF-DF93-4A66-8029-6202C601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0EC-30DA-4181-965D-A8AE9FEC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218-DAA9-4DC9-91C8-4AD100BD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CB2C-CD0E-43A7-A703-8FF7EC4C9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85680" y="1452600"/>
            <a:ext cx="71805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Бизиборд 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звивающая игра своими руками для детей раннего и младшего дошкольного возраста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84360" y="620640"/>
            <a:ext cx="74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47» (МБДОУ № 4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348000" y="580536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ысаево 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9" descr=""/>
          <p:cNvPicPr/>
          <p:nvPr/>
        </p:nvPicPr>
        <p:blipFill>
          <a:blip r:embed="rId1"/>
          <a:stretch/>
        </p:blipFill>
        <p:spPr>
          <a:xfrm>
            <a:off x="1542960" y="4748040"/>
            <a:ext cx="882720" cy="11653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" descr=""/>
          <p:cNvPicPr/>
          <p:nvPr/>
        </p:nvPicPr>
        <p:blipFill>
          <a:blip r:embed="rId2"/>
          <a:stretch/>
        </p:blipFill>
        <p:spPr>
          <a:xfrm>
            <a:off x="1504800" y="3529080"/>
            <a:ext cx="890640" cy="1176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641680" y="377676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виченко Светлана Александр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спитатель, 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2627280" y="4775040"/>
            <a:ext cx="54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нёва Наталья Вадим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спитател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20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Бизиборд «Дом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689440" cy="473400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200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характеристика материалов, из которых изготовлена игра бизиборд «Дом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71640" y="1628640"/>
            <a:ext cx="72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к изготовлен из качественных экологически чистых материал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дома (стены и крыша, ставни) выпилены из 5 мм ДСП, что является залогом долгой службы иг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шен акриловыми водно-дисперсионными красками, применяемыми для детского художественного творчества (яркость и привлекательность оформления - неотъемлемая часть среды детей младшего дошкольного возраст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материалы (выключатель; счеты; небольшая клавиатура; маленький замок; небольшие дверцы на навесах, сделанные своими руками; дверная цепочка; поворотный тумблер; щеколда; колокольчик; шнуровка; розетка с вилкой; молнии; липучки; ручки для мебели;) сделаны с учётом возрастных особенностей детей – антивандальные, легко моются, крепятся на безопасные застежки (саморезы, клей – пистолет, липучки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а техника безопасности для детей от 1.5 до 3х лет (исключена техническая опасность, мелкие детали и т. д.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Объект 1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263760" cy="339084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53" name="Объект 2" descr=""/>
          <p:cNvPicPr/>
          <p:nvPr/>
        </p:nvPicPr>
        <p:blipFill>
          <a:blip r:embed="rId2"/>
          <a:stretch/>
        </p:blipFill>
        <p:spPr>
          <a:xfrm>
            <a:off x="4317840" y="2708280"/>
            <a:ext cx="3716640" cy="331956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sp>
        <p:nvSpPr>
          <p:cNvPr id="54" name="Прямоугольник 2"/>
          <p:cNvSpPr/>
          <p:nvPr/>
        </p:nvSpPr>
        <p:spPr>
          <a:xfrm>
            <a:off x="1255680" y="765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бизибордом «Дом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19604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познавательных способностей, привитие навыков к самостоятельной исследовательской деятельности, а также развитие мелкой мотор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476360" y="692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иборд «Домик» для детей от 1.5 до 3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988920" y="2781360"/>
            <a:ext cx="7205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азличать количество однородных предметов (один – мног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о предметах контрастных размеров и обозначению их в речи (большой – маленький), (длинный – короткий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классифицировать и обобщать предметы по определенному признаку (форма, цвет) и называть и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опыт практического освоения окружающего простран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, внимание, памя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972720" y="23036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4" descr=""/>
          <p:cNvPicPr/>
          <p:nvPr/>
        </p:nvPicPr>
        <p:blipFill>
          <a:blip r:embed="rId1"/>
          <a:stretch/>
        </p:blipFill>
        <p:spPr>
          <a:xfrm>
            <a:off x="1116000" y="1560600"/>
            <a:ext cx="3178080" cy="432108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4643280" y="1522440"/>
            <a:ext cx="3079800" cy="435924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sp>
        <p:nvSpPr>
          <p:cNvPr id="61" name="TextBox 2"/>
          <p:cNvSpPr/>
          <p:nvPr/>
        </p:nvSpPr>
        <p:spPr>
          <a:xfrm>
            <a:off x="1763640" y="83664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игровых стенда бизиборда «Дом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5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438360" cy="313344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63" name="Объект 6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3287880" cy="306864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sp>
        <p:nvSpPr>
          <p:cNvPr id="64" name="TextBox 2"/>
          <p:cNvSpPr/>
          <p:nvPr/>
        </p:nvSpPr>
        <p:spPr>
          <a:xfrm>
            <a:off x="1763640" y="83664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игровых стенда бизиборда «Дом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971640" y="1484280"/>
            <a:ext cx="7200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расочная игра с набором дополнительного материала. В комплект игры входит: большой домик; коробка с дополнительными деталями (цветными геометрическими фигурами на липучках; цветные ленты разной длинны; большие деревянные бусины; маленькие игрушки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й характер игры состоит в том что, ребенок самостоятельно находит решение задач благодаря практическим действия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ценность игры «Домик» в том что она является пособием при индивидуальной работе с детьми по закреплению различных знаний и развитию мелкой моторики.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оответствует возрастным особенностям дет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е участвуют от 1 до 6 дет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ть игру лучше под руководством взрослого ведущего. В дальнейшем дети смогут играть самостоятель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игры зависит от интереса и усидчивости дет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23200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южетные фото игры «Дом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8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3241800" cy="230976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69" name="Объект 9" descr=""/>
          <p:cNvPicPr/>
          <p:nvPr/>
        </p:nvPicPr>
        <p:blipFill>
          <a:blip r:embed="rId2"/>
          <a:stretch/>
        </p:blipFill>
        <p:spPr>
          <a:xfrm>
            <a:off x="4950000" y="1189080"/>
            <a:ext cx="3073320" cy="230508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70" name="Рисунок 10" descr=""/>
          <p:cNvPicPr/>
          <p:nvPr/>
        </p:nvPicPr>
        <p:blipFill>
          <a:blip r:embed="rId3"/>
          <a:srcRect l="0" t="0" r="0" b="6740"/>
          <a:stretch/>
        </p:blipFill>
        <p:spPr>
          <a:xfrm>
            <a:off x="1042920" y="3649680"/>
            <a:ext cx="3241800" cy="244332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71" name="Рисунок 2" descr=""/>
          <p:cNvPicPr/>
          <p:nvPr/>
        </p:nvPicPr>
        <p:blipFill>
          <a:blip r:embed="rId4"/>
          <a:srcRect l="0" t="0" r="0" b="2321"/>
          <a:stretch/>
        </p:blipFill>
        <p:spPr>
          <a:xfrm>
            <a:off x="4898880" y="3606840"/>
            <a:ext cx="3125880" cy="248616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Пользователь Windows</cp:lastModifiedBy>
  <dcterms:modified xsi:type="dcterms:W3CDTF">2020-07-26T03:30:03Z</dcterms:modified>
  <cp:revision>46</cp:revision>
  <dc:subject/>
  <dc:title>Презентация PowerPoint</dc:title>
</cp:coreProperties>
</file>