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179-B542-47FD-968F-585A3CEE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B55-E02E-4523-8D81-FDA2F8A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DF56-0F07-45B6-A0D1-FB22CF5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36C57-74E3-4AB1-8020-411DF543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BF26-8B58-406D-9C1E-DC5899A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1EA32-00B8-497B-AC85-2A5980B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CDCE-45FB-48AF-98E7-4C152D9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6BEF-3E11-40E4-816A-0D562F8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3AE21-008B-4C74-B290-27AA47F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3CC0D-3CE9-4C16-B2CC-D9C3E9BF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6E68C-8159-4304-8F28-BC5CA4AB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D7570-B8B1-45F2-828A-4A953FF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395-7AA3-48D6-A52A-BE0DFD65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55FAD-A637-4FBE-A0C1-6D1BD5E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F426B-012D-4843-9F59-76D0ED8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60AB-47E7-48B1-A9B3-CE4DCB2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04D5-9025-4585-853E-1E8E5540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7D58E-163E-43D6-B2D8-58CEA58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494A2-A509-475C-B975-7506968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CC057-4063-427A-8622-391C62C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0A86B-447F-4C45-BE8F-D90385E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6AAF2-AED2-4E21-B935-23EB41B6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0AD90-4E49-4D5A-8493-DE657AE2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04-91A6-4DD0-B69D-8608A611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08B2C-5E9A-4FD2-B9BE-C72FAE18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B3CA-294A-40DD-96BE-D6F0A48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B81-7D43-47E0-A50A-F1344D5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0AF0-57BB-45D1-8BDF-5585D54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1E80-D3AA-4F3D-AAC5-BFB4533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27BF-5B7C-4AC8-83EF-90B62D5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128-A518-447B-8548-2D16DAF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44C1-C7CB-4D54-9A3F-038D47F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D05-5296-4B80-839C-7C388470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D7B0-00CB-4C86-B34C-F732925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7D58-46A5-4397-8383-FE9F671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14D9-F9CC-4255-8786-62F0BD0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8F4B-03DA-4F85-ACCB-D5F3B1D2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E4C7-57E5-49B1-B646-A04303EC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0DFD-6972-4717-9DBC-35F4ED7D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0C6D-7003-4F93-8B25-B42D5F00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EC2D-38E1-4ACE-A5C2-719920E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42DA-CCCD-4C3F-8EAC-3688C72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AF5C-75FD-4C95-99C6-BFD7323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5A8-E76E-4913-B186-C2D778D1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1BA1-9F33-495E-94D9-F4AE055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1CEC-6524-4BA5-B8BD-998BAE7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F7BD-1D8E-46DF-AB0A-CC5C4CB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91DA-3E1A-4DBD-B1B0-B48A211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5E1D-7674-4D14-A291-D8E5AE54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9960-60E9-461E-A05D-159D92EF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A281-625B-4ADB-A9EC-8B947B8A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10C6-44C5-4515-ADBF-D8C79D49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51F9-FDDE-4FC5-9EAD-59918A68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D8D4-52D7-4935-820E-B315CB4C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212-5CD7-46EF-A0FE-89405706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44C7-F934-421E-B129-6C433BA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ABDB-CF90-4364-A684-0156B5D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5FED-93F0-4137-9545-E529FC6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6CE8-BFBC-46C3-BA81-4A38B89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84E0-B702-46EB-8386-F78A8E0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0CEF-8686-4CBF-A31B-A362F4A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2999-1924-4F7C-A0CA-E6298DC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F5F4-4374-486A-8278-9F6BEA55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59AF-9EE7-4687-A268-C20C2A10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4367-961C-423D-97FA-96A43369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487-7A9A-4D79-9167-70C7D74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3807-CD4A-464E-A4BF-0F92C27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AFE3-C088-4DE4-9039-B221017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E4F9-224D-4633-9776-7C2064A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7FED-5302-4A73-B379-0922005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2578-B11A-4E3D-9EC8-53C5BDB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4BB5-474F-4755-BFF4-638734B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FB13-A15C-4E22-9887-3AD0E6D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5799-205F-47EE-B269-E132A5E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0887-2D7B-4822-9DA6-D9AFD73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7FCD-0151-4DFF-AC7F-B2FC280B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471-79A4-4055-8BCE-248CB3B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4A78-F94F-444E-A62B-C9287356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98F4D-8E94-46C3-8B1B-4E05395C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A135-A1D5-472E-9776-4153414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900D-CA29-4635-81C4-6313A32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68EE-1696-4FED-9442-1E7E640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2F0E3-AB3F-4415-BD2C-F95EFC5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CD71E-6753-4B66-84CF-07DB75B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CC68-F054-4318-99A8-7B44A4C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3BB9-26BA-4EB5-B924-8B47D25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1D73-2AF6-40A0-830B-1EB658B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39F-BEB6-48E7-9116-6B4197C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D84C-A43E-4B57-B0A6-D5846CA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DC58-DB5D-4220-9886-1C30DBDD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0F33-E00F-4262-BD67-0968C636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89B5-1CB9-400B-9E9E-3EE662AF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2989B-B07E-45B1-B221-DBC3BBD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D19D-F79A-4637-B4CB-579275B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2CEE-13E1-4043-8D86-ADCE885B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5A3F-21CC-4072-B3F2-25B3A77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677F-B1C3-4D18-BCE4-F3325958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25A8-9C61-432F-B423-C9D2B84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99D-F04B-47BE-8AA1-50F9AAA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FA1C5-0BBD-4177-8216-81705319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9923-6536-468C-892D-A693ABB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5AEF-B7EB-40B2-9758-06E9AA0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96B5-022A-4E3F-A549-D226C45E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4B0A-4B33-48BF-88E8-DD9AC6E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B99B-8942-4B2A-A4DC-E864989A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4012-112E-4888-A769-0CFA0F4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09E7E-5816-4141-8A94-BC5DBB4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664D-C2BE-4059-815C-74513D28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6704-2096-4A5C-A4CE-949126F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D4E-D9CA-4171-A1D5-53ADBF1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B5F1-94D5-4C35-A40D-C3E80138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1F39-4EBF-42C8-BF54-109D35E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2C3C-9999-47E7-A269-713DDB2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FA30-DC75-4B3C-8A98-DAF4C32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429D-8A78-4C58-91A9-CCC7388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6BB1-C71F-48D5-9B3D-9109B902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D01CB-6861-4895-89FB-6FDDE7EE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D839-2960-45E6-8E93-44F47244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FD1E3-3CBE-4AAF-8222-4907703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2083-8FCA-4040-A7DA-E3992AC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6600"/>
                    </a:gs>
                    <a:gs pos="100000">
                      <a:srgbClr val="ff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569E-8074-4A7A-B550-72FBA6508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9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9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1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2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2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2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72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2C77-3F58-4F9D-ACC4-7E6DC6859A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BBC-28CA-4F14-8A45-2A4950D56D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2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416-42A2-4382-8C30-0F6A6470A1C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4BC-C03B-4037-B9FA-DF9D44118E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511D-C597-4E53-B940-103C76417F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8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8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8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8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5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66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5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9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9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9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9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50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50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0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5AEA-592E-4B40-8BF9-7ECC7EC3E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FC7-C82C-41BE-B4AD-C01A35B041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6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61A-E314-49FA-BAE2-77483AE5EF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A284-8711-4D5A-A0CD-A0E65FD2BA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22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 Black"/>
              </a:rPr>
              <a:t>Наши  земляки  -  творцы  Победы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клонимся  великим  тем  годам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ем  славным  командирам  и  бойцам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  маршалам  страны, и  рядовым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клонимся  и  мёртвым,  и  живым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сем  тем,  которых забывать  нельзя,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клонимся,  поклонимся,  друзья…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.Львов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3432240"/>
            <a:ext cx="822960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авинкин  Иван  Фёдорови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дился  в  1917 г.  В  Вознесенском  районе  Горьковской 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 начале  войны  призван  на  Прибалтийский  фронт. В  декабре  1944 г.  Был  тяжело  ранен  в  ногу  и  долго  лежал  в  госпитал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граждён  орденом  Красной  Звезды,  медалью  «За  победу  над  Германией в  Великой  Отечественной  войне 1941 -1945 г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ернулся  домой  в  1946 г. Работал  в  Солымском  ЛЗУ  кузнец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мер  в  1991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4" descr="DSC01198"/>
          <p:cNvPicPr/>
          <p:nvPr/>
        </p:nvPicPr>
        <p:blipFill>
          <a:blip r:embed="rId1"/>
          <a:stretch/>
        </p:blipFill>
        <p:spPr>
          <a:xfrm>
            <a:off x="3276720" y="260280"/>
            <a:ext cx="251928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                                   </a:t>
            </a: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Талашов  Иван  Петрович</a:t>
            </a:r>
            <a:br>
              <a:rPr sz="19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Родился  22 ноября  1921 г. в  деревне  Горинь  Оршанского  района  Витебской  области, Белоруссия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оенную  присягу  принял  19 мая  1942 г.,  направлен  командиром  разведки  215 –го отряда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аграждён  орденом  Красной  Звезды,  орденом  Отечественной  войны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2 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епени,  орденом  Славы 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3 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епени,  медалью  «За  Победу  над  Германией  в  Великой  Отечественной  войне 1941-1945 г.», три  благодарности  от  Верховного  Главнокомандующего И.В.Сталина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После  войны  проживал в п. Солым</a:t>
            </a: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,  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работал  в  школе  учителем</a:t>
            </a: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Умер  18  февраля  1981 г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94920" y="3573000"/>
            <a:ext cx="85899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DSC01201"/>
          <p:cNvPicPr/>
          <p:nvPr/>
        </p:nvPicPr>
        <p:blipFill>
          <a:blip r:embed="rId1"/>
          <a:stretch/>
        </p:blipFill>
        <p:spPr>
          <a:xfrm>
            <a:off x="3492360" y="26028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5"/>
          <p:cNvSpPr/>
          <p:nvPr/>
        </p:nvSpPr>
        <p:spPr>
          <a:xfrm>
            <a:off x="2103480" y="8571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Тишков  Михаил  Иванови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дился  в  деревне  Шоховка  Горецкого  района  Могилёвской  области,  Белоруссия. В  1930-е г.  приехал  вместе  с  родителями в п. Солы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 фронт  призвали  в  1942 г. Воевал  на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Украинском  фронте,  освобождал  столицу  Австрии  Вену,  город  Будапешт. Встретил  победу  в  Германии. После  войны  остался  в  части № 356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граждён  медалью  «За  взятие  Вены»,  имеет  благодарность  от  Верховного  Главнокомандующего  И.В.Сталин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емобилизовался  домой  в  1950 г. Воспитал  семерых  дет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мер  в  январе  1975 г.,  похоронен  в п. Солым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Picture 4" descr="DSC01203"/>
          <p:cNvPicPr/>
          <p:nvPr/>
        </p:nvPicPr>
        <p:blipFill>
          <a:blip r:embed="rId1"/>
          <a:stretch/>
        </p:blipFill>
        <p:spPr>
          <a:xfrm>
            <a:off x="3492360" y="260280"/>
            <a:ext cx="25196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7460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ерных  Степан  Матвеевич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одился  17  августа  в  селе  Валатово  Чернянского  района  Курской  област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ттуда  был  призван  на  войну  в  августе  1941 г. До  мая  1943 г  воевал  на  Белорусском фронте,  Украине,  Кавказе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граждён  орденом  Красной  Звезды,  медалями «За  оборону  Киева», «За  отвагу», юбилейными  медалям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оспитал  четверых  детей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мер 21  января  1991 г.,  похоронен в п. Солым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8" name="Picture 4" descr="DSC01205"/>
          <p:cNvPicPr/>
          <p:nvPr/>
        </p:nvPicPr>
        <p:blipFill>
          <a:blip r:embed="rId1"/>
          <a:stretch/>
        </p:blipFill>
        <p:spPr>
          <a:xfrm>
            <a:off x="2700360" y="18900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Не  только  за  свою  страну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олдаты  гибли  в  ту  войну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А  чтобы  люди  всей  Земл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покойно  ночью  спать  могл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просите  тех,  кто  воевал,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Кто  нас  на  Эльбе  обнимал –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Мы  этой  памяти  верны,  -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Хотят  ли  русские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Хотят  ли  русские,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Хотят  ли  русские  войны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Е.Евтушенко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0" name="Picture 4" descr="DSC01256"/>
          <p:cNvPicPr/>
          <p:nvPr/>
        </p:nvPicPr>
        <p:blipFill>
          <a:blip r:embed="rId1"/>
          <a:stretch/>
        </p:blipFill>
        <p:spPr>
          <a:xfrm>
            <a:off x="4788000" y="3068640"/>
            <a:ext cx="403200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 Black"/>
              </a:rPr>
              <a:t>Погибшие  в  годы  Великой  Отечественной  войны (1941 – 1945)</a:t>
            </a:r>
            <a:endParaRPr b="0" lang="en-US" sz="2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Black"/>
              </a:rPr>
              <a:t>Абрусевич  Николай  Константинович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 родился  в  1924г.  в п. Солым. Рядовой. В  марте  1943г. пропал  без  вести  под  Ленинградом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Black"/>
              </a:rPr>
              <a:t>Алебрусевич  Николай  Каменович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дился  в  1924г. в п. Солым. Призван  на  фронт из  села  Коса. Рядовой  миномётчик  184 – го  стрелкового  полка 56 – й стрелковой  дивизии. Пропал  без  вести  21 февраля 1945 г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Black"/>
              </a:rPr>
              <a:t>Гуцко  Григорий  Игнатьевич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дился  в 1925 г. в Белоруссии. В 1930 году был  выслан  вместе  с  родителями в п. Солым, где  закончил  школу. На  фронт  призвали  в  начале  войны. В 1942 г. пропал  без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ест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Black"/>
              </a:rPr>
              <a:t>Ероховец  Григорий  Тимофеевич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дился в 1924 г. Проживал  в п.Солым. Сержант,  командир  отделения 208-го  стрелкового  полка 69 - стрелковой  дивизии. Погиб  в  бою  2 сентября 1943 г. Похоронен  в  селе  Михайловка  Котелевского  района Полтавской  области,  Украин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Black"/>
              </a:rPr>
              <a:t>Ероховец  Николай  Трофимович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дился  в 1925 г. в деревне  Рассошка Смолявиченского  района,  Белоруссия. В 1930-е годы был  выслан  вместе  с  родителями в п. Солым. В 1942г. Николай  уезжает  в  Белоруссию,  там  уходит  в  партизанский  отряд. В 1943г. пропал  без  вести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Жердинский  Александр  Антоно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родился  в 1906г. жил  в п. Солым. Рядовой. Пропал  без  вести  в  1946г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Зайцев  Павел  Алексее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проживал  в п. Солым. Пропал  без  вести  в  декабре 1943 г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Королёв  Василий  Петро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житель  посёлка  Солым. Судьба  неизвестн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 </a:t>
            </a: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Малашонок  Александр Александро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родился  в  1909 г. проживал  в  п. Солым. Рядовой. Пропал  без  вести  в  марте  1944г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Малашонок  Александр Алексее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родился  в  1909 г. проживал  в  п. Солым. Пропал  без  вести  в  марте  1944г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Махарович  Виктор  Тихоно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родился  в  1918 г. проживал  в  п. Солым. Рядовой. Пропал  без  вести  в  марте  1943г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993366"/>
                </a:solidFill>
                <a:uFillTx/>
                <a:latin typeface="Arial Black"/>
              </a:rPr>
              <a:t>Талашов  Сергей  Петрович</a:t>
            </a:r>
            <a:r>
              <a:rPr b="1" lang="ru-RU" sz="1600" spc="-1" strike="noStrike">
                <a:solidFill>
                  <a:srgbClr val="993366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родился  в  1903 г. Ушёл  на  фронт  из  п. Солым. Рядовой, стрелок  557-го  стрелкового  полка  153–й стрелковой   дивизии. Погиб  в  бою  1 ноября  1944 г. Похоронен  в п.</a:t>
            </a:r>
            <a:r>
              <a:rPr b="0" lang="en-US" sz="1600" spc="-1" strike="noStrike">
                <a:solidFill>
                  <a:srgbClr val="993366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Августов </a:t>
            </a:r>
            <a:r>
              <a:rPr b="0" lang="en-US" sz="1600" spc="-1" strike="noStrike">
                <a:solidFill>
                  <a:srgbClr val="993366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993366"/>
                </a:solidFill>
                <a:latin typeface="Arial Black"/>
              </a:rPr>
              <a:t>Белостокского  воеводства,  Польша.</a:t>
            </a:r>
            <a:endParaRPr b="0" lang="en-US" sz="1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659736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 Black"/>
              </a:rPr>
              <a:t>Вернувшиеся  с  Великой  Отечественной  войны 1941 – 1945 гг.</a:t>
            </a:r>
            <a:endParaRPr b="0" lang="en-US" sz="2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2400120"/>
            <a:ext cx="777240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снул  солдат  под  обелиском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В  своём  последнем  блиндаже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А  сколько  рядом  их  со  мною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Таких  родных,  живых  солдат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Виски  окрашены  войною,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  полный  перечень наград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  ваше  мужество в  бою,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  вашу  боль,  за  ваши  раны,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  жизнь  счастливую  мою –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емной  поклон  Вам,  ветераны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А.Фролов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учков  Николай  Иванович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одился  в  1925г. В  деревне  Ворцева  Чердынского  района  Пермской  област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изван  на  фронт  22 января 1942 г. До  августа  1942 г.  воевал  под  Сталинградом стрелком. Был  ранен,  полтора  года  лежал  в  госпитале  № 1730  в  Челябинской  област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граждён  медалью  «За  отвагу» и  другими  юбилейными  медалям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мер  в  1983 г.,  похоронен  в п. Солым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4" name="Picture 4" descr="DSC01190"/>
          <p:cNvPicPr/>
          <p:nvPr/>
        </p:nvPicPr>
        <p:blipFill>
          <a:blip r:embed="rId1"/>
          <a:stretch/>
        </p:blipFill>
        <p:spPr>
          <a:xfrm>
            <a:off x="3419640" y="404640"/>
            <a:ext cx="23763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66280" y="3543120"/>
            <a:ext cx="80010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Макаренко  Павел  Васильеви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дился  в  1916 г.  На  Белорусском  хуторе  Варовка. В  1930 г.  Был  сослан  с  родителями  в  п.  Одань, Косинского  район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  начала  войны  призван  на  фронт. С  1942 г. воевал  на  Горлинском  направлении. В  начале  1943 г. был  комиссован по  ранению  и  направлен  домой. Будучи  без  руки,  работал  в Солымском  лесозаготовительном  участке,  воспитал  пятерых  детей. Умер  15  марта  1995 г., похоронен  в  п. Солым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Picture 4" descr="DSC01191"/>
          <p:cNvPicPr/>
          <p:nvPr/>
        </p:nvPicPr>
        <p:blipFill>
          <a:blip r:embed="rId1"/>
          <a:stretch/>
        </p:blipFill>
        <p:spPr>
          <a:xfrm>
            <a:off x="3189240" y="333360"/>
            <a:ext cx="23065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2016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700360" y="476280"/>
            <a:ext cx="5997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Останин  Василий  Дмитриеви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 в  1926 г.  в  деревне  Маскали  Порошевского  сельсовета. В  17  лет  был  направлен  на  фронт.  Воевал  в  белорусских  городах Барановичи,  Лида,  в  городе  Волховск  Восточной  Пруссии. Подрывал  немцев  на  Висленском  плацдарме  в  1944 г. Дошёл  до  реки  Одер,  что  в  Германии. В  1945 г. дважды  ранен:  в  позвоночник  и  в  голову. 25  апреля  пошли  на  Берлин,  7  мая – на  Прагу  через  горы  Судеты,  освобождая  курортные  места,  а  8  мая – Прагу.  В  День  Победы  9  мая 1945  года  был  на  параде,  а  25  июня  их  перебросили  в  Венгрию,  а  потом  в  Австрию,  уничтожать  фашистские  группиров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 1950 г.  вернулся  домой. В  мирное  врем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ногократно  участвовал  на военном   параде  в  Моск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ле  войны  работал  в  Солымском  лесничестве. Воспитал  троих  дет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DSC01193"/>
          <p:cNvPicPr/>
          <p:nvPr/>
        </p:nvPicPr>
        <p:blipFill>
          <a:blip r:embed="rId1"/>
          <a:stretch/>
        </p:blipFill>
        <p:spPr>
          <a:xfrm>
            <a:off x="468360" y="333360"/>
            <a:ext cx="2016000" cy="273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744120" y="561240"/>
            <a:ext cx="7655760" cy="394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Малашонок  Семён  Андреевич</a:t>
            </a: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Родился  в  1917 г. в  Витебской  области, в  Белоруссии. В  1930-е  г.  Вместе  с  родителями  был  сослан  в  посёлок  Солым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В  1942 г.  был  призван  на  фронт. За  освобождение  Праги,  Берлина  имеет  благодарности  от  Верховного  Главнокомандующего И.В.Сталина. За  участие  в  геройском  штурме  и  осовобождение  Праги  награждён  медалью «За  освобождение  Праги»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Умер  в  1979 г,  похоронен  в п. Солым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5949720"/>
            <a:ext cx="76932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66280" y="3273120"/>
            <a:ext cx="80010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ёмин  Иван  Илларионови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дился  18  июня  1910  г. в  селе  Теньки  Теньковского  района  Татарской  АССР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 июле  1941 г.  мобилизован  на  Ленинградский  фронт  в  228-ю  дивизию  стрелком. Защищая  Ладожское  озеро,  получил  тяжёлое  ранение  и  был  госпитализирован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  состоянию здоровья  был  отправлен  домо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граждён  орденом  «За  храбрость,  стойкость  и  мужество,  проявленные  в  борьбе  с  немецко – фашистскими  захватчиками  1941 – 1945 г.», медалью  Жукова,  а  также  юбилейными  меда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мер  28  марта  1998г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5" name="Picture 4" descr="DSC01197"/>
          <p:cNvPicPr/>
          <p:nvPr/>
        </p:nvPicPr>
        <p:blipFill>
          <a:blip r:embed="rId1"/>
          <a:stretch/>
        </p:blipFill>
        <p:spPr>
          <a:xfrm>
            <a:off x="3419640" y="115920"/>
            <a:ext cx="24476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5:05:09Z</dcterms:created>
  <dc:creator>Admin</dc:creator>
  <dc:description/>
  <dc:language>en-US</dc:language>
  <cp:lastModifiedBy>Светлана Гордеева</cp:lastModifiedBy>
  <dcterms:modified xsi:type="dcterms:W3CDTF">2020-07-26T10:41:04Z</dcterms:modified>
  <cp:revision>16</cp:revision>
  <dc:subject/>
  <dc:title>Слайд 1</dc:title>
</cp:coreProperties>
</file>