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662-B5B1-4093-8D5E-5C5C562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917-B2CF-4B09-AD1C-AFCEDD6A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FA6-5E0F-4DCF-A5E5-9F6B7212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CE5-20D2-4DFE-B0D7-57F9D379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ED8-85B5-438D-83BB-587EA4A2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A1A-F630-4480-8354-AFDA3CC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351-E204-48F5-978B-B7BBA25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9B1-2762-4EAE-90D3-2F99523A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AAC-006A-4B3F-B5E4-F780D4E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3FC-EF88-4CFD-8A26-47FA23B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38F-603A-4161-991E-6FD78262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7D7-0121-459F-9963-FF8DF1E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F48-8B3D-4065-AFCE-336819EFD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20190213_142647.jpg"/>
          <p:cNvPicPr/>
          <p:nvPr/>
        </p:nvPicPr>
        <p:blipFill>
          <a:blip r:embed="rId2"/>
          <a:stretch/>
        </p:blipFill>
        <p:spPr>
          <a:xfrm>
            <a:off x="2050920" y="159228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Крестики-ноли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 на развитие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Monotype Corsiva"/>
              </a:rPr>
              <a:t>Цель и задачи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Тренировка логического мышления, творческого воображения, внимания,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Развитие навыков общения, формирование навыков сотрудничества со сверст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нятие эмоционального напря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20190213_142615.jpg"/>
          <p:cNvPicPr/>
          <p:nvPr/>
        </p:nvPicPr>
        <p:blipFill>
          <a:blip r:embed="rId2"/>
          <a:stretch/>
        </p:blipFill>
        <p:spPr>
          <a:xfrm>
            <a:off x="3564000" y="0"/>
            <a:ext cx="5111640" cy="177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34653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ют два иг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ждый по очереди выкладывают камни на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 продолжается до тех пор, пока камни одного цвета не выстроятся в ряд по диагонали, по вертикали либо по горизонт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20190213_142621.jpg"/>
          <p:cNvPicPr/>
          <p:nvPr/>
        </p:nvPicPr>
        <p:blipFill>
          <a:blip r:embed="rId3"/>
          <a:stretch/>
        </p:blipFill>
        <p:spPr>
          <a:xfrm>
            <a:off x="3564000" y="1773360"/>
            <a:ext cx="5111640" cy="1784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20190213_142642.jpg"/>
          <p:cNvPicPr/>
          <p:nvPr/>
        </p:nvPicPr>
        <p:blipFill>
          <a:blip r:embed="rId4"/>
          <a:stretch/>
        </p:blipFill>
        <p:spPr>
          <a:xfrm>
            <a:off x="3564000" y="3429000"/>
            <a:ext cx="511164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20190213_142647.jpg"/>
          <p:cNvPicPr/>
          <p:nvPr/>
        </p:nvPicPr>
        <p:blipFill>
          <a:blip r:embed="rId5"/>
          <a:stretch/>
        </p:blipFill>
        <p:spPr>
          <a:xfrm>
            <a:off x="3564000" y="5145120"/>
            <a:ext cx="5111640" cy="171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Для создания игры были использованные следующие 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46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Акриловые краски, ки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1920" y="1773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10" descr="20190322_103140.jpg"/>
          <p:cNvPicPr/>
          <p:nvPr/>
        </p:nvPicPr>
        <p:blipFill>
          <a:blip r:embed="rId2"/>
          <a:stretch/>
        </p:blipFill>
        <p:spPr>
          <a:xfrm>
            <a:off x="2556000" y="2349360"/>
            <a:ext cx="2160360" cy="40323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2" descr="20190322_103227.jpg"/>
          <p:cNvPicPr/>
          <p:nvPr/>
        </p:nvPicPr>
        <p:blipFill>
          <a:blip r:embed="rId3"/>
          <a:stretch/>
        </p:blipFill>
        <p:spPr>
          <a:xfrm>
            <a:off x="5508720" y="2349360"/>
            <a:ext cx="3024000" cy="395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20190322_103051.jpg"/>
          <p:cNvPicPr/>
          <p:nvPr/>
        </p:nvPicPr>
        <p:blipFill>
          <a:blip r:embed="rId4"/>
          <a:stretch/>
        </p:blipFill>
        <p:spPr>
          <a:xfrm>
            <a:off x="395280" y="2349360"/>
            <a:ext cx="2016000" cy="40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20190213_142417.jpg"/>
          <p:cNvPicPr/>
          <p:nvPr/>
        </p:nvPicPr>
        <p:blipFill>
          <a:blip r:embed="rId2"/>
          <a:stretch/>
        </p:blipFill>
        <p:spPr>
          <a:xfrm>
            <a:off x="1116000" y="1341360"/>
            <a:ext cx="319248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20190213_142421.jpg"/>
          <p:cNvPicPr/>
          <p:nvPr/>
        </p:nvPicPr>
        <p:blipFill>
          <a:blip r:embed="rId3"/>
          <a:stretch/>
        </p:blipFill>
        <p:spPr>
          <a:xfrm>
            <a:off x="4716360" y="134136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20190213_142401.jpg"/>
          <p:cNvPicPr/>
          <p:nvPr/>
        </p:nvPicPr>
        <p:blipFill>
          <a:blip r:embed="rId4"/>
          <a:stretch/>
        </p:blipFill>
        <p:spPr>
          <a:xfrm>
            <a:off x="1763640" y="4005360"/>
            <a:ext cx="5688000" cy="2576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ластик и самоклеющая пл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к создавалась эта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Набрала камн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омы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иготовила к покрас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окрасила первый слой белой крас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осуш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одготовила к следующему этапу покра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7" descr="20190322_103235.jpg"/>
          <p:cNvPicPr/>
          <p:nvPr/>
        </p:nvPicPr>
        <p:blipFill>
          <a:blip r:embed="rId2"/>
          <a:stretch/>
        </p:blipFill>
        <p:spPr>
          <a:xfrm>
            <a:off x="4788000" y="4005360"/>
            <a:ext cx="374472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20190322_103227.jpg"/>
          <p:cNvPicPr/>
          <p:nvPr/>
        </p:nvPicPr>
        <p:blipFill>
          <a:blip r:embed="rId3"/>
          <a:stretch/>
        </p:blipFill>
        <p:spPr>
          <a:xfrm>
            <a:off x="4788000" y="1628640"/>
            <a:ext cx="370512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20190213_142450.jpg"/>
          <p:cNvPicPr/>
          <p:nvPr/>
        </p:nvPicPr>
        <p:blipFill>
          <a:blip r:embed="rId2"/>
          <a:stretch/>
        </p:blipFill>
        <p:spPr>
          <a:xfrm>
            <a:off x="3708360" y="189000"/>
            <a:ext cx="511164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3008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Разделила камни на две ча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Одну часть (крестики) раскрасила красным цвет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Другую часть (нолики)  желтым цвет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Брюшко у жучков можно сделать коричнев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Камни хорошо просуши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8" descr="20190213_142540.jpg"/>
          <p:cNvPicPr/>
          <p:nvPr/>
        </p:nvPicPr>
        <p:blipFill>
          <a:blip r:embed="rId3"/>
          <a:stretch/>
        </p:blipFill>
        <p:spPr>
          <a:xfrm>
            <a:off x="3708360" y="2133720"/>
            <a:ext cx="511164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20190213_142605.jpg"/>
          <p:cNvPicPr/>
          <p:nvPr/>
        </p:nvPicPr>
        <p:blipFill>
          <a:blip r:embed="rId4"/>
          <a:stretch/>
        </p:blipFill>
        <p:spPr>
          <a:xfrm>
            <a:off x="3708360" y="4292640"/>
            <a:ext cx="5111640" cy="20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10" descr="20190213_142417.jpg"/>
          <p:cNvPicPr/>
          <p:nvPr/>
        </p:nvPicPr>
        <p:blipFill>
          <a:blip r:embed="rId2"/>
          <a:stretch/>
        </p:blipFill>
        <p:spPr>
          <a:xfrm>
            <a:off x="3635280" y="404640"/>
            <a:ext cx="5112000" cy="2808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3008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з пластика сделала поле для игры ( 30х3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На поле наклеила самоклеещую пл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Разделила на девять ча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20190213_142401.jpg"/>
          <p:cNvPicPr/>
          <p:nvPr/>
        </p:nvPicPr>
        <p:blipFill>
          <a:blip r:embed="rId3"/>
          <a:stretch/>
        </p:blipFill>
        <p:spPr>
          <a:xfrm>
            <a:off x="3635280" y="3429000"/>
            <a:ext cx="51134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Mongolian Baiti"/>
              </a:rPr>
              <a:t>«Крестики-нолики» -это очень древняя и интересная игра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  <a:ea typeface="Mongolian Bait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844280"/>
            <a:ext cx="8207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0000"/>
                </a:solidFill>
                <a:latin typeface="Monotype Corsiva"/>
              </a:rPr>
              <a:t>Главное в этой игре – не торопиться и внимательно смотреть за ходами соперников. Поставить в один ряд три крестика или нолика и не дать своему сопернику сделать то же самое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30T13:55:21Z</dcterms:created>
  <dc:creator>PC</dc:creator>
  <dc:description/>
  <dc:language>en-US</dc:language>
  <cp:lastModifiedBy>PC</cp:lastModifiedBy>
  <dcterms:modified xsi:type="dcterms:W3CDTF">2019-10-09T14:07:04Z</dcterms:modified>
  <cp:revision>31</cp:revision>
  <dc:subject/>
  <dc:title>«Крестики-нолики»</dc:title>
</cp:coreProperties>
</file>