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B29-D3FA-4F80-954A-FEC51E924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87FC-507C-4797-894C-1342BF58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3AE-CA2E-41F7-9954-7753CC8F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626-4996-452D-ACA7-75C85D015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AAF-901E-4680-953F-1055D683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B6D-8257-49CE-AD1F-D13928A2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76B-1DC3-40B1-B05B-9C76E0BF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C471-ADB0-4F06-8AA8-4D95EDA2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D80-C324-4261-A053-C2CD5FFF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430-D8C6-44A9-8E32-7A2B97E3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1B9-F97B-4036-9C54-6DCC3525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E41-AE57-4EBC-B7BF-5845C2CA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918-A440-44C2-A61D-1F5B514BF8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20190213_142647.jpg"/>
          <p:cNvPicPr/>
          <p:nvPr/>
        </p:nvPicPr>
        <p:blipFill>
          <a:blip r:embed="rId2"/>
          <a:stretch/>
        </p:blipFill>
        <p:spPr>
          <a:xfrm>
            <a:off x="2050920" y="1592280"/>
            <a:ext cx="4969080" cy="3727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«Крестики-ноли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 на развитие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0000"/>
                </a:solidFill>
                <a:latin typeface="Monotype Corsiva"/>
              </a:rPr>
              <a:t>Цель и задачи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Тренировка логического мышления, творческого воображения, внимания, памя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азвитие навыков общения, формирование навыков сотрудничества со сверст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Снятие эмоционального напря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4" descr="20190213_142615.jpg"/>
          <p:cNvPicPr/>
          <p:nvPr/>
        </p:nvPicPr>
        <p:blipFill>
          <a:blip r:embed="rId2"/>
          <a:stretch/>
        </p:blipFill>
        <p:spPr>
          <a:xfrm>
            <a:off x="3564000" y="0"/>
            <a:ext cx="5111640" cy="1773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434960"/>
            <a:ext cx="346536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ют два игро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ждый по очереди выкладывают камни на п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гра продолжается до тех пор, пока камни одного цвета не выстроятся в ряд по диагонали, по вертикали либо по горизонт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5" descr="20190213_142621.jpg"/>
          <p:cNvPicPr/>
          <p:nvPr/>
        </p:nvPicPr>
        <p:blipFill>
          <a:blip r:embed="rId3"/>
          <a:stretch/>
        </p:blipFill>
        <p:spPr>
          <a:xfrm>
            <a:off x="3564000" y="1773360"/>
            <a:ext cx="5111640" cy="17841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20190213_142642.jpg"/>
          <p:cNvPicPr/>
          <p:nvPr/>
        </p:nvPicPr>
        <p:blipFill>
          <a:blip r:embed="rId4"/>
          <a:stretch/>
        </p:blipFill>
        <p:spPr>
          <a:xfrm>
            <a:off x="3564000" y="3429000"/>
            <a:ext cx="5111640" cy="1928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20190213_142647.jpg"/>
          <p:cNvPicPr/>
          <p:nvPr/>
        </p:nvPicPr>
        <p:blipFill>
          <a:blip r:embed="rId5"/>
          <a:stretch/>
        </p:blipFill>
        <p:spPr>
          <a:xfrm>
            <a:off x="3564000" y="5145120"/>
            <a:ext cx="5111640" cy="171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Для создания игры были использованные следующие материал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46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Акриловые краски, ки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1920" y="1773360"/>
            <a:ext cx="4041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кам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10" descr="20190322_103140.jpg"/>
          <p:cNvPicPr/>
          <p:nvPr/>
        </p:nvPicPr>
        <p:blipFill>
          <a:blip r:embed="rId2"/>
          <a:stretch/>
        </p:blipFill>
        <p:spPr>
          <a:xfrm>
            <a:off x="2556000" y="2349360"/>
            <a:ext cx="2160360" cy="403236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12" descr="20190322_103227.jpg"/>
          <p:cNvPicPr/>
          <p:nvPr/>
        </p:nvPicPr>
        <p:blipFill>
          <a:blip r:embed="rId3"/>
          <a:stretch/>
        </p:blipFill>
        <p:spPr>
          <a:xfrm>
            <a:off x="5508720" y="2349360"/>
            <a:ext cx="3024000" cy="3959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3" descr="20190322_103051.jpg"/>
          <p:cNvPicPr/>
          <p:nvPr/>
        </p:nvPicPr>
        <p:blipFill>
          <a:blip r:embed="rId4"/>
          <a:stretch/>
        </p:blipFill>
        <p:spPr>
          <a:xfrm>
            <a:off x="395280" y="2349360"/>
            <a:ext cx="2016000" cy="40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20190213_142417.jpg"/>
          <p:cNvPicPr/>
          <p:nvPr/>
        </p:nvPicPr>
        <p:blipFill>
          <a:blip r:embed="rId2"/>
          <a:stretch/>
        </p:blipFill>
        <p:spPr>
          <a:xfrm>
            <a:off x="1116000" y="1341360"/>
            <a:ext cx="319248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20190213_142421.jpg"/>
          <p:cNvPicPr/>
          <p:nvPr/>
        </p:nvPicPr>
        <p:blipFill>
          <a:blip r:embed="rId3"/>
          <a:stretch/>
        </p:blipFill>
        <p:spPr>
          <a:xfrm>
            <a:off x="4716360" y="1341360"/>
            <a:ext cx="338472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20190213_142401.jpg"/>
          <p:cNvPicPr/>
          <p:nvPr/>
        </p:nvPicPr>
        <p:blipFill>
          <a:blip r:embed="rId4"/>
          <a:stretch/>
        </p:blipFill>
        <p:spPr>
          <a:xfrm>
            <a:off x="1763640" y="4005360"/>
            <a:ext cx="5688000" cy="2576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ластик и самоклеющая пл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ак создавалась эта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Набрала камни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омы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иготовила к покра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окрасила первый слой белой крас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росуш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Подготовила к следующему этапу покра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7" descr="20190322_103235.jpg"/>
          <p:cNvPicPr/>
          <p:nvPr/>
        </p:nvPicPr>
        <p:blipFill>
          <a:blip r:embed="rId2"/>
          <a:stretch/>
        </p:blipFill>
        <p:spPr>
          <a:xfrm>
            <a:off x="4788000" y="4005360"/>
            <a:ext cx="3744720" cy="2087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20190322_103227.jpg"/>
          <p:cNvPicPr/>
          <p:nvPr/>
        </p:nvPicPr>
        <p:blipFill>
          <a:blip r:embed="rId3"/>
          <a:stretch/>
        </p:blipFill>
        <p:spPr>
          <a:xfrm>
            <a:off x="4788000" y="1628640"/>
            <a:ext cx="3705120" cy="208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7" descr="20190213_142450.jpg"/>
          <p:cNvPicPr/>
          <p:nvPr/>
        </p:nvPicPr>
        <p:blipFill>
          <a:blip r:embed="rId2"/>
          <a:stretch/>
        </p:blipFill>
        <p:spPr>
          <a:xfrm>
            <a:off x="3708360" y="189000"/>
            <a:ext cx="5111640" cy="2016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3008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Разделила камни на две ча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Одну часть (крестики) раскрасила красным цвет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Другую часть (нолики)  желтым цвет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Брюшко у жучков можно сделать коричневы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Monotype Corsiva"/>
              </a:rPr>
              <a:t>Камни хорошо просушил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8" descr="20190213_142540.jpg"/>
          <p:cNvPicPr/>
          <p:nvPr/>
        </p:nvPicPr>
        <p:blipFill>
          <a:blip r:embed="rId3"/>
          <a:stretch/>
        </p:blipFill>
        <p:spPr>
          <a:xfrm>
            <a:off x="3708360" y="2133720"/>
            <a:ext cx="5111640" cy="2303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9" descr="20190213_142605.jpg"/>
          <p:cNvPicPr/>
          <p:nvPr/>
        </p:nvPicPr>
        <p:blipFill>
          <a:blip r:embed="rId4"/>
          <a:stretch/>
        </p:blipFill>
        <p:spPr>
          <a:xfrm>
            <a:off x="3708360" y="4292640"/>
            <a:ext cx="5111640" cy="208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10" descr="20190213_142417.jpg"/>
          <p:cNvPicPr/>
          <p:nvPr/>
        </p:nvPicPr>
        <p:blipFill>
          <a:blip r:embed="rId2"/>
          <a:stretch/>
        </p:blipFill>
        <p:spPr>
          <a:xfrm>
            <a:off x="3635280" y="404640"/>
            <a:ext cx="5112000" cy="2808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3008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Из пластика сделала поле для игры ( 30х3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На поле наклеила самоклеещую плен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Monotype Corsiva"/>
              </a:rPr>
              <a:t>Разделила на девять част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11" descr="20190213_142401.jpg"/>
          <p:cNvPicPr/>
          <p:nvPr/>
        </p:nvPicPr>
        <p:blipFill>
          <a:blip r:embed="rId3"/>
          <a:stretch/>
        </p:blipFill>
        <p:spPr>
          <a:xfrm>
            <a:off x="3635280" y="3429000"/>
            <a:ext cx="51134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oboi.ws/filters/vibrance_24_11722_oboi_svetlo-golubye_volny_1400x1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Mongolian Baiti"/>
              </a:rPr>
              <a:t>«Крестики-нолики» -это очень древняя и интересная игра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  <a:ea typeface="Mongolian Bait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360" y="1844280"/>
            <a:ext cx="8207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Monotype Corsiva"/>
              </a:rPr>
              <a:t>Главное в этой игре – не торопиться и внимательно смотреть за ходами соперников. Поставить в один ряд три крестика или нолика и не дать своему сопернику сделать то же самое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30T13:55:21Z</dcterms:created>
  <dc:creator>PC</dc:creator>
  <dc:description/>
  <dc:language>en-US</dc:language>
  <cp:lastModifiedBy>PC</cp:lastModifiedBy>
  <dcterms:modified xsi:type="dcterms:W3CDTF">2019-10-09T14:07:04Z</dcterms:modified>
  <cp:revision>31</cp:revision>
  <dc:subject/>
  <dc:title>«Крестики-нолики»</dc:title>
</cp:coreProperties>
</file>