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5CF-63EF-40F1-94B2-4A895DA6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EAA-90A2-4CE8-B65F-F146B224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4BC-EE43-4555-995C-E5EE8D74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2BA-C647-4B3E-BF5D-D01022E3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FF2-87AC-4BE6-924A-C70D429F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F7A-EA39-4B9C-8FA0-C4C29848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0A2-AF4B-4AC0-9A3E-4BDB04D1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6CC-ABED-4E19-A90B-EB9B9518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8F1-B534-4C44-B89E-79460996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6B2-459E-45B5-9EA4-F7C1689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BF3-6A81-4C6F-89CA-F280EA62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276-2BCD-4087-BF40-37377ACA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BC7F-611F-4FF6-89F1-8804A1756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20190213_142647.jpg"/>
          <p:cNvPicPr/>
          <p:nvPr/>
        </p:nvPicPr>
        <p:blipFill>
          <a:blip r:embed="rId2"/>
          <a:stretch/>
        </p:blipFill>
        <p:spPr>
          <a:xfrm>
            <a:off x="2050920" y="1592280"/>
            <a:ext cx="4969080" cy="3727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Крестики-ноли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66064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гра на развитие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Monotype Corsiva"/>
              </a:rPr>
              <a:t>Цель и задачи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Тренировка логического мышления, творческого воображения, внимания,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Развитие навыков общения, формирование навыков сотрудничества со сверст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нятие эмоционального напря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20190213_142615.jpg"/>
          <p:cNvPicPr/>
          <p:nvPr/>
        </p:nvPicPr>
        <p:blipFill>
          <a:blip r:embed="rId2"/>
          <a:stretch/>
        </p:blipFill>
        <p:spPr>
          <a:xfrm>
            <a:off x="3564000" y="0"/>
            <a:ext cx="5111640" cy="177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34960"/>
            <a:ext cx="346536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грают два иг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ждый по очереди выкладывают камни на п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гра продолжается до тех пор, пока камни одного цвета не выстроятся в ряд по диагонали, по вертикали либо по горизонт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20190213_142621.jpg"/>
          <p:cNvPicPr/>
          <p:nvPr/>
        </p:nvPicPr>
        <p:blipFill>
          <a:blip r:embed="rId3"/>
          <a:stretch/>
        </p:blipFill>
        <p:spPr>
          <a:xfrm>
            <a:off x="3564000" y="1773360"/>
            <a:ext cx="5111640" cy="1784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20190213_142642.jpg"/>
          <p:cNvPicPr/>
          <p:nvPr/>
        </p:nvPicPr>
        <p:blipFill>
          <a:blip r:embed="rId4"/>
          <a:stretch/>
        </p:blipFill>
        <p:spPr>
          <a:xfrm>
            <a:off x="3564000" y="3429000"/>
            <a:ext cx="511164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20190213_142647.jpg"/>
          <p:cNvPicPr/>
          <p:nvPr/>
        </p:nvPicPr>
        <p:blipFill>
          <a:blip r:embed="rId5"/>
          <a:stretch/>
        </p:blipFill>
        <p:spPr>
          <a:xfrm>
            <a:off x="3564000" y="5145120"/>
            <a:ext cx="5111640" cy="171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Для создания игры были использованные следующие матери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465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Акриловые краски, ки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1920" y="1773360"/>
            <a:ext cx="4041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м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10" descr="20190322_103140.jpg"/>
          <p:cNvPicPr/>
          <p:nvPr/>
        </p:nvPicPr>
        <p:blipFill>
          <a:blip r:embed="rId2"/>
          <a:stretch/>
        </p:blipFill>
        <p:spPr>
          <a:xfrm>
            <a:off x="2556000" y="2349360"/>
            <a:ext cx="2160360" cy="403236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2" descr="20190322_103227.jpg"/>
          <p:cNvPicPr/>
          <p:nvPr/>
        </p:nvPicPr>
        <p:blipFill>
          <a:blip r:embed="rId3"/>
          <a:stretch/>
        </p:blipFill>
        <p:spPr>
          <a:xfrm>
            <a:off x="5508720" y="2349360"/>
            <a:ext cx="3024000" cy="3959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20190322_103051.jpg"/>
          <p:cNvPicPr/>
          <p:nvPr/>
        </p:nvPicPr>
        <p:blipFill>
          <a:blip r:embed="rId4"/>
          <a:stretch/>
        </p:blipFill>
        <p:spPr>
          <a:xfrm>
            <a:off x="395280" y="2349360"/>
            <a:ext cx="2016000" cy="40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20190213_142417.jpg"/>
          <p:cNvPicPr/>
          <p:nvPr/>
        </p:nvPicPr>
        <p:blipFill>
          <a:blip r:embed="rId2"/>
          <a:stretch/>
        </p:blipFill>
        <p:spPr>
          <a:xfrm>
            <a:off x="1116000" y="1341360"/>
            <a:ext cx="319248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20190213_142421.jpg"/>
          <p:cNvPicPr/>
          <p:nvPr/>
        </p:nvPicPr>
        <p:blipFill>
          <a:blip r:embed="rId3"/>
          <a:stretch/>
        </p:blipFill>
        <p:spPr>
          <a:xfrm>
            <a:off x="4716360" y="1341360"/>
            <a:ext cx="338472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20190213_142401.jpg"/>
          <p:cNvPicPr/>
          <p:nvPr/>
        </p:nvPicPr>
        <p:blipFill>
          <a:blip r:embed="rId4"/>
          <a:stretch/>
        </p:blipFill>
        <p:spPr>
          <a:xfrm>
            <a:off x="1763640" y="4005360"/>
            <a:ext cx="5688000" cy="2576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ластик и самоклеющая пл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к создавалась эта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Набрала камн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ромы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риготовила к покрас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окрасила первый слой белой крас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росуш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одготовила к следующему этапу покра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7" descr="20190322_103235.jpg"/>
          <p:cNvPicPr/>
          <p:nvPr/>
        </p:nvPicPr>
        <p:blipFill>
          <a:blip r:embed="rId2"/>
          <a:stretch/>
        </p:blipFill>
        <p:spPr>
          <a:xfrm>
            <a:off x="4788000" y="4005360"/>
            <a:ext cx="374472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20190322_103227.jpg"/>
          <p:cNvPicPr/>
          <p:nvPr/>
        </p:nvPicPr>
        <p:blipFill>
          <a:blip r:embed="rId3"/>
          <a:stretch/>
        </p:blipFill>
        <p:spPr>
          <a:xfrm>
            <a:off x="4788000" y="1628640"/>
            <a:ext cx="3705120" cy="20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20190213_142450.jpg"/>
          <p:cNvPicPr/>
          <p:nvPr/>
        </p:nvPicPr>
        <p:blipFill>
          <a:blip r:embed="rId2"/>
          <a:stretch/>
        </p:blipFill>
        <p:spPr>
          <a:xfrm>
            <a:off x="3708360" y="189000"/>
            <a:ext cx="511164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3008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Разделила камни на две ча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Одну часть (крестики) раскрасила красным цвет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Другую часть (нолики)  желтым цвет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Брюшко у жучков можно сделать коричнев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Камни хорошо просуши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8" descr="20190213_142540.jpg"/>
          <p:cNvPicPr/>
          <p:nvPr/>
        </p:nvPicPr>
        <p:blipFill>
          <a:blip r:embed="rId3"/>
          <a:stretch/>
        </p:blipFill>
        <p:spPr>
          <a:xfrm>
            <a:off x="3708360" y="2133720"/>
            <a:ext cx="511164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20190213_142605.jpg"/>
          <p:cNvPicPr/>
          <p:nvPr/>
        </p:nvPicPr>
        <p:blipFill>
          <a:blip r:embed="rId4"/>
          <a:stretch/>
        </p:blipFill>
        <p:spPr>
          <a:xfrm>
            <a:off x="3708360" y="4292640"/>
            <a:ext cx="5111640" cy="208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10" descr="20190213_142417.jpg"/>
          <p:cNvPicPr/>
          <p:nvPr/>
        </p:nvPicPr>
        <p:blipFill>
          <a:blip r:embed="rId2"/>
          <a:stretch/>
        </p:blipFill>
        <p:spPr>
          <a:xfrm>
            <a:off x="3635280" y="404640"/>
            <a:ext cx="5112000" cy="2808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3008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з пластика сделала поле для игры ( 30х3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На поле наклеила самоклеещую пле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Разделила на девять ча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20190213_142401.jpg"/>
          <p:cNvPicPr/>
          <p:nvPr/>
        </p:nvPicPr>
        <p:blipFill>
          <a:blip r:embed="rId3"/>
          <a:stretch/>
        </p:blipFill>
        <p:spPr>
          <a:xfrm>
            <a:off x="3635280" y="3429000"/>
            <a:ext cx="51134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Mongolian Baiti"/>
              </a:rPr>
              <a:t>«Крестики-нолики» -это очень древняя и интересная игра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  <a:ea typeface="Mongolian Bait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844280"/>
            <a:ext cx="82072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100" spc="-1" strike="noStrike">
                <a:solidFill>
                  <a:srgbClr val="ff0000"/>
                </a:solidFill>
                <a:latin typeface="Monotype Corsiva"/>
              </a:rPr>
              <a:t>Главное в этой игре – не торопиться и внимательно смотреть за ходами соперников. Поставить в один ряд три крестика или нолика и не дать своему сопернику сделать то же самое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30T13:55:21Z</dcterms:created>
  <dc:creator>PC</dc:creator>
  <dc:description/>
  <dc:language>en-US</dc:language>
  <cp:lastModifiedBy>PC</cp:lastModifiedBy>
  <dcterms:modified xsi:type="dcterms:W3CDTF">2019-10-09T14:07:04Z</dcterms:modified>
  <cp:revision>31</cp:revision>
  <dc:subject/>
  <dc:title>«Крестики-нолики»</dc:title>
</cp:coreProperties>
</file>