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D6F-8C7E-41A2-8B82-38C6EB07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2CD-7F44-4235-8A13-4E374EA3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EBD-DC0C-4556-BB2A-1122E3BB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B5B-401A-46CD-B28B-DA650B62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BBAB-11D8-47F2-99C0-E2657AFD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7FBE-CB33-4F31-8884-B79D9065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845D-3EA6-467F-B7F8-000B1821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EC0D-D404-4AA8-8A3F-15F378FD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7371-E9B0-4F1F-952F-4EEFAF16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E5EE-CDE5-4930-BD41-DD3C13ED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E97D-1BD4-42C0-A199-5A513DB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C93-DB7B-476F-94D5-B8C965D5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9036-1C98-4363-B1BC-6A75280A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E6CD-1177-4D5A-80C8-0CA85041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DDF6-686B-4AE1-A371-AF19D38E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DB8D-29D0-486C-8503-7D87AFD0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93B9-16E8-4582-BCF0-036A2A4F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8E0-BE32-4053-A846-292EA2F8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A60-2C69-4208-A93C-266B2F39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E48-B05B-4199-ACF5-7C737AF3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979-F17C-4F95-95C8-78BC07F2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23C-FABF-4A05-9AAB-82049CCB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DDF-CEFF-4613-98EA-1FE89815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E57-D9ED-412D-AB8E-3C13E184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F4D2-3045-4593-AC68-CED1E1572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2CE0-ACC8-415B-A079-379CBFD0B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рогулка по лесу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изминутка «Прогулка в лес»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00748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немножко отдохнем,                            (Встать, ноги вместе, руки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анем, глубоко вздохнем.                       (через стороны –вверх- вдох, опустить вниз-выдох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и по лесу гуляли,                                 (Ходьба на месте,)     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природой наблюдали.                            (Повороты головой влево-право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ерх на солнце посмотрели                      (Встать на носки, руки через стороны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их лучики согрели.                                 (вверх и посмотреть вверх.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удеса у нас на свете                                (Присесть, руки на поясе.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ли карликами дет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потом все дружно встали                       (Встать на носочках, руки на поясе,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анами мы стали.                               (спина прямая, тянемся вверх.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бочки летали,                                       (Бег на месте, плавно махая руками.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ыльями махали.             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ужно хлопаем,                                      (Хлопки в ладоши,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гами топаем.                                         (Притопы на месте.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рошо мы погуляли                                 (Дети присаживаются на свои места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немножечко устали.                              ( И слушают пение птиц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устарн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63640" y="1197000"/>
            <a:ext cx="34815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Главное отличие кустарника от дерева заключается в том, что у кустарника нет явно выраженного главного стебля (ствола). У кустарника сразу от корня отходит множество тонких стволов, образующих куст. По этому весьма характерному признаку всегда можно легко отличить кустарник от дерева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9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Кустарник- многолетнее растение, у которого несколько твёрдых стеблей ответвляется от общего корня. ежевикамалина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равянистые раст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20872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риб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4797000"/>
            <a:ext cx="38653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оров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лес осенний на охо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кузовком спешит гриб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ибнику найти ох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упный чистый ...(боровик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960" y="4868640"/>
            <a:ext cx="39276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хом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мотри, какой хороший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ляпа красная в горошек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ужевной воротничок 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н в лесу не новичок!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3162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40687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изминутка </a:t>
            </a:r>
            <a:r>
              <a:rPr b="0" i="1" lang="ru-RU" sz="4400" spc="-1" strike="noStrike">
                <a:solidFill>
                  <a:srgbClr val="ffffb7"/>
                </a:solidFill>
                <a:latin typeface="Arial Black"/>
              </a:rPr>
              <a:t>«За малиной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малиной в лес пойдем, в лес пойдем.                    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дети водят хоровод, взявшись за ру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елых ягод наберем, наберем.                            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дут по кругу, наклоняясь, как бы собирая ягод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лнышко высоко,          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стают лицом в круг, тянутся руками вверх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в лесу тропинка.          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клоняются и пытаются достать по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адкая ты моя,                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идут по кругу, взявшись за ру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годка-мали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Лес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3516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авила поведения в лес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48980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9280" y="188640"/>
            <a:ext cx="3927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вол беле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апочка зеленеет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оит в белой одеж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есив сереж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4000" y="3716280"/>
            <a:ext cx="4535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дела к осени оранжевые бу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немного горьким, но приятным вку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имою ими сможет насладить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негирь, пичуга, сойка и синиц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887640" cy="3382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443040" cy="3751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3573000"/>
            <a:ext cx="3927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н в лесу, как богатырь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есь огромный – ввысь и вшир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ист красивый, вырез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лен летом и вес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еликан осенний 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урый свой надеть наря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 веток, словно для зат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бросает желудей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2360" y="115560"/>
            <a:ext cx="39276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Жарким летом он зелён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 пышной и тенистой кро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сенью он жёлтый, крас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ль оранжевый - прекрасный!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зже листья, как перчат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н роняет в беспоряд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сё же, как зовётся он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гадались? Это... (клён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88000" y="3373560"/>
            <a:ext cx="43560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иственный ле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24360" y="1341000"/>
            <a:ext cx="3121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дравствуй, лес, дремучий ле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ный сказок и чуде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ы о чем шумишь листв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чью темной, грозовою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 там шепчешь на зар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есь в росе как в серебр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то в глуши твоей таи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 за зверь? Какая птиц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се открой, не ута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ы же видишь — мы сво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Автор: С. Погорель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56768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3860640"/>
            <a:ext cx="392760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ль обыкновенная 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дали надменная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вблизи - уютный дом..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есь мы дождь и переждё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. Насимо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360" y="0"/>
            <a:ext cx="39276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ны до неба хотят дора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бо ветвями хотят подме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бы в течение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ой стояла пого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кмакова 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3132000" cy="3714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64000" y="2924280"/>
            <a:ext cx="302436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Хвойный ле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92360" y="1196640"/>
            <a:ext cx="35528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хвойном лесу, где покой и прохлада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ны и ели по рангам стоят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м не нужны перемены нарядов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мотрят с тоской на весенний обряд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имнему ветру поклоны давали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огие девы в лучах тишины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ойных деревьев коснутся едва ли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вонкие трели посланцев вес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5219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мешанный ле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24360" y="1341000"/>
            <a:ext cx="3121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к и льнут березки к соснам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крутили косы мхом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, красивые сережки -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удят в сосенках - любовь!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ни нежно приникают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изумрудной красоте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пушистые кивая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онят голове к лист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5256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6T18:13:25Z</dcterms:created>
  <dc:creator>валентина</dc:creator>
  <dc:description/>
  <dc:language>en-US</dc:language>
  <cp:lastModifiedBy>Илья</cp:lastModifiedBy>
  <dcterms:modified xsi:type="dcterms:W3CDTF">2019-10-23T20:30:02Z</dcterms:modified>
  <cp:revision>5</cp:revision>
  <dc:subject/>
  <dc:title>Прогулка по лесу</dc:title>
</cp:coreProperties>
</file>