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FC-6DDC-433C-A538-5DE9F3A2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4E1-B394-4A22-ADA3-828840F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ECF-BDBF-4B9F-BBA8-1994D35E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907-B288-45C2-A95E-192F4984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2AF-F8A4-4D11-9281-D679C2EA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406-40FE-4A44-BD36-5CB561FF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4CD-BBDD-49A4-BB57-7CED961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645-687B-4668-800A-0737E58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8D4-C80A-4107-AA13-78B0726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108-6918-4369-BD3B-2204B62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2DE-0C40-4B14-A851-AC14142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499-9334-4B4D-9B7E-75E7CB1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AF6-F732-4319-9183-032FD9BE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3604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Times New Roman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Times New Roman"/>
              </a:rPr>
              <a:t>3-й класс. Падеж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Отметьте имена существительные первого склон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п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зяблик;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в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пробежка;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г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тр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2. Отметьте словосочетание с существительным первого склонения в предложном падеж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ч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купались в речк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е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бежали в речку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н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купались в озе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424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3. Чем является в предложении имя существительное в именительном падеж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т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обстоятельством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и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дополнением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е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подлежащи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4. Отметьте имя существительное первого склонения в творительном падеж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е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музе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р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улице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т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вороб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5. Отметьте вопросы творительного падеж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а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Кем?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р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Кому? Чем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Times New Roman"/>
              </a:rPr>
              <a:t>о)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О ком? О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3300"/>
                </a:solidFill>
                <a:latin typeface="Times New Roman"/>
              </a:rPr>
              <a:t>в ч</a:t>
            </a: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 е </a:t>
            </a:r>
            <a:r>
              <a:rPr b="1" i="1" lang="en-US" sz="9600" spc="-1" strike="noStrike">
                <a:solidFill>
                  <a:srgbClr val="993300"/>
                </a:solidFill>
                <a:latin typeface="Times New Roman"/>
              </a:rPr>
              <a:t>р 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6fec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Кто вчера правды не сказал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тому и сегодня не повер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7:08:53Z</dcterms:created>
  <dc:creator>xoxol</dc:creator>
  <dc:description/>
  <dc:language>en-US</dc:language>
  <cp:lastModifiedBy>xoxol</cp:lastModifiedBy>
  <dcterms:modified xsi:type="dcterms:W3CDTF">2010-02-18T18:04:20Z</dcterms:modified>
  <cp:revision>4</cp:revision>
  <dc:subject/>
  <dc:title>Слайд 1</dc:title>
</cp:coreProperties>
</file>