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DAD8-D78A-465F-B7A4-A00C8D3624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3535-1818-4D08-910A-E7561D265319}" type="slidenum">
              <a:rPr b="0" lang="ru-RU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32E4-CFC3-44C2-8001-5966BF3EC22D}" type="slidenum">
              <a:rPr b="0" lang="ru-RU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2FAE-1F8C-4099-8C58-84B8E732A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1FD3-F1B8-45EB-B9C0-2F2CB5BC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86D3-F48D-40E0-B05D-B782C1567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1E75-1A75-4125-92EE-9899D0F8A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253A-9DCE-4F92-8685-84C8FC387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B6B6-4F5C-448C-9C1F-EDF715D1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64F4-8403-4995-B29E-2D9A8A13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2A5C-428C-47F4-929D-D5E2AB24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6923-9584-4057-A20D-93020A4E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4AF4-B607-415F-93F8-CB27F1E9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640E-023E-4DA6-9D09-A43D6CF2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6D6F-751B-418B-A441-63001AC9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2484-C23B-4BD9-901D-E439AAB4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DC12-3CEC-4C02-83F7-4BA559ED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61E6-9B72-4D5F-AF74-15A43366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9CEC-6E1B-417E-81DB-302C8DBB5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1D7D-9994-4D26-B04F-33533469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4EAFA-CA52-4D52-865D-9C19400C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DB35C-DA8C-4933-B79B-1D8D81CA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BCB36-19D2-4E67-980E-51372079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F81C7-4AE5-48EB-9D6E-1AFCD570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0AA4D-7BB4-4050-9B41-7CB036F7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E869-69DB-437F-A72C-EA0C268C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8A515-DCCC-42FE-9434-A24B544F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7C724-89A6-411B-BE14-FBF521B0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53DF9-5324-46B0-9947-2CF2224C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E6932-BF52-4D48-8429-B21A3097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EBFD5-FFF4-404E-ACA0-BE8EC7EF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FA1FD-6D38-45D8-8B0C-3173B8392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DEB0F-62AF-428D-AFAF-1FA64D85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5E8F1-CC21-47AB-86B8-9939532B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0F21A-F650-472F-BD3A-79D6E820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BDDAF-53EC-43BF-A51A-FAB19079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52B5-E6DC-4FF9-9E6B-7F064782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F4E70-E281-4961-BEC8-0C339E55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F0AD4-D701-4F4E-8712-2B899647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67F2E-EFAE-4A10-8C26-5880BD37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AA308-3A05-4F7F-AACE-F11BF18F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AFAB8-3498-41B6-B7FD-E4DC7F38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B0390-4CAF-4E8C-B80F-13D79D72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69777-D0E4-46BC-9A96-421232A4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009C9-2CA1-488A-B1A9-7A620FD04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249B7-3B3F-41C9-B1A8-9EC3CAC73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A6B90-2086-4E6D-B42A-827DA8CE6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E971-17E4-42C3-B323-741464B8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ECBA9-2F5B-439B-921F-A65961A1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1E007-2836-48BD-8421-A83C2E59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EC86E-DD5D-46F0-8590-E726B057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72117-9B5F-4009-8752-69C77EC4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94E31-C1F9-4500-93D3-8D9291E8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1A1E6-336F-435D-ADF9-444E2276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D5568-B4B7-45D1-9E80-BD382E7A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C03FD-A5EE-450A-8898-50C1174A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0D963-D93F-4A63-9AB6-DA36EDAC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AA17F-5D7F-4BCA-BF5F-CA747FDF0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24ED-09CE-4FDB-AAFC-AF7EA48E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96C0E-2F16-475F-8ADC-A25D7BEE2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F5DD-00F1-45AC-B3FC-3D3E5385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9D64-B6C4-45CD-9A56-02E3C46E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2215-B993-469D-9650-7190D3E9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F349-F07D-44AC-91F4-6AC8769DE935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8140-8098-483F-A32A-6964B017DD16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F0F3-A56C-4383-AF50-49E71C4DAEA2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585E-CDCF-451D-93C8-5A54442C3F58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61D7-E708-4B99-ADEC-A2C746E9F95A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-6480" y="444600"/>
            <a:ext cx="6419880" cy="3925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"/>
          <p:cNvPicPr/>
          <p:nvPr/>
        </p:nvPicPr>
        <p:blipFill>
          <a:blip r:embed="rId2"/>
          <a:stretch/>
        </p:blipFill>
        <p:spPr>
          <a:xfrm>
            <a:off x="6013440" y="2349360"/>
            <a:ext cx="279720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Содержимое 3"/>
          <p:cNvSpPr/>
          <p:nvPr/>
        </p:nvSpPr>
        <p:spPr>
          <a:xfrm>
            <a:off x="0" y="1143000"/>
            <a:ext cx="86868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34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9" name="Содержимое 3"/>
          <p:cNvSpPr/>
          <p:nvPr/>
        </p:nvSpPr>
        <p:spPr>
          <a:xfrm>
            <a:off x="-181080" y="1268280"/>
            <a:ext cx="590544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48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800 –     =</a:t>
            </a:r>
            <a:endParaRPr b="0" lang="en-US" sz="48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          – </a:t>
            </a:r>
            <a:r>
              <a:rPr b="1" lang="ru-RU" sz="48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15  = </a:t>
            </a:r>
            <a:endParaRPr b="0" lang="en-US" sz="48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     </a:t>
            </a:r>
            <a:r>
              <a:rPr b="1" lang="ru-RU" sz="48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12 + 68 =     </a:t>
            </a:r>
            <a:endParaRPr b="0" lang="en-US" sz="48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48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+ 10 = </a:t>
            </a:r>
            <a:endParaRPr b="0" lang="en-US" sz="48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шифруйте примеры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1" name="Содержимое 3"/>
          <p:cNvSpPr/>
          <p:nvPr/>
        </p:nvSpPr>
        <p:spPr>
          <a:xfrm>
            <a:off x="2268360" y="2997360"/>
            <a:ext cx="17272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0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2" name="Содержимое 3"/>
          <p:cNvSpPr/>
          <p:nvPr/>
        </p:nvSpPr>
        <p:spPr>
          <a:xfrm>
            <a:off x="5292720" y="5013360"/>
            <a:ext cx="17272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3" name="Равнобедренный треугольник 12"/>
          <p:cNvSpPr/>
          <p:nvPr/>
        </p:nvSpPr>
        <p:spPr>
          <a:xfrm>
            <a:off x="1908000" y="1268280"/>
            <a:ext cx="576360" cy="6480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4" name="Прямоугольник 13"/>
          <p:cNvSpPr/>
          <p:nvPr/>
        </p:nvSpPr>
        <p:spPr>
          <a:xfrm>
            <a:off x="3276720" y="1341360"/>
            <a:ext cx="574560" cy="503280"/>
          </a:xfrm>
          <a:prstGeom prst="rect">
            <a:avLst/>
          </a:prstGeom>
          <a:noFill/>
          <a:ln w="381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5" name="Прямоугольник 14"/>
          <p:cNvSpPr/>
          <p:nvPr/>
        </p:nvSpPr>
        <p:spPr>
          <a:xfrm>
            <a:off x="611280" y="2276640"/>
            <a:ext cx="576000" cy="504720"/>
          </a:xfrm>
          <a:prstGeom prst="rect">
            <a:avLst/>
          </a:prstGeom>
          <a:noFill/>
          <a:ln w="381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6" name="Овал 15"/>
          <p:cNvSpPr/>
          <p:nvPr/>
        </p:nvSpPr>
        <p:spPr>
          <a:xfrm>
            <a:off x="3203640" y="2133720"/>
            <a:ext cx="647640" cy="574560"/>
          </a:xfrm>
          <a:prstGeom prst="ellipse">
            <a:avLst/>
          </a:prstGeom>
          <a:noFill/>
          <a:ln w="381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7" name="Равнобедренный треугольник 16"/>
          <p:cNvSpPr/>
          <p:nvPr/>
        </p:nvSpPr>
        <p:spPr>
          <a:xfrm>
            <a:off x="3203640" y="3068640"/>
            <a:ext cx="647640" cy="64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8" name="Овал 17"/>
          <p:cNvSpPr/>
          <p:nvPr/>
        </p:nvSpPr>
        <p:spPr>
          <a:xfrm>
            <a:off x="611280" y="3933720"/>
            <a:ext cx="647640" cy="574920"/>
          </a:xfrm>
          <a:prstGeom prst="ellipse">
            <a:avLst/>
          </a:prstGeom>
          <a:noFill/>
          <a:ln w="381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9" name="Шестиугольник 18"/>
          <p:cNvSpPr/>
          <p:nvPr/>
        </p:nvSpPr>
        <p:spPr>
          <a:xfrm>
            <a:off x="3059280" y="4005360"/>
            <a:ext cx="649080" cy="576000"/>
          </a:xfrm>
          <a:prstGeom prst="hexagon">
            <a:avLst>
              <a:gd name="adj" fmla="val 25005"/>
              <a:gd name="vf" fmla="val 115470"/>
            </a:avLst>
          </a:prstGeom>
          <a:noFill/>
          <a:ln w="381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0" name="Содержимое 3"/>
          <p:cNvSpPr/>
          <p:nvPr/>
        </p:nvSpPr>
        <p:spPr>
          <a:xfrm>
            <a:off x="900000" y="1268280"/>
            <a:ext cx="17272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0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1" name="Содержимое 3"/>
          <p:cNvSpPr/>
          <p:nvPr/>
        </p:nvSpPr>
        <p:spPr>
          <a:xfrm>
            <a:off x="2340000" y="1197000"/>
            <a:ext cx="23032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20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2" name="Содержимое 3"/>
          <p:cNvSpPr/>
          <p:nvPr/>
        </p:nvSpPr>
        <p:spPr>
          <a:xfrm>
            <a:off x="-324000" y="2133720"/>
            <a:ext cx="19432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20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3" name="Содержимое 3"/>
          <p:cNvSpPr/>
          <p:nvPr/>
        </p:nvSpPr>
        <p:spPr>
          <a:xfrm>
            <a:off x="2484360" y="2133720"/>
            <a:ext cx="17272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05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4" name="Содержимое 3"/>
          <p:cNvSpPr/>
          <p:nvPr/>
        </p:nvSpPr>
        <p:spPr>
          <a:xfrm>
            <a:off x="-541440" y="3860640"/>
            <a:ext cx="208908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05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5" name="Содержимое 3"/>
          <p:cNvSpPr/>
          <p:nvPr/>
        </p:nvSpPr>
        <p:spPr>
          <a:xfrm>
            <a:off x="2050920" y="3860640"/>
            <a:ext cx="266544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715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2533c"/>
                </a:solidFill>
                <a:latin typeface="Arial Black"/>
              </a:rPr>
              <a:t>Верно ли равенство?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7" name="TextBox 2"/>
          <p:cNvSpPr/>
          <p:nvPr/>
        </p:nvSpPr>
        <p:spPr>
          <a:xfrm>
            <a:off x="162000" y="22525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92934"/>
                </a:solidFill>
                <a:latin typeface="Arial Black"/>
              </a:rPr>
              <a:t>45000 : 90 = 356 + 149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8" name="TextBox 3"/>
          <p:cNvSpPr/>
          <p:nvPr/>
        </p:nvSpPr>
        <p:spPr>
          <a:xfrm>
            <a:off x="1771560" y="3328920"/>
            <a:ext cx="104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92934"/>
                </a:solidFill>
                <a:latin typeface="Arial Black"/>
              </a:rPr>
              <a:t>500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3686760" y="3328920"/>
            <a:ext cx="104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92934"/>
                </a:solidFill>
                <a:latin typeface="Arial Black"/>
              </a:rPr>
              <a:t>505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3021480" y="33289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92934"/>
                </a:solidFill>
                <a:latin typeface="Arial Black"/>
              </a:rPr>
              <a:t>&lt;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1" name="TextBox 6"/>
          <p:cNvSpPr/>
          <p:nvPr/>
        </p:nvSpPr>
        <p:spPr>
          <a:xfrm>
            <a:off x="6720480" y="2224080"/>
            <a:ext cx="21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92934"/>
                </a:solidFill>
                <a:latin typeface="Arial Black"/>
              </a:rPr>
              <a:t>Неверно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2533c"/>
                </a:solidFill>
                <a:latin typeface="Arial"/>
              </a:rPr>
              <a:t>Формула пути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rcRect l="0" t="21097" r="0" b="0"/>
          <a:stretch/>
        </p:blipFill>
        <p:spPr>
          <a:xfrm>
            <a:off x="0" y="1446120"/>
            <a:ext cx="9144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1"/>
          <p:cNvSpPr/>
          <p:nvPr/>
        </p:nvSpPr>
        <p:spPr>
          <a:xfrm>
            <a:off x="179280" y="404640"/>
            <a:ext cx="867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Два льва бежали с одинаковой скоростью. Первый пробежал 100м, другой 160м. Второй лев бежал на 3с дольше. Какое время был в пути каждый лев?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5" name="Picture 2" descr="https://fc.vseosvita.ua/000esz-6fee/001.jpg"/>
          <p:cNvPicPr/>
          <p:nvPr/>
        </p:nvPicPr>
        <p:blipFill>
          <a:blip r:embed="rId1"/>
          <a:stretch/>
        </p:blipFill>
        <p:spPr>
          <a:xfrm>
            <a:off x="539640" y="246708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2"/>
          <a:stretch/>
        </p:blipFill>
        <p:spPr>
          <a:xfrm>
            <a:off x="425520" y="3949560"/>
            <a:ext cx="1741320" cy="152244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ая соединительная линия 3"/>
          <p:cNvSpPr/>
          <p:nvPr/>
        </p:nvSpPr>
        <p:spPr>
          <a:xfrm>
            <a:off x="2411280" y="3573360"/>
            <a:ext cx="3024360" cy="0"/>
          </a:xfrm>
          <a:prstGeom prst="line">
            <a:avLst/>
          </a:prstGeom>
          <a:ln w="442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8" name="Прямая соединительная линия 6"/>
          <p:cNvSpPr/>
          <p:nvPr/>
        </p:nvSpPr>
        <p:spPr>
          <a:xfrm>
            <a:off x="2411280" y="5157720"/>
            <a:ext cx="5616720" cy="0"/>
          </a:xfrm>
          <a:prstGeom prst="line">
            <a:avLst/>
          </a:prstGeom>
          <a:ln w="442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9" name="Прямая соединительная линия 7"/>
          <p:cNvSpPr/>
          <p:nvPr/>
        </p:nvSpPr>
        <p:spPr>
          <a:xfrm>
            <a:off x="2411280" y="3222720"/>
            <a:ext cx="0" cy="2367000"/>
          </a:xfrm>
          <a:prstGeom prst="line">
            <a:avLst/>
          </a:prstGeom>
          <a:ln w="26280">
            <a:solidFill>
              <a:srgbClr val="29293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0" name="Прямая соединительная линия 11"/>
          <p:cNvSpPr/>
          <p:nvPr/>
        </p:nvSpPr>
        <p:spPr>
          <a:xfrm>
            <a:off x="5435640" y="3222720"/>
            <a:ext cx="0" cy="2367000"/>
          </a:xfrm>
          <a:prstGeom prst="line">
            <a:avLst/>
          </a:prstGeom>
          <a:ln w="26280">
            <a:solidFill>
              <a:srgbClr val="29293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1" name="Левая круглая скобка 9"/>
          <p:cNvSpPr/>
          <p:nvPr/>
        </p:nvSpPr>
        <p:spPr>
          <a:xfrm rot="5400000">
            <a:off x="6507720" y="3637800"/>
            <a:ext cx="447480" cy="2592360"/>
          </a:xfrm>
          <a:custGeom>
            <a:avLst/>
            <a:gdLst>
              <a:gd name="textAreaLeft" fmla="*/ 131400 w 447480"/>
              <a:gd name="textAreaRight" fmla="*/ 447840 w 447480"/>
              <a:gd name="textAreaTop" fmla="*/ 95040 h 2592360"/>
              <a:gd name="textAreaBottom" fmla="*/ 249732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792"/>
                  <a:pt x="0" y="1584"/>
                </a:cubicBezTo>
                <a:lnTo>
                  <a:pt x="0" y="20016"/>
                </a:lnTo>
                <a:cubicBezTo>
                  <a:pt x="0" y="20808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3232080" y="2781360"/>
            <a:ext cx="138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92934"/>
                </a:solidFill>
                <a:latin typeface="Arial"/>
              </a:rPr>
              <a:t>100 м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3" name="TextBox 12"/>
          <p:cNvSpPr/>
          <p:nvPr/>
        </p:nvSpPr>
        <p:spPr>
          <a:xfrm>
            <a:off x="4147200" y="5435640"/>
            <a:ext cx="138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92934"/>
                </a:solidFill>
                <a:latin typeface="Arial"/>
              </a:rPr>
              <a:t>160 м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4" name="TextBox 13"/>
          <p:cNvSpPr/>
          <p:nvPr/>
        </p:nvSpPr>
        <p:spPr>
          <a:xfrm>
            <a:off x="5791320" y="3564000"/>
            <a:ext cx="18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34"/>
                </a:solidFill>
                <a:latin typeface="Arial"/>
              </a:rPr>
              <a:t>t = 3 </a:t>
            </a:r>
            <a:r>
              <a:rPr b="0" lang="ru-RU" sz="3600" spc="-1" strike="noStrike">
                <a:solidFill>
                  <a:srgbClr val="292934"/>
                </a:solidFill>
                <a:latin typeface="Arial"/>
              </a:rPr>
              <a:t>сек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5" name="TextBox 14"/>
          <p:cNvSpPr/>
          <p:nvPr/>
        </p:nvSpPr>
        <p:spPr>
          <a:xfrm>
            <a:off x="6519600" y="4221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92934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Содержимое 3"/>
          <p:cNvSpPr/>
          <p:nvPr/>
        </p:nvSpPr>
        <p:spPr>
          <a:xfrm>
            <a:off x="254160" y="2637000"/>
            <a:ext cx="8686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)  </a:t>
            </a:r>
            <a:r>
              <a:rPr b="1" lang="ru-RU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60 : 3 </a:t>
            </a:r>
            <a:r>
              <a:rPr b="1" lang="en-US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20 </a:t>
            </a:r>
            <a:r>
              <a:rPr b="1" lang="en-US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м/с) – скорость льва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7" name="Содержимое 3"/>
          <p:cNvSpPr/>
          <p:nvPr/>
        </p:nvSpPr>
        <p:spPr>
          <a:xfrm>
            <a:off x="233280" y="3471840"/>
            <a:ext cx="8686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)  </a:t>
            </a:r>
            <a:r>
              <a:rPr b="1" lang="ru-RU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100 : 20 </a:t>
            </a:r>
            <a:r>
              <a:rPr b="1" lang="en-US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5 </a:t>
            </a:r>
            <a:r>
              <a:rPr b="1" lang="en-US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с) – бежал </a:t>
            </a:r>
            <a:r>
              <a:rPr b="1" lang="en-US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I </a:t>
            </a:r>
            <a:r>
              <a:rPr b="1" lang="ru-RU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лев 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8" name="Содержимое 3"/>
          <p:cNvSpPr/>
          <p:nvPr/>
        </p:nvSpPr>
        <p:spPr>
          <a:xfrm>
            <a:off x="233280" y="4292640"/>
            <a:ext cx="856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)  </a:t>
            </a:r>
            <a:r>
              <a:rPr b="1" lang="ru-RU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160 : 20 = 8 (с) – бежал </a:t>
            </a:r>
            <a:r>
              <a:rPr b="1" lang="en-US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II</a:t>
            </a:r>
            <a:r>
              <a:rPr b="1" lang="ru-RU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 лев 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9" name="TextBox 4"/>
          <p:cNvSpPr/>
          <p:nvPr/>
        </p:nvSpPr>
        <p:spPr>
          <a:xfrm>
            <a:off x="3412080" y="907920"/>
            <a:ext cx="271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Решение: 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0" name="Содержимое 3"/>
          <p:cNvSpPr/>
          <p:nvPr/>
        </p:nvSpPr>
        <p:spPr>
          <a:xfrm>
            <a:off x="250920" y="1773360"/>
            <a:ext cx="8686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)  </a:t>
            </a:r>
            <a:r>
              <a:rPr b="1" lang="ru-RU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160 – 100 </a:t>
            </a:r>
            <a:r>
              <a:rPr b="1" lang="en-US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60 </a:t>
            </a:r>
            <a:r>
              <a:rPr b="1" lang="en-US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м) – бежал 3 секунды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1" name="TextBox 8"/>
          <p:cNvSpPr/>
          <p:nvPr/>
        </p:nvSpPr>
        <p:spPr>
          <a:xfrm>
            <a:off x="581400" y="5229360"/>
            <a:ext cx="19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Ответ: 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1"/>
          <p:cNvSpPr/>
          <p:nvPr/>
        </p:nvSpPr>
        <p:spPr>
          <a:xfrm>
            <a:off x="449280" y="47628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Один шофёр сделал за день 5 рейсов, другой 3 рейса. В каждый рейс перевозили зерна поровну. Первый шофёр перевёз на 20 т больше, чем второй. Сколько зерна перевёз каждый шофёр?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826920" y="2292480"/>
            <a:ext cx="1455840" cy="1682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"/>
          <p:cNvPicPr/>
          <p:nvPr/>
        </p:nvPicPr>
        <p:blipFill>
          <a:blip r:embed="rId2"/>
          <a:stretch/>
        </p:blipFill>
        <p:spPr>
          <a:xfrm>
            <a:off x="920880" y="3975120"/>
            <a:ext cx="1268280" cy="1504800"/>
          </a:xfrm>
          <a:prstGeom prst="rect">
            <a:avLst/>
          </a:prstGeom>
          <a:ln w="0">
            <a:noFill/>
          </a:ln>
        </p:spPr>
      </p:pic>
      <p:sp>
        <p:nvSpPr>
          <p:cNvPr id="275" name="Прямая соединительная линия 3"/>
          <p:cNvSpPr/>
          <p:nvPr/>
        </p:nvSpPr>
        <p:spPr>
          <a:xfrm>
            <a:off x="3059280" y="3429000"/>
            <a:ext cx="4465440" cy="0"/>
          </a:xfrm>
          <a:prstGeom prst="line">
            <a:avLst/>
          </a:prstGeom>
          <a:ln w="442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6" name="Прямая соединительная линия 6"/>
          <p:cNvSpPr/>
          <p:nvPr/>
        </p:nvSpPr>
        <p:spPr>
          <a:xfrm>
            <a:off x="3059280" y="4941720"/>
            <a:ext cx="2665080" cy="0"/>
          </a:xfrm>
          <a:prstGeom prst="line">
            <a:avLst/>
          </a:prstGeom>
          <a:ln w="44280">
            <a:solidFill>
              <a:srgbClr val="93a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7" name="Прямая соединительная линия 7"/>
          <p:cNvSpPr/>
          <p:nvPr/>
        </p:nvSpPr>
        <p:spPr>
          <a:xfrm>
            <a:off x="3059280" y="3133800"/>
            <a:ext cx="0" cy="2095560"/>
          </a:xfrm>
          <a:prstGeom prst="line">
            <a:avLst/>
          </a:prstGeom>
          <a:ln w="26280">
            <a:solidFill>
              <a:srgbClr val="29293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8" name="Прямая соединительная линия 10"/>
          <p:cNvSpPr/>
          <p:nvPr/>
        </p:nvSpPr>
        <p:spPr>
          <a:xfrm>
            <a:off x="5724360" y="3133800"/>
            <a:ext cx="0" cy="2095560"/>
          </a:xfrm>
          <a:prstGeom prst="line">
            <a:avLst/>
          </a:prstGeom>
          <a:ln w="26280">
            <a:solidFill>
              <a:srgbClr val="29293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9" name="Левая круглая скобка 8"/>
          <p:cNvSpPr/>
          <p:nvPr/>
        </p:nvSpPr>
        <p:spPr>
          <a:xfrm rot="5400000">
            <a:off x="5076000" y="980280"/>
            <a:ext cx="431640" cy="4465440"/>
          </a:xfrm>
          <a:custGeom>
            <a:avLst/>
            <a:gdLst>
              <a:gd name="textAreaLeft" fmla="*/ 126720 w 431640"/>
              <a:gd name="textAreaRight" fmla="*/ 432000 w 431640"/>
              <a:gd name="textAreaTop" fmla="*/ 119160 h 4465440"/>
              <a:gd name="textAreaBottom" fmla="*/ 4346280 h 44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78"/>
                  <a:pt x="0" y="1156"/>
                </a:cubicBezTo>
                <a:lnTo>
                  <a:pt x="0" y="20444"/>
                </a:lnTo>
                <a:cubicBezTo>
                  <a:pt x="0" y="21022"/>
                  <a:pt x="10800" y="21600"/>
                  <a:pt x="21600" y="21600"/>
                </a:cubicBezTo>
              </a:path>
            </a:pathLst>
          </a:custGeom>
          <a:noFill/>
          <a:ln w="2628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0" name="Левая круглая скобка 12"/>
          <p:cNvSpPr/>
          <p:nvPr/>
        </p:nvSpPr>
        <p:spPr>
          <a:xfrm rot="16200000">
            <a:off x="4175640" y="3812400"/>
            <a:ext cx="432000" cy="2665080"/>
          </a:xfrm>
          <a:custGeom>
            <a:avLst/>
            <a:gdLst>
              <a:gd name="textAreaLeft" fmla="*/ 127080 w 432000"/>
              <a:gd name="textAreaRight" fmla="*/ 432360 w 432000"/>
              <a:gd name="textAreaTop" fmla="*/ 119160 h 2665080"/>
              <a:gd name="textAreaBottom" fmla="*/ 2545920 h 26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69"/>
                  <a:pt x="0" y="1937"/>
                </a:cubicBezTo>
                <a:lnTo>
                  <a:pt x="0" y="19663"/>
                </a:lnTo>
                <a:cubicBezTo>
                  <a:pt x="0" y="20632"/>
                  <a:pt x="10800" y="21600"/>
                  <a:pt x="21600" y="21600"/>
                </a:cubicBezTo>
              </a:path>
            </a:pathLst>
          </a:custGeom>
          <a:noFill/>
          <a:ln w="2628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1" name="Левая круглая скобка 13"/>
          <p:cNvSpPr/>
          <p:nvPr/>
        </p:nvSpPr>
        <p:spPr>
          <a:xfrm rot="16200000">
            <a:off x="6408720" y="2744280"/>
            <a:ext cx="431640" cy="1800360"/>
          </a:xfrm>
          <a:custGeom>
            <a:avLst/>
            <a:gdLst>
              <a:gd name="textAreaLeft" fmla="*/ 126720 w 431640"/>
              <a:gd name="textAreaRight" fmla="*/ 432000 w 431640"/>
              <a:gd name="textAreaTop" fmla="*/ 119520 h 1800360"/>
              <a:gd name="textAreaBottom" fmla="*/ 168084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434"/>
                  <a:pt x="0" y="2868"/>
                </a:cubicBezTo>
                <a:lnTo>
                  <a:pt x="0" y="18732"/>
                </a:lnTo>
                <a:cubicBezTo>
                  <a:pt x="0" y="20166"/>
                  <a:pt x="10800" y="21600"/>
                  <a:pt x="21600" y="21600"/>
                </a:cubicBezTo>
              </a:path>
            </a:pathLst>
          </a:custGeom>
          <a:noFill/>
          <a:ln w="26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2" name="TextBox 9"/>
          <p:cNvSpPr/>
          <p:nvPr/>
        </p:nvSpPr>
        <p:spPr>
          <a:xfrm>
            <a:off x="4358880" y="242712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34"/>
                </a:solidFill>
                <a:latin typeface="Arial"/>
              </a:rPr>
              <a:t>5 рейсов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3" name="TextBox 15"/>
          <p:cNvSpPr/>
          <p:nvPr/>
        </p:nvSpPr>
        <p:spPr>
          <a:xfrm>
            <a:off x="3890880" y="54799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34"/>
                </a:solidFill>
                <a:latin typeface="Arial"/>
              </a:rPr>
              <a:t>3 рейса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4" name="TextBox 11"/>
          <p:cNvSpPr/>
          <p:nvPr/>
        </p:nvSpPr>
        <p:spPr>
          <a:xfrm>
            <a:off x="6218280" y="3398760"/>
            <a:ext cx="7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34"/>
                </a:solidFill>
                <a:latin typeface="Arial"/>
              </a:rPr>
              <a:t>20 т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5" name="TextBox 18"/>
          <p:cNvSpPr/>
          <p:nvPr/>
        </p:nvSpPr>
        <p:spPr>
          <a:xfrm>
            <a:off x="6412680" y="3951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34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4"/>
          <p:cNvSpPr/>
          <p:nvPr/>
        </p:nvSpPr>
        <p:spPr>
          <a:xfrm>
            <a:off x="3412080" y="907920"/>
            <a:ext cx="271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Решение: 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7" name="TextBox 8"/>
          <p:cNvSpPr/>
          <p:nvPr/>
        </p:nvSpPr>
        <p:spPr>
          <a:xfrm>
            <a:off x="581400" y="5229360"/>
            <a:ext cx="19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Ответ: 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8" name="Содержимое 3"/>
          <p:cNvSpPr/>
          <p:nvPr/>
        </p:nvSpPr>
        <p:spPr>
          <a:xfrm>
            <a:off x="324000" y="1773360"/>
            <a:ext cx="8686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)  </a:t>
            </a:r>
            <a:r>
              <a:rPr b="1" lang="ru-RU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5 – 3 </a:t>
            </a:r>
            <a:r>
              <a:rPr b="1" lang="en-US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2 </a:t>
            </a:r>
            <a:r>
              <a:rPr b="1" lang="en-US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р.) – перевезено 20 тонн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9" name="Содержимое 3"/>
          <p:cNvSpPr/>
          <p:nvPr/>
        </p:nvSpPr>
        <p:spPr>
          <a:xfrm>
            <a:off x="284040" y="2529000"/>
            <a:ext cx="8686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)  </a:t>
            </a:r>
            <a:r>
              <a:rPr b="1" lang="ru-RU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20 : 2 </a:t>
            </a:r>
            <a:r>
              <a:rPr b="1" lang="en-US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10 </a:t>
            </a:r>
            <a:r>
              <a:rPr b="1" lang="en-US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т) – за 1 рейс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0" name="Содержимое 3"/>
          <p:cNvSpPr/>
          <p:nvPr/>
        </p:nvSpPr>
        <p:spPr>
          <a:xfrm>
            <a:off x="230040" y="3206880"/>
            <a:ext cx="8686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)  </a:t>
            </a:r>
            <a:r>
              <a:rPr b="1" lang="ru-RU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10 ∙ 3 </a:t>
            </a:r>
            <a:r>
              <a:rPr b="1" lang="en-US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30 </a:t>
            </a:r>
            <a:r>
              <a:rPr b="1" lang="en-US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т) – перевёз </a:t>
            </a:r>
            <a:r>
              <a:rPr b="1" lang="en-US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II</a:t>
            </a:r>
            <a:r>
              <a:rPr b="1" lang="ru-RU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 шофёр 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1" name="Содержимое 3"/>
          <p:cNvSpPr/>
          <p:nvPr/>
        </p:nvSpPr>
        <p:spPr>
          <a:xfrm>
            <a:off x="4573440" y="3894120"/>
            <a:ext cx="4138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)  </a:t>
            </a:r>
            <a:r>
              <a:rPr b="1" lang="ru-RU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30 + 20 = 50 (т) 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– </a:t>
            </a:r>
            <a:r>
              <a:rPr b="1" lang="ru-RU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перевёз </a:t>
            </a:r>
            <a:r>
              <a:rPr b="1" lang="en-US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I</a:t>
            </a:r>
            <a:r>
              <a:rPr b="1" lang="ru-RU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 шофёр 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2" name="Содержимое 3"/>
          <p:cNvSpPr/>
          <p:nvPr/>
        </p:nvSpPr>
        <p:spPr>
          <a:xfrm>
            <a:off x="223920" y="3867120"/>
            <a:ext cx="414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)  </a:t>
            </a:r>
            <a:r>
              <a:rPr b="1" lang="ru-RU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10 ∙ 5 = 50 (т) 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– </a:t>
            </a:r>
            <a:r>
              <a:rPr b="1" lang="ru-RU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перевёз </a:t>
            </a:r>
            <a:r>
              <a:rPr b="1" lang="en-US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I</a:t>
            </a:r>
            <a:r>
              <a:rPr b="1" lang="ru-RU" sz="3200" spc="-1" strike="noStrike">
                <a:solidFill>
                  <a:srgbClr val="5b352e"/>
                </a:solidFill>
                <a:latin typeface="Times New Roman"/>
                <a:ea typeface="Times New Roman"/>
              </a:rPr>
              <a:t> шофёр 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1"/>
          <p:cNvSpPr/>
          <p:nvPr/>
        </p:nvSpPr>
        <p:spPr>
          <a:xfrm>
            <a:off x="1513800" y="812880"/>
            <a:ext cx="594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Домашнее задание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4" name="TextBox 2"/>
          <p:cNvSpPr/>
          <p:nvPr/>
        </p:nvSpPr>
        <p:spPr>
          <a:xfrm>
            <a:off x="611280" y="220500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92934"/>
                </a:solidFill>
                <a:latin typeface="Arial Black"/>
              </a:rPr>
              <a:t>с.59 №222 (задача), 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92934"/>
                </a:solidFill>
                <a:latin typeface="Arial Black"/>
              </a:rPr>
              <a:t>с.60 №229, 230 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6:40:49Z</dcterms:created>
  <dc:creator>Galina</dc:creator>
  <dc:description/>
  <dc:language>en-US</dc:language>
  <cp:lastModifiedBy>RePack by Diakov</cp:lastModifiedBy>
  <dcterms:modified xsi:type="dcterms:W3CDTF">2020-04-20T13:33:05Z</dcterms:modified>
  <cp:revision>12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d0000000000010243100207f6000400038000</vt:lpwstr>
  </property>
</Properties>
</file>