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D8A8-CBC4-4E97-B83D-0EB535B8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F11B-C4DD-4ACC-9A70-A1161B2C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6D6E-D3A0-463D-86D6-57D46312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BEBD-450F-4248-8B86-C337D88C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3197-C380-4045-AD21-DA14578DF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0540-2792-4DAB-8D2F-8D097566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D68C-9397-418C-8F5E-ED09EC0B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5C01-DCDA-42A1-9AE0-5C1BBE89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C8CD-17C7-4839-84B4-E5B01B98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EA33-6BFB-444E-BA1C-29C6F7B4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6508-9FCD-44AA-9205-89AEE5FF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DAE7-A3CC-437D-AE42-5FA193F8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16A7-F346-4BBE-B82E-99BF0615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02BE-36C1-416E-AA7D-A4723A6C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FA9D-2D8E-4200-A32C-CB87A44D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44F8-98B7-47A7-8086-6A060C349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A77A-6ACB-4F2F-A669-959F26F6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0200C-ACC4-4A36-81F7-86556BAAA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F6E3C-D473-433A-AC43-7C96BBBB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C8F0E-2F94-40AD-B301-00E946D4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E7BAB-4DFB-4574-873E-83ED3BF4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9B388-037B-4457-8C61-A1BF5B3E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9AA1-78C2-483C-A5EA-A9D9516D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DE908-4919-4D66-8D42-03712123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05B8A-E3C4-4D3B-9D16-6A4710DC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47CE1-0BEA-466E-82A3-C84121FA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27432-D6A8-4ECB-9479-452E6B3D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8B25C-D4B2-4355-AB40-A5CD2FC8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BAD4A-C000-4051-B310-8AAD4ABA5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74790-A79B-41B3-AAE2-13D889760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5EC82-100A-4366-A0F4-C40175489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302AB-0DBF-4B41-94F0-2AA10BF3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C1B3A-0A54-451B-A667-E74777AD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F995-CBF4-41D3-ABFD-10383BD4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AA54B-0DF0-4676-BAEA-D1B81C60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9D313-98C1-4BF0-A35F-2B754332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3D67B-8F16-4E7C-B0C3-00CC10F3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3C12C-D303-420F-BD68-500E1F98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2EF20-9A63-45A7-B71C-AD4DF3B7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FEDFD-ACDA-45E5-B155-3AE41403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DFFB6-62E2-4185-AC4D-854FE7A1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2136F-30CA-4B66-8202-0CA1D92F2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C0300-12C0-4F9D-8E63-AC1A4A3D6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FF028-67B5-4232-A8D0-C18BB6636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90F3-C12D-4883-BBBB-0EEE9906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2707E-494C-4A91-B38C-C87E622A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AD2BF-7382-4B2F-B834-CAC02E5D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D54C8-E272-49D5-9DE6-165E248B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FA0D2-0A2F-4D3F-8DB6-1F4B6038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5BEBB-1CD6-4E29-A39D-54FF72E1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76052-F855-4E53-81F3-1C068112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F17D2-B4C6-4E46-ABAE-2AEE3DD6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7BB06-9203-4FE3-8830-18CB2F48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A9E21-362A-4EC8-A016-998DB6FE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07FDD-2C0D-4B6D-810C-75460064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ADB5-E74F-4B90-9DA8-6A28CF5C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A5D77-4945-43AC-B6D6-70DF4D554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0A9F-E539-46C0-B841-B6DAED68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C166-1553-49EB-99BA-50A50022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2B63-633A-41DC-A137-3D5861DF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8.12.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E77F25A-AF15-4155-B593-BC82B210613A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8.12.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DC80586-40A1-4F98-AE7D-830AA3D729F5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8.12.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EE6E3FB-1B8A-4E30-85E0-3612CFCC755C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Arial"/>
              </a:rPr>
              <a:t>8.12.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DF1CF9-33FF-4951-8AFD-644E5089787A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8.12.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378EF59-134C-4605-A468-57A980F8004F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2"/>
          <p:cNvSpPr/>
          <p:nvPr/>
        </p:nvSpPr>
        <p:spPr>
          <a:xfrm>
            <a:off x="395280" y="404640"/>
            <a:ext cx="741672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әнмесез, балалар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тур үтсен көнебез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Көләч булсын йөзебез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Булыйк һәрчак әдәпл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ыйк матур гадәтн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Дөрес, матур утырый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Тырышып җавап бири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1" lang="tt-RU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5”ле -( бишле)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1" lang="tt-RU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4”ле - (дүртле)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1" lang="tt-RU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3”ле - (өчле)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1" lang="tt-RU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2”ле- (икеле)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Дата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pic>
        <p:nvPicPr>
          <p:cNvPr id="225" name="Объект 2" descr=""/>
          <p:cNvPicPr/>
          <p:nvPr/>
        </p:nvPicPr>
        <p:blipFill>
          <a:blip r:embed="rId2"/>
          <a:stretch/>
        </p:blipFill>
        <p:spPr>
          <a:xfrm>
            <a:off x="457200" y="1609560"/>
            <a:ext cx="729144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100" spc="-1" strike="noStrike">
                <a:solidFill>
                  <a:srgbClr val="000000"/>
                </a:solidFill>
                <a:latin typeface="Times New Roman"/>
                <a:ea typeface="Calibri"/>
              </a:rPr>
              <a:t>Хата –ошибка </a:t>
            </a: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100" spc="-1" strike="noStrike">
                <a:solidFill>
                  <a:srgbClr val="000000"/>
                </a:solidFill>
                <a:latin typeface="Times New Roman"/>
                <a:ea typeface="Calibri"/>
              </a:rPr>
              <a:t>Хаталы - с ошибкой</a:t>
            </a: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100" spc="-1" strike="noStrike">
                <a:solidFill>
                  <a:srgbClr val="000000"/>
                </a:solidFill>
                <a:latin typeface="Times New Roman"/>
                <a:ea typeface="Calibri"/>
              </a:rPr>
              <a:t>Хатасы бар – есть ошибка</a:t>
            </a: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100" spc="-1" strike="noStrike">
                <a:solidFill>
                  <a:srgbClr val="000000"/>
                </a:solidFill>
                <a:latin typeface="Times New Roman"/>
                <a:ea typeface="Calibri"/>
              </a:rPr>
              <a:t>Хатасы юк – нет ошибки</a:t>
            </a: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100" spc="-1" strike="noStrike">
                <a:solidFill>
                  <a:srgbClr val="000000"/>
                </a:solidFill>
                <a:latin typeface="Times New Roman"/>
                <a:ea typeface="Calibri"/>
              </a:rPr>
              <a:t>Хата белән – с ошибкой</a:t>
            </a: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100" spc="-1" strike="noStrike">
                <a:solidFill>
                  <a:srgbClr val="000000"/>
                </a:solidFill>
                <a:latin typeface="Times New Roman"/>
                <a:ea typeface="Calibri"/>
              </a:rPr>
              <a:t>Хатасыз- нет ошибки</a:t>
            </a: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100" spc="-1" strike="noStrike">
                <a:solidFill>
                  <a:srgbClr val="000000"/>
                </a:solidFill>
                <a:latin typeface="Times New Roman"/>
                <a:ea typeface="Calibri"/>
              </a:rPr>
              <a:t>Чөнки – потому что</a:t>
            </a: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100" spc="-1" strike="noStrike">
                <a:solidFill>
                  <a:srgbClr val="000000"/>
                </a:solidFill>
                <a:latin typeface="Times New Roman"/>
                <a:ea typeface="Calibri"/>
              </a:rPr>
              <a:t>Тикшердек – проверили</a:t>
            </a: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100" spc="-1" strike="noStrike">
                <a:solidFill>
                  <a:srgbClr val="000000"/>
                </a:solidFill>
                <a:latin typeface="Times New Roman"/>
                <a:ea typeface="Calibri"/>
              </a:rPr>
              <a:t>Төшеп калган - пропущено</a:t>
            </a: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Дата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чә укучы “биш”ле алган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чә укучы” дүрт”ле  алган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чә укучы “өч”ле алган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 өчен Олег “ биш”ле алган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 өчен малай “ дүрт”ле  алган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Дата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8.12.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ин диктант язды...   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18252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18252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н диктант язды...    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18252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18252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з диктант язды...    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182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7242120" cy="12146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исали ли они сегодня диктант?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18252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-Какие оценки получили за диктант?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18252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-Кто написал чисто, без ошибок?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1825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7242120" cy="11890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68000" y="836640"/>
            <a:ext cx="722772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856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7856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) Бирелгән сүзләрнең антонимнарын яз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7856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Хаталы- ..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7856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Хатасы бар - ..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7856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иста - ..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7856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ечкенә - ..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7856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Җиңел - ..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7856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1" i="1" lang="tt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) Җөмләләрне язып бетер./ Допиши предложения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7856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ин “биш”ле  алдым, чөнки ...     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7856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ин “дүрт”ле  алдым, чөнки ...    .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7856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1" i="1" lang="tt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) Сорауларга җавап яз./Напиши ответы на вопросы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7856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Син ничәлегә укырга телисең?/  На какую оценку ты хотел бы учиться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7856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 Сиңа нинди билгеләр ошый? / Какие оценки тебе нравятся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7856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7856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Дата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3762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7850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00010</cp:lastModifiedBy>
  <dcterms:modified xsi:type="dcterms:W3CDTF">2020-07-27T08:10:53Z</dcterms:modified>
  <cp:revision>9</cp:revision>
  <dc:subject/>
  <dc:title>Чөнки-потому что</dc:title>
</cp:coreProperties>
</file>