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5B9-8233-4DF1-8660-80F386C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C88-DD52-43D6-A9ED-C9DA988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2A6-30A0-4785-90E5-C62804D7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061-D33A-488F-9574-F22385E1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717-CF94-4B17-AE0A-A62485AD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8DC-807E-4EFF-8B70-1D6E3DA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E31-D955-482A-8F91-0EAB2DB4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B00-8124-4528-AD9E-64DDA85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A31-23BC-44D2-8CB7-FA326BA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06E-5978-45E4-AEBD-56C6A81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398-DA6C-4BC0-BAAC-FDAFFA9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C3B-25C9-4FD4-A8BE-FC193E9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BFF-642A-4DDB-A937-BD925B2F2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езентация проекта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«День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content.foto.mail.ru/mail/19647772/_blogs/i-567.jpg"/>
          <p:cNvPicPr/>
          <p:nvPr/>
        </p:nvPicPr>
        <p:blipFill>
          <a:blip r:embed="rId1"/>
          <a:stretch/>
        </p:blipFill>
        <p:spPr>
          <a:xfrm>
            <a:off x="28584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3" name="Picture 4" descr="http://content.foto.mail.ru/mail/19647772/_blogs/i-567.jpg"/>
          <p:cNvPicPr/>
          <p:nvPr/>
        </p:nvPicPr>
        <p:blipFill>
          <a:blip r:embed="rId2"/>
          <a:stretch/>
        </p:blipFill>
        <p:spPr>
          <a:xfrm>
            <a:off x="721512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4" name="Picture 4" descr="http://content.foto.mail.ru/mail/19647772/_blogs/i-567.jpg"/>
          <p:cNvPicPr/>
          <p:nvPr/>
        </p:nvPicPr>
        <p:blipFill>
          <a:blip r:embed="rId3"/>
          <a:stretch/>
        </p:blipFill>
        <p:spPr>
          <a:xfrm>
            <a:off x="3714840" y="4786200"/>
            <a:ext cx="1701720" cy="1698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slow" advTm="1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трёх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мы зна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хотим узн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 мы можем узн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ша страна называется Рос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- наша Роди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ы живем в Росс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еще живет в Росс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му флаг с такими цветам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 ли День рождения у Росс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осить у родите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осить у взросл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мотреть в интернет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итать в книг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истемная паут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3571920" y="3071880"/>
            <a:ext cx="235728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День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71680" y="1714680"/>
            <a:ext cx="2286000" cy="1214280"/>
          </a:xfrm>
          <a:prstGeom prst="rect">
            <a:avLst/>
          </a:prstGeom>
          <a:solidFill>
            <a:srgbClr val="d99694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музы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Гим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6357960" y="4786200"/>
            <a:ext cx="2286000" cy="121464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нтр математики: составление разрезных карт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71680" y="4572000"/>
            <a:ext cx="2286000" cy="157176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нтр творчества: аппликация «Флаг Росси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крашивание герб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6286680" y="1714680"/>
            <a:ext cx="2286000" cy="1357200"/>
          </a:xfrm>
          <a:prstGeom prst="rect">
            <a:avLst/>
          </a:prstGeom>
          <a:solidFill>
            <a:srgbClr val="d99694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художественной литературы: чтение, сти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3500280" y="5072040"/>
            <a:ext cx="2214720" cy="12859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чевой центр: беседы, игры, 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2857680" y="2320920"/>
            <a:ext cx="1058760" cy="981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6"/>
          <p:cNvSpPr/>
          <p:nvPr/>
        </p:nvSpPr>
        <p:spPr>
          <a:xfrm>
            <a:off x="6000840" y="3929040"/>
            <a:ext cx="150012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9"/>
          <p:cNvSpPr/>
          <p:nvPr/>
        </p:nvSpPr>
        <p:spPr>
          <a:xfrm flipH="1">
            <a:off x="5584680" y="2391480"/>
            <a:ext cx="702000" cy="90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1"/>
          <p:cNvSpPr/>
          <p:nvPr/>
        </p:nvSpPr>
        <p:spPr>
          <a:xfrm flipV="1">
            <a:off x="1714680" y="3929040"/>
            <a:ext cx="178560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3"/>
          <p:cNvSpPr/>
          <p:nvPr/>
        </p:nvSpPr>
        <p:spPr>
          <a:xfrm flipH="1">
            <a:off x="4608360" y="4643280"/>
            <a:ext cx="10656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3987720" cy="299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500720" y="50004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642960" y="50004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4429080" y="3357720"/>
            <a:ext cx="3998880" cy="299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Наши бес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4" descr="IMG_3457.JPG"/>
          <p:cNvPicPr/>
          <p:nvPr/>
        </p:nvPicPr>
        <p:blipFill>
          <a:blip r:embed="rId1"/>
          <a:stretch/>
        </p:blipFill>
        <p:spPr>
          <a:xfrm rot="5117400">
            <a:off x="155160" y="2122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IMG_3466.JPG"/>
          <p:cNvPicPr/>
          <p:nvPr/>
        </p:nvPicPr>
        <p:blipFill>
          <a:blip r:embed="rId2"/>
          <a:stretch/>
        </p:blipFill>
        <p:spPr>
          <a:xfrm rot="5920800">
            <a:off x="4647960" y="23475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9" descr="20180608_071219.jpg"/>
          <p:cNvPicPr/>
          <p:nvPr/>
        </p:nvPicPr>
        <p:blipFill>
          <a:blip r:embed="rId1"/>
          <a:stretch/>
        </p:blipFill>
        <p:spPr>
          <a:xfrm rot="6729000">
            <a:off x="4960440" y="235584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 rot="3807000">
            <a:off x="250560" y="1735200"/>
            <a:ext cx="4252680" cy="3189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Наш праздни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20180608_102323.jpg"/>
          <p:cNvPicPr/>
          <p:nvPr/>
        </p:nvPicPr>
        <p:blipFill>
          <a:blip r:embed="rId1"/>
          <a:stretch/>
        </p:blipFill>
        <p:spPr>
          <a:xfrm>
            <a:off x="285840" y="15001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20180608_101953.jpg"/>
          <p:cNvPicPr/>
          <p:nvPr/>
        </p:nvPicPr>
        <p:blipFill>
          <a:blip r:embed="rId2"/>
          <a:stretch/>
        </p:blipFill>
        <p:spPr>
          <a:xfrm>
            <a:off x="4714920" y="29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ыставка раб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20180608_102052.jpg"/>
          <p:cNvPicPr/>
          <p:nvPr/>
        </p:nvPicPr>
        <p:blipFill>
          <a:blip r:embed="rId1"/>
          <a:stretch/>
        </p:blipFill>
        <p:spPr>
          <a:xfrm>
            <a:off x="285840" y="17146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5" descr="20180608_102101.jpg"/>
          <p:cNvPicPr/>
          <p:nvPr/>
        </p:nvPicPr>
        <p:blipFill>
          <a:blip r:embed="rId2"/>
          <a:stretch/>
        </p:blipFill>
        <p:spPr>
          <a:xfrm>
            <a:off x="4643280" y="30002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4" descr="20180608_102110.jpg"/>
          <p:cNvPicPr/>
          <p:nvPr/>
        </p:nvPicPr>
        <p:blipFill>
          <a:blip r:embed="rId1"/>
          <a:stretch/>
        </p:blipFill>
        <p:spPr>
          <a:xfrm>
            <a:off x="142920" y="285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5" descr="20180608_102127.jpg"/>
          <p:cNvPicPr/>
          <p:nvPr/>
        </p:nvPicPr>
        <p:blipFill>
          <a:blip r:embed="rId2"/>
          <a:stretch/>
        </p:blipFill>
        <p:spPr>
          <a:xfrm>
            <a:off x="4786200" y="3571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786200" y="3500280"/>
            <a:ext cx="4143600" cy="310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214200" y="3500280"/>
            <a:ext cx="4143600" cy="3106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 проекта: творческо-информ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 проекта: краткоср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 проекта: 1 неделя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04.06. по 08.06.201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 проекта: дети средней группы, родители, воспитатели, музыкальные руководители, дети старших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етей является одной из основных задач дошкольного учреждения. Чувство патриотизма многогранно по содержанию. Это и любовь к родным местам, и гордость за свой народ, и ощущение своей неразрывности с окружающим миром, и желание сохранять и приумножить богатство своей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этому нашей задачей 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являетс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ребенка любви и привязанности к своей семье, дому, детскому саду, улице, горо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природе и всему живому; воспитание уважения к тру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русским традициям и промысл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знаний о правах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представлений о город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 символами государств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рб, флаг, гимн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звитие чувства ответственности и гордости за достижения страны - данные задачи решаются во всех видах детской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занятиях, в играх, в труде, в бы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Задачи проекта для родител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активному вовлечению родителей в совместную деятельность с детьми через формирование представлений о родной стра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совмест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одителей совместно с детьми находить и отбирать необходимый материал по заданной 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одготовительный этап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ём проблемную ситуацию для включения детей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ую деятельность. («Бывает ли у страны День рождения?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ем с детьми тему проекта. (Заполняем модель трё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ов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м родителей о  теме предстоящего проек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её  актуа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ю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а Родина- Россия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имволики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сия - народы Росс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ию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творений В. Степан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рб Росс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"Флаг Росс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Флаг 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ивание гимн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ию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игр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флаг 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. Шмелё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ая пес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ивани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рб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крас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ию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малая Родин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\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флаг и герб г. Курчат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ию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ь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: совместный рисунок «День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НАСТЯ</cp:lastModifiedBy>
  <dcterms:modified xsi:type="dcterms:W3CDTF">2018-06-25T11:35:29Z</dcterms:modified>
  <cp:revision>83</cp:revision>
  <dc:subject/>
  <dc:title>Слайд 1</dc:title>
</cp:coreProperties>
</file>