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1E3-7A86-487F-81E9-1CF532C2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637-FC4D-4275-8156-775C83E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077-3E30-496B-92EC-8081FCA7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838-69D9-42FF-B0B7-9CCAE32E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B88-8F89-4BF1-AE3D-F8C012A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0EA-45DD-4B42-B378-D870E6A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74A-F957-46EC-92F2-53CCADF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75B-70DB-4DB3-A371-22780F1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7ED-1F0A-497B-8834-53D234C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E00-00A3-47B5-9CE1-5C380CE1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1F3-D7DD-4CB2-A9C6-F7C1735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5F7-A62B-4AFD-AC44-17FB6B7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9B9-8CEA-4E53-95CE-59D93F434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5761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гровые приемы и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на уроках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англий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"/>
          <p:cNvPicPr/>
          <p:nvPr/>
        </p:nvPicPr>
        <p:blipFill>
          <a:blip r:embed="rId2"/>
          <a:stretch/>
        </p:blipFill>
        <p:spPr>
          <a:xfrm>
            <a:off x="250920" y="3254400"/>
            <a:ext cx="3995640" cy="3603600"/>
          </a:xfrm>
          <a:prstGeom prst="rect">
            <a:avLst/>
          </a:prstGeom>
          <a:ln w="0">
            <a:noFill/>
          </a:ln>
        </p:spPr>
      </p:pic>
      <p:pic>
        <p:nvPicPr>
          <p:cNvPr id="44" name="усатый 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16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гра – путь детей к познанию мира, в котором они живу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 который они призваны изме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тобы сохранить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ащихся к предмету с первого до последн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оздать атмосферу поиска и творчеств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чтобы учиться было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ему нужно обучать на уроках англий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24000" y="26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Ради че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7690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игр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метод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юж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Роле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Дело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ми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гры-драма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ult16"/>
          <p:cNvPicPr/>
          <p:nvPr/>
        </p:nvPicPr>
        <p:blipFill>
          <a:blip r:embed="rId2"/>
          <a:stretch/>
        </p:blipFill>
        <p:spPr>
          <a:xfrm>
            <a:off x="5867280" y="2349360"/>
            <a:ext cx="2868840" cy="378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педагогиче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роц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знавательные, воспитательные, развив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Твор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офориен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ult9"/>
          <p:cNvPicPr/>
          <p:nvPr/>
        </p:nvPicPr>
        <p:blipFill>
          <a:blip r:embed="rId2"/>
          <a:stretch/>
        </p:blipFill>
        <p:spPr>
          <a:xfrm>
            <a:off x="468360" y="3500280"/>
            <a:ext cx="242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НУЖНО ВСЕГДА ПОМ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Выбор формы игры должен быть педагогически и дидактически обоснован.Нужно всегда знать ЦЕЛИ использов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2. В играх должно быть задействовано как можно больш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3. Игры должны соответствовать возрасту и языковым возможностям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. е. быть ДОСТУП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4. Игры служат развитию всех видов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s 2"/>
          <p:cNvPicPr/>
          <p:nvPr/>
        </p:nvPicPr>
        <p:blipFill>
          <a:blip r:embed="rId2"/>
          <a:stretch/>
        </p:blipFill>
        <p:spPr>
          <a:xfrm>
            <a:off x="6804000" y="3716280"/>
            <a:ext cx="20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Грамма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здать естественную ситуацию для употребления данного речевого образ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вить речевую активность и самосто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азвивать речевую реакци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Фоне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ренировать учащихся в произношении английски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громко и отчетливо читать стихотв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ировать навыки фонетического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движ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в качестве физкультминуток, для закрепления лексического и грам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Игры с пальчиками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для развития мелкой моторики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Natali</cp:lastModifiedBy>
  <dcterms:modified xsi:type="dcterms:W3CDTF">2020-07-21T07:12:02Z</dcterms:modified>
  <cp:revision>49</cp:revision>
  <dc:subject/>
  <dc:title>Слайд 1</dc:title>
</cp:coreProperties>
</file>