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3E4-7983-4F5D-B561-6FB8989B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E78-A464-406E-9C08-59C0BEFF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21C-0D17-4460-A7A1-BD5B5C87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396-E8F9-4225-A006-2497D8A5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0A3-E424-4D80-9455-979B9598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7CF-80DB-4D06-8D33-9F210D9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590-B83F-4454-8884-95A46949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0BD-1912-4A48-BC85-C98A7CC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1BF-7AAF-4B93-9D19-E515DEB4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D13-CDA9-49D1-8626-1304514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B65-1FCF-486C-BC08-CFDD5A4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15F-3C44-4963-9083-84307AE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3D6-F7D4-4BEF-B0FC-60AF824D9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3933720"/>
            <a:ext cx="6400800" cy="12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йникова Еле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1619280" y="404640"/>
            <a:ext cx="6400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инская  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2556000" y="609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Б.Казинка, 2020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539640" y="1773360"/>
            <a:ext cx="8374320" cy="1150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Закладки для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http://www.xn-----6kcctg4abn1dp4j.xn--p1ai/image/134622/tsvetnyie-zakladki.jpeg"/>
          <p:cNvPicPr/>
          <p:nvPr/>
        </p:nvPicPr>
        <p:blipFill>
          <a:blip r:embed="rId1"/>
          <a:stretch/>
        </p:blipFill>
        <p:spPr>
          <a:xfrm>
            <a:off x="1547640" y="3429000"/>
            <a:ext cx="338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468360" y="549360"/>
            <a:ext cx="8229600" cy="244800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Девиз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«научился сам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поделись с други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s://thumbs.dreamstime.com/b/%D1%81%D1%87%D0%B0%D1%81%D1%82%D0%BB%D0%B8%D0%B2%D0%BE%D0%B5-%D0%B8%D0%B7%D0%BE%D0%B1%D1%80%D0%B0%D0%B6%D0%B5%D0%BD%D0%B8%D0%B5-%D1%82%D0%B5%D0%BC%D1%8B-%D0%BA%D0%B0%D1%80%D0%B0%D0%BD%D0%B4%D0%B0%D1%88%D0%B0-121477432.jpg"/>
          <p:cNvPicPr/>
          <p:nvPr/>
        </p:nvPicPr>
        <p:blipFill>
          <a:blip r:embed="rId1"/>
          <a:stretch/>
        </p:blipFill>
        <p:spPr>
          <a:xfrm>
            <a:off x="3419640" y="3284640"/>
            <a:ext cx="21603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Необходимые матери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http://www.xn-----6kcctg4abn1dp4j.xn--p1ai/image/134622/tsvetnyie-zakladki.jpeg"/>
          <p:cNvPicPr/>
          <p:nvPr/>
        </p:nvPicPr>
        <p:blipFill>
          <a:blip r:embed="rId1"/>
          <a:stretch/>
        </p:blipFill>
        <p:spPr>
          <a:xfrm>
            <a:off x="1979640" y="1052640"/>
            <a:ext cx="554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Необходимые матери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static.my-shop.ru/product/f2/326/3258283.jpg"/>
          <p:cNvPicPr/>
          <p:nvPr/>
        </p:nvPicPr>
        <p:blipFill>
          <a:blip r:embed="rId1"/>
          <a:stretch/>
        </p:blipFill>
        <p:spPr>
          <a:xfrm>
            <a:off x="468360" y="1557360"/>
            <a:ext cx="4398840" cy="439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static.my-shop.ru/product/f2/326/3258283.jpg"/>
          <p:cNvPicPr/>
          <p:nvPr/>
        </p:nvPicPr>
        <p:blipFill>
          <a:blip r:embed="rId2"/>
          <a:stretch/>
        </p:blipFill>
        <p:spPr>
          <a:xfrm>
            <a:off x="179280" y="1268280"/>
            <a:ext cx="5113440" cy="511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krasnodarcena.ru/files/products/fSb3CfetbEENTkXxoTHXtEs16cKuah8p7CGKHOj1.jpeg"/>
          <p:cNvPicPr/>
          <p:nvPr/>
        </p:nvPicPr>
        <p:blipFill>
          <a:blip r:embed="rId3"/>
          <a:stretch/>
        </p:blipFill>
        <p:spPr>
          <a:xfrm>
            <a:off x="5580000" y="2492280"/>
            <a:ext cx="2737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Необходимые инстр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static.my-shop.ru/product/3/218/2173038.jpg"/>
          <p:cNvPicPr/>
          <p:nvPr/>
        </p:nvPicPr>
        <p:blipFill>
          <a:blip r:embed="rId1"/>
          <a:stretch/>
        </p:blipFill>
        <p:spPr>
          <a:xfrm>
            <a:off x="4572000" y="2276640"/>
            <a:ext cx="2664000" cy="266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s://www.ofsi.ru/upload/iblock/94d/872288_2.jpg"/>
          <p:cNvPicPr/>
          <p:nvPr/>
        </p:nvPicPr>
        <p:blipFill>
          <a:blip r:embed="rId2"/>
          <a:stretch/>
        </p:blipFill>
        <p:spPr>
          <a:xfrm>
            <a:off x="684360" y="1628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План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http://www.xn-----6kcctg4abn1dp4j.xn--p1ai/image/134622/tsvetnyie-zakladki.jpeg"/>
          <p:cNvPicPr/>
          <p:nvPr/>
        </p:nvPicPr>
        <p:blipFill>
          <a:blip r:embed="rId1"/>
          <a:stretch/>
        </p:blipFill>
        <p:spPr>
          <a:xfrm>
            <a:off x="611280" y="1268280"/>
            <a:ext cx="2916000" cy="2160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08000" y="126828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ачать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печатать образцы  шаблонов закладок, вырез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вести с обратной стороны картона простым карандашом  шаблон закл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резать по кон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Фломастером нарисовать мордочку живо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1187280" y="404640"/>
            <a:ext cx="7129800" cy="17290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Удачной рабо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s://thumbs.dreamstime.com/b/%D1%81%D1%87%D0%B0%D1%81%D1%82%D0%BB%D0%B8%D0%B2%D0%BE%D0%B5-%D0%B8%D0%B7%D0%BE%D0%B1%D1%80%D0%B0%D0%B6%D0%B5%D0%BD%D0%B8%D0%B5-%D1%82%D0%B5%D0%BC%D1%8B-%D0%BA%D0%B0%D1%80%D0%B0%D0%BD%D0%B4%D0%B0%D1%88%D0%B0-121477432.jpg"/>
          <p:cNvPicPr/>
          <p:nvPr/>
        </p:nvPicPr>
        <p:blipFill>
          <a:blip r:embed="rId1"/>
          <a:stretch/>
        </p:blipFill>
        <p:spPr>
          <a:xfrm>
            <a:off x="2843280" y="2276640"/>
            <a:ext cx="3097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04:25:47Z</dcterms:created>
  <dc:creator>Пользователь</dc:creator>
  <dc:description/>
  <dc:language>en-US</dc:language>
  <cp:lastModifiedBy>Роман</cp:lastModifiedBy>
  <dcterms:modified xsi:type="dcterms:W3CDTF">2020-06-23T13:22:52Z</dcterms:modified>
  <cp:revision>123</cp:revision>
  <dc:subject/>
  <dc:title>Интеллект карта</dc:title>
</cp:coreProperties>
</file>