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ED3-5124-4EDB-9B38-5270C1B0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DA7-0A75-4289-9F6C-D11C1737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72F-7E1D-485A-88C5-7D3E610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70F-CBDA-4E7E-823A-FBEC9349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765-225B-4EBE-8995-5C01DB1D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AEAB-2471-4C59-845C-FAC133F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3608-FDBE-447F-A874-B223445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D8A0-4BB9-4DF4-97C9-D5FD8CAF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066-6FE8-4B3F-ADC5-DFF051A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6F61-1CC3-4A3B-A572-240E70A1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E2BA-7681-4D2B-88E7-0F451EA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F52-3EAF-4288-B6B2-B165BFEA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7EE7-6AE0-4176-A800-0DA800B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1F6B-1457-4741-B145-889A5C6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70BD-79CB-4F2B-8B0A-296B15E1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7D73-A55B-4FAC-8E89-16215B3F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298C-6BBE-4971-83EC-A612500A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D94-3B8F-4EEA-BCA9-6FC52FC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DF9-0B1C-4711-B95A-B1A84B9A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892-D99A-4DB3-A3C1-B1A086B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FE7-345D-44D6-8430-2494F19E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B3F-1C17-4B99-94A5-2EE7F386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486-F130-4DFB-BCFB-90B26AE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82B-3654-4FF0-A129-43D11636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94F6-AE10-4A64-AFEC-94C465E2F6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1A33-A24C-4CDB-91FB-3AC3C75000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0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Проценты и бан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тегрированный у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219640" y="5923080"/>
            <a:ext cx="36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dff"/>
                </a:solidFill>
                <a:latin typeface="Comic Sans MS"/>
              </a:rPr>
              <a:t>Составители: Панфилова Ольга Романо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dff"/>
                </a:solidFill>
                <a:latin typeface="Comic Sans MS"/>
              </a:rPr>
              <a:t>                      </a:t>
            </a:r>
            <a:r>
              <a:rPr b="0" lang="ru-RU" sz="1200" spc="-1" strike="noStrike">
                <a:solidFill>
                  <a:srgbClr val="703dff"/>
                </a:solidFill>
                <a:latin typeface="Comic Sans MS"/>
              </a:rPr>
              <a:t>Лапутина Наталья Ивано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dff"/>
                </a:solidFill>
                <a:latin typeface="Comic Sans MS"/>
              </a:rPr>
              <a:t>МБОУ «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dff"/>
                </a:solidFill>
                <a:latin typeface="Comic Sans MS"/>
              </a:rPr>
              <a:t>школа № 2» г. Великие Луки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dff"/>
                </a:solidFill>
                <a:latin typeface="Comic Sans MS"/>
              </a:rPr>
              <a:t>Псковской област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799308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атематическая разминка у доск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провер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f4ba3"/>
                </a:solidFill>
                <a:latin typeface="Comic Sans MS"/>
              </a:rPr>
              <a:t>Заштриховать нужную часть круга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1 команд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611280" y="2708280"/>
            <a:ext cx="2160360" cy="216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5"/>
          <p:cNvSpPr/>
          <p:nvPr/>
        </p:nvSpPr>
        <p:spPr>
          <a:xfrm rot="4320000">
            <a:off x="3490920" y="4149720"/>
            <a:ext cx="2160720" cy="21607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372360" y="2708280"/>
            <a:ext cx="2160360" cy="2160720"/>
          </a:xfrm>
          <a:prstGeom prst="ellipse">
            <a:avLst/>
          </a:pr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6372360" y="3789360"/>
            <a:ext cx="2160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7451640" y="2708280"/>
            <a:ext cx="0" cy="21607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4572000" y="5300640"/>
            <a:ext cx="0" cy="10080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4572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3564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2"/>
          <p:cNvSpPr/>
          <p:nvPr/>
        </p:nvSpPr>
        <p:spPr>
          <a:xfrm flipH="1" flipV="1">
            <a:off x="3924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4572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692360" y="378936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5"/>
          <p:cNvSpPr/>
          <p:nvPr/>
        </p:nvSpPr>
        <p:spPr>
          <a:xfrm flipV="1">
            <a:off x="1692360" y="2923920"/>
            <a:ext cx="64764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16"/>
          <p:cNvSpPr/>
          <p:nvPr/>
        </p:nvSpPr>
        <p:spPr>
          <a:xfrm flipV="1">
            <a:off x="1692360" y="270792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104256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104292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9"/>
          <p:cNvSpPr/>
          <p:nvPr/>
        </p:nvSpPr>
        <p:spPr>
          <a:xfrm flipV="1">
            <a:off x="1692360" y="342864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1692360" y="3789360"/>
            <a:ext cx="10080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21"/>
          <p:cNvSpPr/>
          <p:nvPr/>
        </p:nvSpPr>
        <p:spPr>
          <a:xfrm flipH="1" flipV="1">
            <a:off x="610920" y="3573360"/>
            <a:ext cx="1081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22"/>
          <p:cNvSpPr/>
          <p:nvPr/>
        </p:nvSpPr>
        <p:spPr>
          <a:xfrm flipH="1">
            <a:off x="684360" y="3789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971640" y="494172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6948360" y="5013360"/>
            <a:ext cx="10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3924360" y="342900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26"/>
          <p:cNvSpPr/>
          <p:nvPr/>
        </p:nvSpPr>
        <p:spPr>
          <a:xfrm>
            <a:off x="3924360" y="4149720"/>
            <a:ext cx="1303200" cy="1162080"/>
          </a:xfrm>
          <a:custGeom>
            <a:avLst/>
            <a:gdLst/>
            <a:ahLst/>
            <a:rect l="l" t="t" r="r" b="b"/>
            <a:pathLst>
              <a:path w="821" h="732">
                <a:moveTo>
                  <a:pt x="821" y="143"/>
                </a:moveTo>
                <a:lnTo>
                  <a:pt x="413" y="732"/>
                </a:lnTo>
                <a:lnTo>
                  <a:pt x="1" y="132"/>
                </a:lnTo>
                <a:cubicBezTo>
                  <a:pt x="0" y="126"/>
                  <a:pt x="12" y="126"/>
                  <a:pt x="18" y="132"/>
                </a:cubicBezTo>
                <a:cubicBezTo>
                  <a:pt x="26" y="129"/>
                  <a:pt x="15" y="137"/>
                  <a:pt x="23" y="137"/>
                </a:cubicBezTo>
                <a:cubicBezTo>
                  <a:pt x="31" y="137"/>
                  <a:pt x="43" y="111"/>
                  <a:pt x="35" y="109"/>
                </a:cubicBezTo>
                <a:cubicBezTo>
                  <a:pt x="20" y="106"/>
                  <a:pt x="16" y="130"/>
                  <a:pt x="1" y="132"/>
                </a:cubicBezTo>
                <a:cubicBezTo>
                  <a:pt x="30" y="122"/>
                  <a:pt x="55" y="101"/>
                  <a:pt x="85" y="92"/>
                </a:cubicBezTo>
                <a:cubicBezTo>
                  <a:pt x="99" y="76"/>
                  <a:pt x="117" y="72"/>
                  <a:pt x="136" y="64"/>
                </a:cubicBezTo>
                <a:cubicBezTo>
                  <a:pt x="179" y="46"/>
                  <a:pt x="203" y="39"/>
                  <a:pt x="249" y="30"/>
                </a:cubicBezTo>
                <a:cubicBezTo>
                  <a:pt x="258" y="28"/>
                  <a:pt x="263" y="28"/>
                  <a:pt x="272" y="25"/>
                </a:cubicBezTo>
                <a:cubicBezTo>
                  <a:pt x="289" y="20"/>
                  <a:pt x="323" y="13"/>
                  <a:pt x="323" y="13"/>
                </a:cubicBezTo>
                <a:cubicBezTo>
                  <a:pt x="368" y="8"/>
                  <a:pt x="306" y="13"/>
                  <a:pt x="351" y="2"/>
                </a:cubicBezTo>
                <a:cubicBezTo>
                  <a:pt x="364" y="0"/>
                  <a:pt x="357" y="7"/>
                  <a:pt x="379" y="8"/>
                </a:cubicBezTo>
                <a:cubicBezTo>
                  <a:pt x="401" y="9"/>
                  <a:pt x="457" y="5"/>
                  <a:pt x="486" y="8"/>
                </a:cubicBezTo>
                <a:cubicBezTo>
                  <a:pt x="520" y="15"/>
                  <a:pt x="532" y="13"/>
                  <a:pt x="554" y="25"/>
                </a:cubicBezTo>
                <a:cubicBezTo>
                  <a:pt x="599" y="36"/>
                  <a:pt x="549" y="21"/>
                  <a:pt x="616" y="41"/>
                </a:cubicBezTo>
                <a:cubicBezTo>
                  <a:pt x="622" y="41"/>
                  <a:pt x="664" y="52"/>
                  <a:pt x="678" y="58"/>
                </a:cubicBezTo>
                <a:cubicBezTo>
                  <a:pt x="717" y="74"/>
                  <a:pt x="747" y="95"/>
                  <a:pt x="786" y="109"/>
                </a:cubicBezTo>
                <a:cubicBezTo>
                  <a:pt x="794" y="122"/>
                  <a:pt x="810" y="133"/>
                  <a:pt x="821" y="143"/>
                </a:cubicBezTo>
                <a:close/>
              </a:path>
            </a:pathLst>
          </a:custGeom>
          <a:solidFill>
            <a:srgbClr val="703dff"/>
          </a:solidFill>
          <a:ln w="284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Freeform 27"/>
          <p:cNvSpPr/>
          <p:nvPr/>
        </p:nvSpPr>
        <p:spPr>
          <a:xfrm>
            <a:off x="611280" y="2708280"/>
            <a:ext cx="2114280" cy="2160720"/>
          </a:xfrm>
          <a:custGeom>
            <a:avLst/>
            <a:gdLst/>
            <a:ahLst/>
            <a:rect l="l" t="t" r="r" b="b"/>
            <a:pathLst>
              <a:path w="1332" h="1361">
                <a:moveTo>
                  <a:pt x="676" y="0"/>
                </a:moveTo>
                <a:lnTo>
                  <a:pt x="676" y="681"/>
                </a:lnTo>
                <a:lnTo>
                  <a:pt x="1311" y="862"/>
                </a:lnTo>
                <a:lnTo>
                  <a:pt x="1332" y="869"/>
                </a:lnTo>
                <a:lnTo>
                  <a:pt x="1298" y="954"/>
                </a:lnTo>
                <a:lnTo>
                  <a:pt x="1272" y="999"/>
                </a:lnTo>
                <a:lnTo>
                  <a:pt x="1246" y="1051"/>
                </a:lnTo>
                <a:lnTo>
                  <a:pt x="1214" y="1089"/>
                </a:lnTo>
                <a:lnTo>
                  <a:pt x="1175" y="1134"/>
                </a:lnTo>
                <a:lnTo>
                  <a:pt x="1129" y="1180"/>
                </a:lnTo>
                <a:lnTo>
                  <a:pt x="1084" y="1225"/>
                </a:lnTo>
                <a:lnTo>
                  <a:pt x="1033" y="1253"/>
                </a:lnTo>
                <a:lnTo>
                  <a:pt x="994" y="1287"/>
                </a:lnTo>
                <a:lnTo>
                  <a:pt x="926" y="1315"/>
                </a:lnTo>
                <a:lnTo>
                  <a:pt x="852" y="1338"/>
                </a:lnTo>
                <a:lnTo>
                  <a:pt x="768" y="1355"/>
                </a:lnTo>
                <a:lnTo>
                  <a:pt x="676" y="1361"/>
                </a:lnTo>
                <a:lnTo>
                  <a:pt x="630" y="1361"/>
                </a:lnTo>
                <a:lnTo>
                  <a:pt x="576" y="1355"/>
                </a:lnTo>
                <a:lnTo>
                  <a:pt x="536" y="1349"/>
                </a:lnTo>
                <a:lnTo>
                  <a:pt x="474" y="1332"/>
                </a:lnTo>
                <a:lnTo>
                  <a:pt x="429" y="1315"/>
                </a:lnTo>
                <a:lnTo>
                  <a:pt x="395" y="1304"/>
                </a:lnTo>
                <a:lnTo>
                  <a:pt x="344" y="1276"/>
                </a:lnTo>
                <a:lnTo>
                  <a:pt x="316" y="1259"/>
                </a:lnTo>
                <a:lnTo>
                  <a:pt x="267" y="1225"/>
                </a:lnTo>
                <a:lnTo>
                  <a:pt x="222" y="1180"/>
                </a:lnTo>
                <a:lnTo>
                  <a:pt x="177" y="1134"/>
                </a:lnTo>
                <a:lnTo>
                  <a:pt x="131" y="1089"/>
                </a:lnTo>
                <a:lnTo>
                  <a:pt x="96" y="1033"/>
                </a:lnTo>
                <a:lnTo>
                  <a:pt x="73" y="988"/>
                </a:lnTo>
                <a:lnTo>
                  <a:pt x="45" y="931"/>
                </a:lnTo>
                <a:lnTo>
                  <a:pt x="28" y="880"/>
                </a:lnTo>
                <a:lnTo>
                  <a:pt x="11" y="830"/>
                </a:lnTo>
                <a:lnTo>
                  <a:pt x="5" y="767"/>
                </a:lnTo>
                <a:lnTo>
                  <a:pt x="0" y="728"/>
                </a:lnTo>
                <a:lnTo>
                  <a:pt x="0" y="677"/>
                </a:lnTo>
                <a:lnTo>
                  <a:pt x="0" y="643"/>
                </a:lnTo>
                <a:lnTo>
                  <a:pt x="0" y="592"/>
                </a:lnTo>
                <a:lnTo>
                  <a:pt x="11" y="525"/>
                </a:lnTo>
                <a:lnTo>
                  <a:pt x="28" y="474"/>
                </a:lnTo>
                <a:lnTo>
                  <a:pt x="45" y="417"/>
                </a:lnTo>
                <a:lnTo>
                  <a:pt x="67" y="372"/>
                </a:lnTo>
                <a:lnTo>
                  <a:pt x="107" y="310"/>
                </a:lnTo>
                <a:lnTo>
                  <a:pt x="135" y="265"/>
                </a:lnTo>
                <a:lnTo>
                  <a:pt x="177" y="227"/>
                </a:lnTo>
                <a:lnTo>
                  <a:pt x="222" y="182"/>
                </a:lnTo>
                <a:lnTo>
                  <a:pt x="267" y="136"/>
                </a:lnTo>
                <a:lnTo>
                  <a:pt x="282" y="124"/>
                </a:lnTo>
                <a:lnTo>
                  <a:pt x="310" y="107"/>
                </a:lnTo>
                <a:lnTo>
                  <a:pt x="355" y="78"/>
                </a:lnTo>
                <a:lnTo>
                  <a:pt x="412" y="56"/>
                </a:lnTo>
                <a:lnTo>
                  <a:pt x="474" y="28"/>
                </a:lnTo>
                <a:lnTo>
                  <a:pt x="536" y="16"/>
                </a:lnTo>
                <a:lnTo>
                  <a:pt x="593" y="5"/>
                </a:lnTo>
                <a:lnTo>
                  <a:pt x="67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Freeform 28"/>
          <p:cNvSpPr/>
          <p:nvPr/>
        </p:nvSpPr>
        <p:spPr>
          <a:xfrm>
            <a:off x="6372360" y="3789360"/>
            <a:ext cx="2160360" cy="1079640"/>
          </a:xfrm>
          <a:custGeom>
            <a:avLst/>
            <a:gdLst/>
            <a:ahLst/>
            <a:rect l="l" t="t" r="r" b="b"/>
            <a:pathLst>
              <a:path w="1361" h="680">
                <a:moveTo>
                  <a:pt x="0" y="0"/>
                </a:moveTo>
                <a:lnTo>
                  <a:pt x="1361" y="0"/>
                </a:lnTo>
                <a:lnTo>
                  <a:pt x="1356" y="47"/>
                </a:lnTo>
                <a:lnTo>
                  <a:pt x="1351" y="92"/>
                </a:lnTo>
                <a:lnTo>
                  <a:pt x="1339" y="143"/>
                </a:lnTo>
                <a:lnTo>
                  <a:pt x="1328" y="194"/>
                </a:lnTo>
                <a:lnTo>
                  <a:pt x="1315" y="227"/>
                </a:lnTo>
                <a:lnTo>
                  <a:pt x="1294" y="278"/>
                </a:lnTo>
                <a:lnTo>
                  <a:pt x="1277" y="318"/>
                </a:lnTo>
                <a:lnTo>
                  <a:pt x="1249" y="363"/>
                </a:lnTo>
                <a:lnTo>
                  <a:pt x="1215" y="408"/>
                </a:lnTo>
                <a:lnTo>
                  <a:pt x="1179" y="453"/>
                </a:lnTo>
                <a:lnTo>
                  <a:pt x="1134" y="499"/>
                </a:lnTo>
                <a:lnTo>
                  <a:pt x="1091" y="538"/>
                </a:lnTo>
                <a:lnTo>
                  <a:pt x="1046" y="566"/>
                </a:lnTo>
                <a:lnTo>
                  <a:pt x="1001" y="600"/>
                </a:lnTo>
                <a:lnTo>
                  <a:pt x="961" y="623"/>
                </a:lnTo>
                <a:lnTo>
                  <a:pt x="910" y="645"/>
                </a:lnTo>
                <a:lnTo>
                  <a:pt x="859" y="662"/>
                </a:lnTo>
                <a:lnTo>
                  <a:pt x="814" y="668"/>
                </a:lnTo>
                <a:lnTo>
                  <a:pt x="771" y="680"/>
                </a:lnTo>
                <a:lnTo>
                  <a:pt x="726" y="680"/>
                </a:lnTo>
                <a:lnTo>
                  <a:pt x="680" y="680"/>
                </a:lnTo>
                <a:lnTo>
                  <a:pt x="635" y="680"/>
                </a:lnTo>
                <a:lnTo>
                  <a:pt x="577" y="668"/>
                </a:lnTo>
                <a:lnTo>
                  <a:pt x="526" y="657"/>
                </a:lnTo>
                <a:lnTo>
                  <a:pt x="464" y="645"/>
                </a:lnTo>
                <a:lnTo>
                  <a:pt x="402" y="612"/>
                </a:lnTo>
                <a:lnTo>
                  <a:pt x="357" y="595"/>
                </a:lnTo>
                <a:lnTo>
                  <a:pt x="306" y="561"/>
                </a:lnTo>
                <a:lnTo>
                  <a:pt x="266" y="533"/>
                </a:lnTo>
                <a:lnTo>
                  <a:pt x="233" y="504"/>
                </a:lnTo>
                <a:lnTo>
                  <a:pt x="199" y="470"/>
                </a:lnTo>
                <a:lnTo>
                  <a:pt x="181" y="453"/>
                </a:lnTo>
                <a:lnTo>
                  <a:pt x="137" y="408"/>
                </a:lnTo>
                <a:lnTo>
                  <a:pt x="108" y="352"/>
                </a:lnTo>
                <a:cubicBezTo>
                  <a:pt x="103" y="344"/>
                  <a:pt x="113" y="363"/>
                  <a:pt x="108" y="357"/>
                </a:cubicBezTo>
                <a:cubicBezTo>
                  <a:pt x="102" y="351"/>
                  <a:pt x="87" y="334"/>
                  <a:pt x="80" y="318"/>
                </a:cubicBezTo>
                <a:lnTo>
                  <a:pt x="58" y="267"/>
                </a:lnTo>
                <a:lnTo>
                  <a:pt x="35" y="205"/>
                </a:lnTo>
                <a:lnTo>
                  <a:pt x="18" y="143"/>
                </a:lnTo>
                <a:lnTo>
                  <a:pt x="12" y="75"/>
                </a:lnTo>
                <a:lnTo>
                  <a:pt x="0" y="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826920" y="3860640"/>
            <a:ext cx="15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/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3851280" y="4076640"/>
            <a:ext cx="144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1/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6877080" y="3860640"/>
            <a:ext cx="115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99308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атематическая разминка у доск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провер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f4ba3"/>
                </a:solidFill>
                <a:latin typeface="Comic Sans MS"/>
              </a:rPr>
              <a:t>Заштриховать нужную часть круга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 команд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611280" y="2708280"/>
            <a:ext cx="2160360" cy="216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5"/>
          <p:cNvSpPr/>
          <p:nvPr/>
        </p:nvSpPr>
        <p:spPr>
          <a:xfrm rot="4320000">
            <a:off x="3490920" y="4149720"/>
            <a:ext cx="2160720" cy="21607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6372360" y="2708280"/>
            <a:ext cx="2160360" cy="2160720"/>
          </a:xfrm>
          <a:prstGeom prst="ellipse">
            <a:avLst/>
          </a:pr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6372360" y="3789360"/>
            <a:ext cx="2160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7451640" y="2708280"/>
            <a:ext cx="0" cy="21607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9"/>
          <p:cNvSpPr/>
          <p:nvPr/>
        </p:nvSpPr>
        <p:spPr>
          <a:xfrm>
            <a:off x="4572000" y="5300640"/>
            <a:ext cx="0" cy="10080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4572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1"/>
          <p:cNvSpPr/>
          <p:nvPr/>
        </p:nvSpPr>
        <p:spPr>
          <a:xfrm flipH="1">
            <a:off x="3564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12"/>
          <p:cNvSpPr/>
          <p:nvPr/>
        </p:nvSpPr>
        <p:spPr>
          <a:xfrm flipH="1" flipV="1">
            <a:off x="3924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13"/>
          <p:cNvSpPr/>
          <p:nvPr/>
        </p:nvSpPr>
        <p:spPr>
          <a:xfrm flipV="1">
            <a:off x="4572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1692360" y="378936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5"/>
          <p:cNvSpPr/>
          <p:nvPr/>
        </p:nvSpPr>
        <p:spPr>
          <a:xfrm flipV="1">
            <a:off x="1692360" y="2923920"/>
            <a:ext cx="64764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6"/>
          <p:cNvSpPr/>
          <p:nvPr/>
        </p:nvSpPr>
        <p:spPr>
          <a:xfrm flipV="1">
            <a:off x="1692360" y="270792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17"/>
          <p:cNvSpPr/>
          <p:nvPr/>
        </p:nvSpPr>
        <p:spPr>
          <a:xfrm flipH="1">
            <a:off x="104256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104292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Line 19"/>
          <p:cNvSpPr/>
          <p:nvPr/>
        </p:nvSpPr>
        <p:spPr>
          <a:xfrm flipV="1">
            <a:off x="1692360" y="342864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20"/>
          <p:cNvSpPr/>
          <p:nvPr/>
        </p:nvSpPr>
        <p:spPr>
          <a:xfrm>
            <a:off x="1692360" y="3789360"/>
            <a:ext cx="10080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21"/>
          <p:cNvSpPr/>
          <p:nvPr/>
        </p:nvSpPr>
        <p:spPr>
          <a:xfrm flipH="1" flipV="1">
            <a:off x="610920" y="3573360"/>
            <a:ext cx="1081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22"/>
          <p:cNvSpPr/>
          <p:nvPr/>
        </p:nvSpPr>
        <p:spPr>
          <a:xfrm flipH="1">
            <a:off x="684360" y="3789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971640" y="494172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6948360" y="5013360"/>
            <a:ext cx="10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75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3924360" y="342900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26"/>
          <p:cNvSpPr/>
          <p:nvPr/>
        </p:nvSpPr>
        <p:spPr>
          <a:xfrm>
            <a:off x="6372360" y="2708280"/>
            <a:ext cx="2160360" cy="2160720"/>
          </a:xfrm>
          <a:custGeom>
            <a:avLst/>
            <a:gdLst/>
            <a:ahLst/>
            <a:rect l="l" t="t" r="r" b="b"/>
            <a:pathLst>
              <a:path w="1361" h="1361">
                <a:moveTo>
                  <a:pt x="680" y="0"/>
                </a:moveTo>
                <a:lnTo>
                  <a:pt x="680" y="681"/>
                </a:lnTo>
                <a:lnTo>
                  <a:pt x="1361" y="681"/>
                </a:lnTo>
                <a:lnTo>
                  <a:pt x="1358" y="727"/>
                </a:lnTo>
                <a:lnTo>
                  <a:pt x="1345" y="844"/>
                </a:lnTo>
                <a:lnTo>
                  <a:pt x="1358" y="779"/>
                </a:lnTo>
                <a:lnTo>
                  <a:pt x="1319" y="909"/>
                </a:lnTo>
                <a:lnTo>
                  <a:pt x="1315" y="908"/>
                </a:lnTo>
                <a:lnTo>
                  <a:pt x="1293" y="973"/>
                </a:lnTo>
                <a:lnTo>
                  <a:pt x="1267" y="1025"/>
                </a:lnTo>
                <a:lnTo>
                  <a:pt x="1225" y="1089"/>
                </a:lnTo>
                <a:lnTo>
                  <a:pt x="1176" y="1142"/>
                </a:lnTo>
                <a:lnTo>
                  <a:pt x="1138" y="1180"/>
                </a:lnTo>
                <a:lnTo>
                  <a:pt x="1112" y="1206"/>
                </a:lnTo>
                <a:lnTo>
                  <a:pt x="1089" y="1225"/>
                </a:lnTo>
                <a:lnTo>
                  <a:pt x="1028" y="1258"/>
                </a:lnTo>
                <a:lnTo>
                  <a:pt x="976" y="1297"/>
                </a:lnTo>
                <a:lnTo>
                  <a:pt x="879" y="1336"/>
                </a:lnTo>
                <a:lnTo>
                  <a:pt x="931" y="1316"/>
                </a:lnTo>
                <a:lnTo>
                  <a:pt x="840" y="1349"/>
                </a:lnTo>
                <a:lnTo>
                  <a:pt x="808" y="1355"/>
                </a:lnTo>
                <a:lnTo>
                  <a:pt x="771" y="1361"/>
                </a:lnTo>
                <a:lnTo>
                  <a:pt x="726" y="1361"/>
                </a:lnTo>
                <a:lnTo>
                  <a:pt x="680" y="1361"/>
                </a:lnTo>
                <a:lnTo>
                  <a:pt x="635" y="1361"/>
                </a:lnTo>
                <a:lnTo>
                  <a:pt x="568" y="1349"/>
                </a:lnTo>
                <a:lnTo>
                  <a:pt x="516" y="1336"/>
                </a:lnTo>
                <a:lnTo>
                  <a:pt x="454" y="1316"/>
                </a:lnTo>
                <a:lnTo>
                  <a:pt x="380" y="1284"/>
                </a:lnTo>
                <a:lnTo>
                  <a:pt x="322" y="1258"/>
                </a:lnTo>
                <a:lnTo>
                  <a:pt x="272" y="1225"/>
                </a:lnTo>
                <a:lnTo>
                  <a:pt x="227" y="1180"/>
                </a:lnTo>
                <a:lnTo>
                  <a:pt x="181" y="1134"/>
                </a:lnTo>
                <a:lnTo>
                  <a:pt x="141" y="1090"/>
                </a:lnTo>
                <a:lnTo>
                  <a:pt x="109" y="1045"/>
                </a:lnTo>
                <a:lnTo>
                  <a:pt x="83" y="999"/>
                </a:lnTo>
                <a:lnTo>
                  <a:pt x="63" y="954"/>
                </a:lnTo>
                <a:lnTo>
                  <a:pt x="45" y="908"/>
                </a:lnTo>
                <a:lnTo>
                  <a:pt x="31" y="870"/>
                </a:lnTo>
                <a:lnTo>
                  <a:pt x="12" y="805"/>
                </a:lnTo>
                <a:lnTo>
                  <a:pt x="12" y="766"/>
                </a:lnTo>
                <a:lnTo>
                  <a:pt x="5" y="734"/>
                </a:lnTo>
                <a:lnTo>
                  <a:pt x="0" y="681"/>
                </a:lnTo>
                <a:lnTo>
                  <a:pt x="5" y="611"/>
                </a:lnTo>
                <a:lnTo>
                  <a:pt x="18" y="540"/>
                </a:lnTo>
                <a:lnTo>
                  <a:pt x="24" y="488"/>
                </a:lnTo>
                <a:lnTo>
                  <a:pt x="37" y="456"/>
                </a:lnTo>
                <a:lnTo>
                  <a:pt x="57" y="410"/>
                </a:lnTo>
                <a:lnTo>
                  <a:pt x="89" y="346"/>
                </a:lnTo>
                <a:lnTo>
                  <a:pt x="115" y="300"/>
                </a:lnTo>
                <a:lnTo>
                  <a:pt x="147" y="268"/>
                </a:lnTo>
                <a:lnTo>
                  <a:pt x="181" y="227"/>
                </a:lnTo>
                <a:lnTo>
                  <a:pt x="227" y="182"/>
                </a:lnTo>
                <a:lnTo>
                  <a:pt x="272" y="136"/>
                </a:lnTo>
                <a:lnTo>
                  <a:pt x="303" y="119"/>
                </a:lnTo>
                <a:lnTo>
                  <a:pt x="348" y="93"/>
                </a:lnTo>
                <a:lnTo>
                  <a:pt x="400" y="67"/>
                </a:lnTo>
                <a:lnTo>
                  <a:pt x="406" y="61"/>
                </a:lnTo>
                <a:lnTo>
                  <a:pt x="432" y="54"/>
                </a:lnTo>
                <a:lnTo>
                  <a:pt x="478" y="35"/>
                </a:lnTo>
                <a:lnTo>
                  <a:pt x="516" y="22"/>
                </a:lnTo>
                <a:lnTo>
                  <a:pt x="575" y="9"/>
                </a:lnTo>
                <a:lnTo>
                  <a:pt x="635" y="0"/>
                </a:lnTo>
                <a:lnTo>
                  <a:pt x="680" y="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27"/>
          <p:cNvSpPr/>
          <p:nvPr/>
        </p:nvSpPr>
        <p:spPr>
          <a:xfrm>
            <a:off x="1042920" y="2701800"/>
            <a:ext cx="1657440" cy="1087560"/>
          </a:xfrm>
          <a:custGeom>
            <a:avLst/>
            <a:gdLst/>
            <a:ahLst/>
            <a:rect l="l" t="t" r="r" b="b"/>
            <a:pathLst>
              <a:path w="1044" h="685">
                <a:moveTo>
                  <a:pt x="0" y="140"/>
                </a:moveTo>
                <a:lnTo>
                  <a:pt x="409" y="685"/>
                </a:lnTo>
                <a:lnTo>
                  <a:pt x="1044" y="458"/>
                </a:lnTo>
                <a:lnTo>
                  <a:pt x="1026" y="414"/>
                </a:lnTo>
                <a:lnTo>
                  <a:pt x="993" y="356"/>
                </a:lnTo>
                <a:lnTo>
                  <a:pt x="974" y="311"/>
                </a:lnTo>
                <a:lnTo>
                  <a:pt x="929" y="253"/>
                </a:lnTo>
                <a:lnTo>
                  <a:pt x="883" y="194"/>
                </a:lnTo>
                <a:lnTo>
                  <a:pt x="832" y="155"/>
                </a:lnTo>
                <a:lnTo>
                  <a:pt x="780" y="110"/>
                </a:lnTo>
                <a:lnTo>
                  <a:pt x="734" y="97"/>
                </a:lnTo>
                <a:lnTo>
                  <a:pt x="689" y="71"/>
                </a:lnTo>
                <a:lnTo>
                  <a:pt x="618" y="45"/>
                </a:lnTo>
                <a:lnTo>
                  <a:pt x="547" y="13"/>
                </a:lnTo>
                <a:lnTo>
                  <a:pt x="476" y="0"/>
                </a:lnTo>
                <a:lnTo>
                  <a:pt x="411" y="0"/>
                </a:lnTo>
                <a:lnTo>
                  <a:pt x="366" y="0"/>
                </a:lnTo>
                <a:lnTo>
                  <a:pt x="281" y="13"/>
                </a:lnTo>
                <a:lnTo>
                  <a:pt x="210" y="32"/>
                </a:lnTo>
                <a:lnTo>
                  <a:pt x="136" y="50"/>
                </a:lnTo>
                <a:lnTo>
                  <a:pt x="74" y="84"/>
                </a:lnTo>
                <a:lnTo>
                  <a:pt x="29" y="117"/>
                </a:lnTo>
                <a:lnTo>
                  <a:pt x="0" y="1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28"/>
          <p:cNvSpPr/>
          <p:nvPr/>
        </p:nvSpPr>
        <p:spPr>
          <a:xfrm>
            <a:off x="3492360" y="4365720"/>
            <a:ext cx="2159280" cy="1942920"/>
          </a:xfrm>
          <a:custGeom>
            <a:avLst/>
            <a:gdLst/>
            <a:ahLst/>
            <a:rect l="l" t="t" r="r" b="b"/>
            <a:pathLst>
              <a:path w="1360" h="1224">
                <a:moveTo>
                  <a:pt x="272" y="0"/>
                </a:moveTo>
                <a:lnTo>
                  <a:pt x="680" y="589"/>
                </a:lnTo>
                <a:lnTo>
                  <a:pt x="1088" y="0"/>
                </a:lnTo>
                <a:lnTo>
                  <a:pt x="1146" y="33"/>
                </a:lnTo>
                <a:lnTo>
                  <a:pt x="1134" y="45"/>
                </a:lnTo>
                <a:lnTo>
                  <a:pt x="1191" y="91"/>
                </a:lnTo>
                <a:lnTo>
                  <a:pt x="1211" y="130"/>
                </a:lnTo>
                <a:lnTo>
                  <a:pt x="1224" y="136"/>
                </a:lnTo>
                <a:lnTo>
                  <a:pt x="1250" y="188"/>
                </a:lnTo>
                <a:lnTo>
                  <a:pt x="1282" y="240"/>
                </a:lnTo>
                <a:lnTo>
                  <a:pt x="1314" y="311"/>
                </a:lnTo>
                <a:lnTo>
                  <a:pt x="1327" y="363"/>
                </a:lnTo>
                <a:lnTo>
                  <a:pt x="1347" y="415"/>
                </a:lnTo>
                <a:lnTo>
                  <a:pt x="1353" y="473"/>
                </a:lnTo>
                <a:lnTo>
                  <a:pt x="1360" y="531"/>
                </a:lnTo>
                <a:lnTo>
                  <a:pt x="1353" y="590"/>
                </a:lnTo>
                <a:lnTo>
                  <a:pt x="1347" y="641"/>
                </a:lnTo>
                <a:lnTo>
                  <a:pt x="1340" y="693"/>
                </a:lnTo>
                <a:lnTo>
                  <a:pt x="1334" y="738"/>
                </a:lnTo>
                <a:lnTo>
                  <a:pt x="1321" y="777"/>
                </a:lnTo>
                <a:lnTo>
                  <a:pt x="1295" y="835"/>
                </a:lnTo>
                <a:lnTo>
                  <a:pt x="1262" y="887"/>
                </a:lnTo>
                <a:lnTo>
                  <a:pt x="1224" y="952"/>
                </a:lnTo>
                <a:lnTo>
                  <a:pt x="1179" y="998"/>
                </a:lnTo>
                <a:lnTo>
                  <a:pt x="1134" y="1043"/>
                </a:lnTo>
                <a:lnTo>
                  <a:pt x="1088" y="1088"/>
                </a:lnTo>
                <a:lnTo>
                  <a:pt x="1023" y="1127"/>
                </a:lnTo>
                <a:lnTo>
                  <a:pt x="965" y="1159"/>
                </a:lnTo>
                <a:lnTo>
                  <a:pt x="907" y="1191"/>
                </a:lnTo>
                <a:lnTo>
                  <a:pt x="842" y="1217"/>
                </a:lnTo>
                <a:lnTo>
                  <a:pt x="771" y="1224"/>
                </a:lnTo>
                <a:lnTo>
                  <a:pt x="706" y="1224"/>
                </a:lnTo>
                <a:lnTo>
                  <a:pt x="635" y="1224"/>
                </a:lnTo>
                <a:lnTo>
                  <a:pt x="564" y="1217"/>
                </a:lnTo>
                <a:lnTo>
                  <a:pt x="505" y="1204"/>
                </a:lnTo>
                <a:lnTo>
                  <a:pt x="415" y="1172"/>
                </a:lnTo>
                <a:lnTo>
                  <a:pt x="350" y="1140"/>
                </a:lnTo>
                <a:lnTo>
                  <a:pt x="272" y="1088"/>
                </a:lnTo>
                <a:lnTo>
                  <a:pt x="233" y="1062"/>
                </a:lnTo>
                <a:lnTo>
                  <a:pt x="201" y="1017"/>
                </a:lnTo>
                <a:lnTo>
                  <a:pt x="169" y="991"/>
                </a:lnTo>
                <a:lnTo>
                  <a:pt x="136" y="952"/>
                </a:lnTo>
                <a:lnTo>
                  <a:pt x="104" y="913"/>
                </a:lnTo>
                <a:lnTo>
                  <a:pt x="65" y="848"/>
                </a:lnTo>
                <a:lnTo>
                  <a:pt x="33" y="784"/>
                </a:lnTo>
                <a:lnTo>
                  <a:pt x="13" y="706"/>
                </a:lnTo>
                <a:lnTo>
                  <a:pt x="0" y="641"/>
                </a:lnTo>
                <a:lnTo>
                  <a:pt x="0" y="589"/>
                </a:lnTo>
                <a:lnTo>
                  <a:pt x="0" y="544"/>
                </a:lnTo>
                <a:lnTo>
                  <a:pt x="0" y="499"/>
                </a:lnTo>
                <a:lnTo>
                  <a:pt x="0" y="415"/>
                </a:lnTo>
                <a:lnTo>
                  <a:pt x="26" y="344"/>
                </a:lnTo>
                <a:lnTo>
                  <a:pt x="45" y="272"/>
                </a:lnTo>
                <a:lnTo>
                  <a:pt x="85" y="221"/>
                </a:lnTo>
                <a:lnTo>
                  <a:pt x="110" y="169"/>
                </a:lnTo>
                <a:lnTo>
                  <a:pt x="136" y="136"/>
                </a:lnTo>
                <a:lnTo>
                  <a:pt x="175" y="91"/>
                </a:lnTo>
                <a:lnTo>
                  <a:pt x="201" y="59"/>
                </a:lnTo>
                <a:lnTo>
                  <a:pt x="227" y="33"/>
                </a:lnTo>
                <a:lnTo>
                  <a:pt x="272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1332000" y="2852640"/>
            <a:ext cx="12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3/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3959280" y="537372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4/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31"/>
          <p:cNvSpPr/>
          <p:nvPr/>
        </p:nvSpPr>
        <p:spPr>
          <a:xfrm>
            <a:off x="6804000" y="3860640"/>
            <a:ext cx="12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3/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640" y="152280"/>
            <a:ext cx="82803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атематическая разминка у доск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провер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f4ba3"/>
                </a:solidFill>
                <a:latin typeface="Comic Sans MS"/>
              </a:rPr>
              <a:t>Заштриховать нужную часть круга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600"/>
                </a:solidFill>
                <a:latin typeface="Comic Sans MS"/>
              </a:rPr>
              <a:t>3</a:t>
            </a:r>
            <a:r>
              <a:rPr b="0" lang="ru-RU" sz="3600" spc="-1" strike="noStrike">
                <a:solidFill>
                  <a:srgbClr val="e8a600"/>
                </a:solidFill>
                <a:latin typeface="Comic Sans MS"/>
              </a:rPr>
              <a:t> команд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611280" y="2708280"/>
            <a:ext cx="2160360" cy="216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5"/>
          <p:cNvSpPr/>
          <p:nvPr/>
        </p:nvSpPr>
        <p:spPr>
          <a:xfrm rot="4320000">
            <a:off x="3490920" y="4149720"/>
            <a:ext cx="2160720" cy="21607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6"/>
          <p:cNvSpPr/>
          <p:nvPr/>
        </p:nvSpPr>
        <p:spPr>
          <a:xfrm>
            <a:off x="6372360" y="2708280"/>
            <a:ext cx="2160360" cy="2160720"/>
          </a:xfrm>
          <a:prstGeom prst="ellipse">
            <a:avLst/>
          </a:pr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372360" y="3789360"/>
            <a:ext cx="2160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7451640" y="2708280"/>
            <a:ext cx="0" cy="21607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4572000" y="5300640"/>
            <a:ext cx="0" cy="10080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4572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11"/>
          <p:cNvSpPr/>
          <p:nvPr/>
        </p:nvSpPr>
        <p:spPr>
          <a:xfrm flipH="1">
            <a:off x="3564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12"/>
          <p:cNvSpPr/>
          <p:nvPr/>
        </p:nvSpPr>
        <p:spPr>
          <a:xfrm flipH="1" flipV="1">
            <a:off x="3924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13"/>
          <p:cNvSpPr/>
          <p:nvPr/>
        </p:nvSpPr>
        <p:spPr>
          <a:xfrm flipV="1">
            <a:off x="4572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692360" y="378936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15"/>
          <p:cNvSpPr/>
          <p:nvPr/>
        </p:nvSpPr>
        <p:spPr>
          <a:xfrm flipV="1">
            <a:off x="1692360" y="2923920"/>
            <a:ext cx="64764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6"/>
          <p:cNvSpPr/>
          <p:nvPr/>
        </p:nvSpPr>
        <p:spPr>
          <a:xfrm flipV="1">
            <a:off x="1692360" y="270792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7"/>
          <p:cNvSpPr/>
          <p:nvPr/>
        </p:nvSpPr>
        <p:spPr>
          <a:xfrm flipH="1">
            <a:off x="104256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18"/>
          <p:cNvSpPr/>
          <p:nvPr/>
        </p:nvSpPr>
        <p:spPr>
          <a:xfrm>
            <a:off x="104292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9"/>
          <p:cNvSpPr/>
          <p:nvPr/>
        </p:nvSpPr>
        <p:spPr>
          <a:xfrm flipV="1">
            <a:off x="1692360" y="342864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0"/>
          <p:cNvSpPr/>
          <p:nvPr/>
        </p:nvSpPr>
        <p:spPr>
          <a:xfrm>
            <a:off x="1692360" y="3789360"/>
            <a:ext cx="10080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1"/>
          <p:cNvSpPr/>
          <p:nvPr/>
        </p:nvSpPr>
        <p:spPr>
          <a:xfrm flipH="1" flipV="1">
            <a:off x="610920" y="3573360"/>
            <a:ext cx="1081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84360" y="3789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971640" y="494172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6948360" y="5013360"/>
            <a:ext cx="10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25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3924360" y="342900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4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Freeform 26"/>
          <p:cNvSpPr/>
          <p:nvPr/>
        </p:nvSpPr>
        <p:spPr>
          <a:xfrm>
            <a:off x="611280" y="2708280"/>
            <a:ext cx="2165400" cy="2166840"/>
          </a:xfrm>
          <a:custGeom>
            <a:avLst/>
            <a:gdLst/>
            <a:ahLst/>
            <a:rect l="l" t="t" r="r" b="b"/>
            <a:pathLst>
              <a:path w="1364" h="1365">
                <a:moveTo>
                  <a:pt x="275" y="1229"/>
                </a:moveTo>
                <a:lnTo>
                  <a:pt x="684" y="685"/>
                </a:lnTo>
                <a:lnTo>
                  <a:pt x="684" y="1365"/>
                </a:lnTo>
                <a:lnTo>
                  <a:pt x="729" y="1365"/>
                </a:lnTo>
                <a:lnTo>
                  <a:pt x="774" y="1365"/>
                </a:lnTo>
                <a:lnTo>
                  <a:pt x="809" y="1346"/>
                </a:lnTo>
                <a:lnTo>
                  <a:pt x="874" y="1333"/>
                </a:lnTo>
                <a:lnTo>
                  <a:pt x="910" y="1320"/>
                </a:lnTo>
                <a:lnTo>
                  <a:pt x="945" y="1314"/>
                </a:lnTo>
                <a:lnTo>
                  <a:pt x="990" y="1301"/>
                </a:lnTo>
                <a:lnTo>
                  <a:pt x="1048" y="1262"/>
                </a:lnTo>
                <a:lnTo>
                  <a:pt x="1068" y="1243"/>
                </a:lnTo>
                <a:lnTo>
                  <a:pt x="1107" y="1223"/>
                </a:lnTo>
                <a:lnTo>
                  <a:pt x="1126" y="1204"/>
                </a:lnTo>
                <a:lnTo>
                  <a:pt x="1171" y="1172"/>
                </a:lnTo>
                <a:lnTo>
                  <a:pt x="1217" y="1126"/>
                </a:lnTo>
                <a:lnTo>
                  <a:pt x="1249" y="1074"/>
                </a:lnTo>
                <a:lnTo>
                  <a:pt x="1262" y="1062"/>
                </a:lnTo>
                <a:lnTo>
                  <a:pt x="1255" y="1049"/>
                </a:lnTo>
                <a:lnTo>
                  <a:pt x="1288" y="1016"/>
                </a:lnTo>
                <a:lnTo>
                  <a:pt x="1288" y="1010"/>
                </a:lnTo>
                <a:lnTo>
                  <a:pt x="1320" y="913"/>
                </a:lnTo>
                <a:lnTo>
                  <a:pt x="1307" y="958"/>
                </a:lnTo>
                <a:lnTo>
                  <a:pt x="1340" y="854"/>
                </a:lnTo>
                <a:lnTo>
                  <a:pt x="1352" y="803"/>
                </a:lnTo>
                <a:lnTo>
                  <a:pt x="1364" y="730"/>
                </a:lnTo>
                <a:lnTo>
                  <a:pt x="1364" y="639"/>
                </a:lnTo>
                <a:lnTo>
                  <a:pt x="1352" y="570"/>
                </a:lnTo>
                <a:lnTo>
                  <a:pt x="1340" y="505"/>
                </a:lnTo>
                <a:lnTo>
                  <a:pt x="1319" y="458"/>
                </a:lnTo>
                <a:lnTo>
                  <a:pt x="1294" y="395"/>
                </a:lnTo>
                <a:lnTo>
                  <a:pt x="1268" y="337"/>
                </a:lnTo>
                <a:lnTo>
                  <a:pt x="1228" y="277"/>
                </a:lnTo>
                <a:lnTo>
                  <a:pt x="1183" y="231"/>
                </a:lnTo>
                <a:lnTo>
                  <a:pt x="1137" y="186"/>
                </a:lnTo>
                <a:lnTo>
                  <a:pt x="1100" y="149"/>
                </a:lnTo>
                <a:lnTo>
                  <a:pt x="1061" y="117"/>
                </a:lnTo>
                <a:lnTo>
                  <a:pt x="1009" y="84"/>
                </a:lnTo>
                <a:lnTo>
                  <a:pt x="938" y="58"/>
                </a:lnTo>
                <a:lnTo>
                  <a:pt x="880" y="32"/>
                </a:lnTo>
                <a:lnTo>
                  <a:pt x="822" y="20"/>
                </a:lnTo>
                <a:lnTo>
                  <a:pt x="764" y="0"/>
                </a:lnTo>
                <a:lnTo>
                  <a:pt x="673" y="7"/>
                </a:lnTo>
                <a:lnTo>
                  <a:pt x="593" y="4"/>
                </a:lnTo>
                <a:lnTo>
                  <a:pt x="505" y="32"/>
                </a:lnTo>
                <a:lnTo>
                  <a:pt x="433" y="52"/>
                </a:lnTo>
                <a:lnTo>
                  <a:pt x="349" y="91"/>
                </a:lnTo>
                <a:lnTo>
                  <a:pt x="285" y="130"/>
                </a:lnTo>
                <a:lnTo>
                  <a:pt x="220" y="175"/>
                </a:lnTo>
                <a:lnTo>
                  <a:pt x="181" y="233"/>
                </a:lnTo>
                <a:lnTo>
                  <a:pt x="129" y="278"/>
                </a:lnTo>
                <a:lnTo>
                  <a:pt x="94" y="322"/>
                </a:lnTo>
                <a:lnTo>
                  <a:pt x="65" y="382"/>
                </a:lnTo>
                <a:lnTo>
                  <a:pt x="32" y="460"/>
                </a:lnTo>
                <a:lnTo>
                  <a:pt x="13" y="550"/>
                </a:lnTo>
                <a:lnTo>
                  <a:pt x="6" y="608"/>
                </a:lnTo>
                <a:lnTo>
                  <a:pt x="3" y="685"/>
                </a:lnTo>
                <a:lnTo>
                  <a:pt x="0" y="764"/>
                </a:lnTo>
                <a:lnTo>
                  <a:pt x="13" y="841"/>
                </a:lnTo>
                <a:lnTo>
                  <a:pt x="32" y="906"/>
                </a:lnTo>
                <a:lnTo>
                  <a:pt x="52" y="971"/>
                </a:lnTo>
                <a:lnTo>
                  <a:pt x="90" y="1029"/>
                </a:lnTo>
                <a:lnTo>
                  <a:pt x="139" y="1093"/>
                </a:lnTo>
                <a:lnTo>
                  <a:pt x="185" y="1138"/>
                </a:lnTo>
                <a:lnTo>
                  <a:pt x="230" y="1184"/>
                </a:lnTo>
                <a:lnTo>
                  <a:pt x="275" y="12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Freeform 27"/>
          <p:cNvSpPr/>
          <p:nvPr/>
        </p:nvSpPr>
        <p:spPr>
          <a:xfrm>
            <a:off x="3564000" y="5300640"/>
            <a:ext cx="2016000" cy="1028880"/>
          </a:xfrm>
          <a:custGeom>
            <a:avLst/>
            <a:gdLst/>
            <a:ahLst/>
            <a:rect l="l" t="t" r="r" b="b"/>
            <a:pathLst>
              <a:path w="1270" h="648">
                <a:moveTo>
                  <a:pt x="0" y="227"/>
                </a:moveTo>
                <a:lnTo>
                  <a:pt x="635" y="0"/>
                </a:lnTo>
                <a:lnTo>
                  <a:pt x="1270" y="227"/>
                </a:lnTo>
                <a:lnTo>
                  <a:pt x="1230" y="298"/>
                </a:lnTo>
                <a:lnTo>
                  <a:pt x="1185" y="344"/>
                </a:lnTo>
                <a:lnTo>
                  <a:pt x="1153" y="389"/>
                </a:lnTo>
                <a:lnTo>
                  <a:pt x="1127" y="421"/>
                </a:lnTo>
                <a:lnTo>
                  <a:pt x="1101" y="454"/>
                </a:lnTo>
                <a:lnTo>
                  <a:pt x="1043" y="499"/>
                </a:lnTo>
                <a:lnTo>
                  <a:pt x="984" y="538"/>
                </a:lnTo>
                <a:lnTo>
                  <a:pt x="907" y="590"/>
                </a:lnTo>
                <a:lnTo>
                  <a:pt x="823" y="622"/>
                </a:lnTo>
                <a:lnTo>
                  <a:pt x="726" y="641"/>
                </a:lnTo>
                <a:lnTo>
                  <a:pt x="674" y="648"/>
                </a:lnTo>
                <a:lnTo>
                  <a:pt x="590" y="648"/>
                </a:lnTo>
                <a:lnTo>
                  <a:pt x="486" y="628"/>
                </a:lnTo>
                <a:lnTo>
                  <a:pt x="389" y="596"/>
                </a:lnTo>
                <a:lnTo>
                  <a:pt x="298" y="557"/>
                </a:lnTo>
                <a:lnTo>
                  <a:pt x="234" y="505"/>
                </a:lnTo>
                <a:lnTo>
                  <a:pt x="169" y="460"/>
                </a:lnTo>
                <a:lnTo>
                  <a:pt x="130" y="415"/>
                </a:lnTo>
                <a:lnTo>
                  <a:pt x="91" y="363"/>
                </a:lnTo>
                <a:lnTo>
                  <a:pt x="46" y="305"/>
                </a:lnTo>
                <a:lnTo>
                  <a:pt x="20" y="266"/>
                </a:lnTo>
                <a:lnTo>
                  <a:pt x="0" y="227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Freeform 28"/>
          <p:cNvSpPr/>
          <p:nvPr/>
        </p:nvSpPr>
        <p:spPr>
          <a:xfrm>
            <a:off x="6372360" y="2708280"/>
            <a:ext cx="1079280" cy="1081080"/>
          </a:xfrm>
          <a:custGeom>
            <a:avLst/>
            <a:gdLst/>
            <a:ahLst/>
            <a:rect l="l" t="t" r="r" b="b"/>
            <a:pathLst>
              <a:path w="680" h="681">
                <a:moveTo>
                  <a:pt x="680" y="0"/>
                </a:moveTo>
                <a:lnTo>
                  <a:pt x="680" y="681"/>
                </a:lnTo>
                <a:lnTo>
                  <a:pt x="0" y="681"/>
                </a:lnTo>
                <a:lnTo>
                  <a:pt x="0" y="635"/>
                </a:lnTo>
                <a:lnTo>
                  <a:pt x="0" y="590"/>
                </a:lnTo>
                <a:lnTo>
                  <a:pt x="18" y="527"/>
                </a:lnTo>
                <a:lnTo>
                  <a:pt x="37" y="443"/>
                </a:lnTo>
                <a:lnTo>
                  <a:pt x="63" y="391"/>
                </a:lnTo>
                <a:lnTo>
                  <a:pt x="102" y="326"/>
                </a:lnTo>
                <a:lnTo>
                  <a:pt x="136" y="273"/>
                </a:lnTo>
                <a:lnTo>
                  <a:pt x="173" y="216"/>
                </a:lnTo>
                <a:lnTo>
                  <a:pt x="225" y="164"/>
                </a:lnTo>
                <a:lnTo>
                  <a:pt x="270" y="132"/>
                </a:lnTo>
                <a:lnTo>
                  <a:pt x="318" y="91"/>
                </a:lnTo>
                <a:lnTo>
                  <a:pt x="374" y="67"/>
                </a:lnTo>
                <a:lnTo>
                  <a:pt x="408" y="46"/>
                </a:lnTo>
                <a:lnTo>
                  <a:pt x="452" y="35"/>
                </a:lnTo>
                <a:lnTo>
                  <a:pt x="490" y="22"/>
                </a:lnTo>
                <a:lnTo>
                  <a:pt x="536" y="16"/>
                </a:lnTo>
                <a:lnTo>
                  <a:pt x="590" y="0"/>
                </a:lnTo>
                <a:lnTo>
                  <a:pt x="680" y="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1116000" y="292428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9/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3924360" y="5445000"/>
            <a:ext cx="12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2/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6372360" y="292428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2803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атематическая разминка у доск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провер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f4ba3"/>
                </a:solidFill>
                <a:latin typeface="Comic Sans MS"/>
              </a:rPr>
              <a:t>Заштриховать нужную часть круга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4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команд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4"/>
          <p:cNvSpPr/>
          <p:nvPr/>
        </p:nvSpPr>
        <p:spPr>
          <a:xfrm>
            <a:off x="611280" y="2708280"/>
            <a:ext cx="2160360" cy="216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5"/>
          <p:cNvSpPr/>
          <p:nvPr/>
        </p:nvSpPr>
        <p:spPr>
          <a:xfrm rot="4320000">
            <a:off x="3490920" y="4149720"/>
            <a:ext cx="2160720" cy="21607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6372360" y="2708280"/>
            <a:ext cx="2160360" cy="2160720"/>
          </a:xfrm>
          <a:prstGeom prst="ellipse">
            <a:avLst/>
          </a:pr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6372360" y="3789360"/>
            <a:ext cx="2160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7451640" y="2708280"/>
            <a:ext cx="0" cy="21607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4572000" y="5300640"/>
            <a:ext cx="0" cy="10080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4572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1"/>
          <p:cNvSpPr/>
          <p:nvPr/>
        </p:nvSpPr>
        <p:spPr>
          <a:xfrm flipH="1">
            <a:off x="3564000" y="5300640"/>
            <a:ext cx="1008000" cy="360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12"/>
          <p:cNvSpPr/>
          <p:nvPr/>
        </p:nvSpPr>
        <p:spPr>
          <a:xfrm flipH="1" flipV="1">
            <a:off x="3924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4572000" y="4365360"/>
            <a:ext cx="647640" cy="934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1692360" y="378936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15"/>
          <p:cNvSpPr/>
          <p:nvPr/>
        </p:nvSpPr>
        <p:spPr>
          <a:xfrm flipV="1">
            <a:off x="1692360" y="2923920"/>
            <a:ext cx="64764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16"/>
          <p:cNvSpPr/>
          <p:nvPr/>
        </p:nvSpPr>
        <p:spPr>
          <a:xfrm flipV="1">
            <a:off x="1692360" y="270792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17"/>
          <p:cNvSpPr/>
          <p:nvPr/>
        </p:nvSpPr>
        <p:spPr>
          <a:xfrm flipH="1">
            <a:off x="104256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18"/>
          <p:cNvSpPr/>
          <p:nvPr/>
        </p:nvSpPr>
        <p:spPr>
          <a:xfrm>
            <a:off x="1042920" y="2924280"/>
            <a:ext cx="129708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19"/>
          <p:cNvSpPr/>
          <p:nvPr/>
        </p:nvSpPr>
        <p:spPr>
          <a:xfrm flipV="1">
            <a:off x="1692360" y="342864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1692360" y="3789360"/>
            <a:ext cx="10080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1"/>
          <p:cNvSpPr/>
          <p:nvPr/>
        </p:nvSpPr>
        <p:spPr>
          <a:xfrm flipH="1" flipV="1">
            <a:off x="610920" y="3573360"/>
            <a:ext cx="1081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22"/>
          <p:cNvSpPr/>
          <p:nvPr/>
        </p:nvSpPr>
        <p:spPr>
          <a:xfrm flipH="1">
            <a:off x="684360" y="3789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971640" y="494172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6804000" y="5013360"/>
            <a:ext cx="13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100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3924360" y="342900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6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26"/>
          <p:cNvSpPr/>
          <p:nvPr/>
        </p:nvSpPr>
        <p:spPr>
          <a:xfrm>
            <a:off x="1692360" y="3429000"/>
            <a:ext cx="1079280" cy="669960"/>
          </a:xfrm>
          <a:custGeom>
            <a:avLst/>
            <a:gdLst/>
            <a:ahLst/>
            <a:rect l="l" t="t" r="r" b="b"/>
            <a:pathLst>
              <a:path w="680" h="422">
                <a:moveTo>
                  <a:pt x="635" y="0"/>
                </a:moveTo>
                <a:lnTo>
                  <a:pt x="0" y="227"/>
                </a:lnTo>
                <a:lnTo>
                  <a:pt x="643" y="422"/>
                </a:lnTo>
                <a:lnTo>
                  <a:pt x="656" y="390"/>
                </a:lnTo>
                <a:lnTo>
                  <a:pt x="668" y="319"/>
                </a:lnTo>
                <a:lnTo>
                  <a:pt x="675" y="338"/>
                </a:lnTo>
                <a:lnTo>
                  <a:pt x="675" y="273"/>
                </a:lnTo>
                <a:lnTo>
                  <a:pt x="680" y="227"/>
                </a:lnTo>
                <a:lnTo>
                  <a:pt x="680" y="181"/>
                </a:lnTo>
                <a:lnTo>
                  <a:pt x="668" y="112"/>
                </a:lnTo>
                <a:lnTo>
                  <a:pt x="649" y="47"/>
                </a:lnTo>
                <a:lnTo>
                  <a:pt x="63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1835280" y="335772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Freeform 28"/>
          <p:cNvSpPr/>
          <p:nvPr/>
        </p:nvSpPr>
        <p:spPr>
          <a:xfrm>
            <a:off x="3483000" y="4140360"/>
            <a:ext cx="2168640" cy="1520640"/>
          </a:xfrm>
          <a:custGeom>
            <a:avLst/>
            <a:gdLst/>
            <a:ahLst/>
            <a:rect l="l" t="t" r="r" b="b"/>
            <a:pathLst>
              <a:path w="1366" h="958">
                <a:moveTo>
                  <a:pt x="51" y="958"/>
                </a:moveTo>
                <a:lnTo>
                  <a:pt x="686" y="731"/>
                </a:lnTo>
                <a:lnTo>
                  <a:pt x="1307" y="958"/>
                </a:lnTo>
                <a:lnTo>
                  <a:pt x="1327" y="919"/>
                </a:lnTo>
                <a:lnTo>
                  <a:pt x="1340" y="874"/>
                </a:lnTo>
                <a:lnTo>
                  <a:pt x="1340" y="867"/>
                </a:lnTo>
                <a:lnTo>
                  <a:pt x="1353" y="816"/>
                </a:lnTo>
                <a:lnTo>
                  <a:pt x="1366" y="777"/>
                </a:lnTo>
                <a:lnTo>
                  <a:pt x="1366" y="732"/>
                </a:lnTo>
                <a:lnTo>
                  <a:pt x="1366" y="686"/>
                </a:lnTo>
                <a:lnTo>
                  <a:pt x="1366" y="621"/>
                </a:lnTo>
                <a:lnTo>
                  <a:pt x="1359" y="557"/>
                </a:lnTo>
                <a:lnTo>
                  <a:pt x="1353" y="505"/>
                </a:lnTo>
                <a:lnTo>
                  <a:pt x="1327" y="447"/>
                </a:lnTo>
                <a:lnTo>
                  <a:pt x="1301" y="395"/>
                </a:lnTo>
                <a:lnTo>
                  <a:pt x="1275" y="337"/>
                </a:lnTo>
                <a:lnTo>
                  <a:pt x="1243" y="291"/>
                </a:lnTo>
                <a:lnTo>
                  <a:pt x="1197" y="233"/>
                </a:lnTo>
                <a:lnTo>
                  <a:pt x="1133" y="175"/>
                </a:lnTo>
                <a:lnTo>
                  <a:pt x="1087" y="136"/>
                </a:lnTo>
                <a:lnTo>
                  <a:pt x="1029" y="97"/>
                </a:lnTo>
                <a:lnTo>
                  <a:pt x="977" y="58"/>
                </a:lnTo>
                <a:lnTo>
                  <a:pt x="906" y="39"/>
                </a:lnTo>
                <a:lnTo>
                  <a:pt x="815" y="13"/>
                </a:lnTo>
                <a:lnTo>
                  <a:pt x="705" y="0"/>
                </a:lnTo>
                <a:lnTo>
                  <a:pt x="628" y="0"/>
                </a:lnTo>
                <a:lnTo>
                  <a:pt x="550" y="7"/>
                </a:lnTo>
                <a:lnTo>
                  <a:pt x="479" y="26"/>
                </a:lnTo>
                <a:lnTo>
                  <a:pt x="414" y="51"/>
                </a:lnTo>
                <a:lnTo>
                  <a:pt x="375" y="71"/>
                </a:lnTo>
                <a:lnTo>
                  <a:pt x="324" y="104"/>
                </a:lnTo>
                <a:lnTo>
                  <a:pt x="272" y="136"/>
                </a:lnTo>
                <a:lnTo>
                  <a:pt x="226" y="175"/>
                </a:lnTo>
                <a:lnTo>
                  <a:pt x="188" y="214"/>
                </a:lnTo>
                <a:lnTo>
                  <a:pt x="149" y="266"/>
                </a:lnTo>
                <a:lnTo>
                  <a:pt x="110" y="317"/>
                </a:lnTo>
                <a:lnTo>
                  <a:pt x="78" y="376"/>
                </a:lnTo>
                <a:lnTo>
                  <a:pt x="39" y="447"/>
                </a:lnTo>
                <a:lnTo>
                  <a:pt x="19" y="524"/>
                </a:lnTo>
                <a:lnTo>
                  <a:pt x="6" y="595"/>
                </a:lnTo>
                <a:lnTo>
                  <a:pt x="0" y="680"/>
                </a:lnTo>
                <a:lnTo>
                  <a:pt x="6" y="777"/>
                </a:lnTo>
                <a:lnTo>
                  <a:pt x="19" y="835"/>
                </a:lnTo>
                <a:lnTo>
                  <a:pt x="32" y="906"/>
                </a:lnTo>
                <a:lnTo>
                  <a:pt x="51" y="958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3995640" y="4437000"/>
            <a:ext cx="12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3/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Freeform 30"/>
          <p:cNvSpPr/>
          <p:nvPr/>
        </p:nvSpPr>
        <p:spPr>
          <a:xfrm>
            <a:off x="6367320" y="2689200"/>
            <a:ext cx="2171880" cy="2184480"/>
          </a:xfrm>
          <a:custGeom>
            <a:avLst/>
            <a:gdLst/>
            <a:ahLst/>
            <a:rect l="l" t="t" r="r" b="b"/>
            <a:pathLst>
              <a:path w="1368" h="1376">
                <a:moveTo>
                  <a:pt x="610" y="15"/>
                </a:moveTo>
                <a:cubicBezTo>
                  <a:pt x="524" y="24"/>
                  <a:pt x="541" y="34"/>
                  <a:pt x="455" y="47"/>
                </a:cubicBezTo>
                <a:cubicBezTo>
                  <a:pt x="416" y="73"/>
                  <a:pt x="351" y="98"/>
                  <a:pt x="312" y="118"/>
                </a:cubicBezTo>
                <a:cubicBezTo>
                  <a:pt x="275" y="137"/>
                  <a:pt x="241" y="163"/>
                  <a:pt x="215" y="196"/>
                </a:cubicBezTo>
                <a:cubicBezTo>
                  <a:pt x="170" y="235"/>
                  <a:pt x="274" y="129"/>
                  <a:pt x="228" y="176"/>
                </a:cubicBezTo>
                <a:cubicBezTo>
                  <a:pt x="195" y="210"/>
                  <a:pt x="176" y="248"/>
                  <a:pt x="131" y="293"/>
                </a:cubicBezTo>
                <a:cubicBezTo>
                  <a:pt x="110" y="324"/>
                  <a:pt x="66" y="381"/>
                  <a:pt x="53" y="416"/>
                </a:cubicBezTo>
                <a:cubicBezTo>
                  <a:pt x="47" y="449"/>
                  <a:pt x="46" y="459"/>
                  <a:pt x="27" y="487"/>
                </a:cubicBezTo>
                <a:cubicBezTo>
                  <a:pt x="20" y="513"/>
                  <a:pt x="15" y="565"/>
                  <a:pt x="8" y="591"/>
                </a:cubicBezTo>
                <a:cubicBezTo>
                  <a:pt x="5" y="615"/>
                  <a:pt x="3" y="615"/>
                  <a:pt x="2" y="636"/>
                </a:cubicBezTo>
                <a:cubicBezTo>
                  <a:pt x="1" y="657"/>
                  <a:pt x="0" y="688"/>
                  <a:pt x="2" y="720"/>
                </a:cubicBezTo>
                <a:cubicBezTo>
                  <a:pt x="2" y="750"/>
                  <a:pt x="12" y="805"/>
                  <a:pt x="15" y="830"/>
                </a:cubicBezTo>
                <a:cubicBezTo>
                  <a:pt x="21" y="857"/>
                  <a:pt x="34" y="862"/>
                  <a:pt x="40" y="882"/>
                </a:cubicBezTo>
                <a:cubicBezTo>
                  <a:pt x="43" y="897"/>
                  <a:pt x="47" y="927"/>
                  <a:pt x="53" y="953"/>
                </a:cubicBezTo>
                <a:cubicBezTo>
                  <a:pt x="62" y="965"/>
                  <a:pt x="99" y="1018"/>
                  <a:pt x="86" y="1031"/>
                </a:cubicBezTo>
                <a:cubicBezTo>
                  <a:pt x="144" y="1089"/>
                  <a:pt x="118" y="1070"/>
                  <a:pt x="118" y="1070"/>
                </a:cubicBezTo>
                <a:cubicBezTo>
                  <a:pt x="147" y="1113"/>
                  <a:pt x="86" y="1005"/>
                  <a:pt x="131" y="1102"/>
                </a:cubicBezTo>
                <a:cubicBezTo>
                  <a:pt x="150" y="1115"/>
                  <a:pt x="173" y="1134"/>
                  <a:pt x="176" y="1141"/>
                </a:cubicBezTo>
                <a:cubicBezTo>
                  <a:pt x="199" y="1191"/>
                  <a:pt x="209" y="1193"/>
                  <a:pt x="254" y="1212"/>
                </a:cubicBezTo>
                <a:cubicBezTo>
                  <a:pt x="319" y="1270"/>
                  <a:pt x="277" y="1251"/>
                  <a:pt x="319" y="1264"/>
                </a:cubicBezTo>
                <a:cubicBezTo>
                  <a:pt x="332" y="1284"/>
                  <a:pt x="366" y="1308"/>
                  <a:pt x="403" y="1315"/>
                </a:cubicBezTo>
                <a:cubicBezTo>
                  <a:pt x="432" y="1325"/>
                  <a:pt x="447" y="1329"/>
                  <a:pt x="468" y="1335"/>
                </a:cubicBezTo>
                <a:cubicBezTo>
                  <a:pt x="489" y="1341"/>
                  <a:pt x="512" y="1349"/>
                  <a:pt x="532" y="1354"/>
                </a:cubicBezTo>
                <a:cubicBezTo>
                  <a:pt x="552" y="1359"/>
                  <a:pt x="573" y="1364"/>
                  <a:pt x="591" y="1367"/>
                </a:cubicBezTo>
                <a:cubicBezTo>
                  <a:pt x="609" y="1370"/>
                  <a:pt x="624" y="1373"/>
                  <a:pt x="642" y="1374"/>
                </a:cubicBezTo>
                <a:cubicBezTo>
                  <a:pt x="660" y="1375"/>
                  <a:pt x="681" y="1374"/>
                  <a:pt x="701" y="1374"/>
                </a:cubicBezTo>
                <a:cubicBezTo>
                  <a:pt x="721" y="1374"/>
                  <a:pt x="745" y="1376"/>
                  <a:pt x="765" y="1374"/>
                </a:cubicBezTo>
                <a:cubicBezTo>
                  <a:pt x="785" y="1372"/>
                  <a:pt x="800" y="1366"/>
                  <a:pt x="824" y="1361"/>
                </a:cubicBezTo>
                <a:cubicBezTo>
                  <a:pt x="848" y="1356"/>
                  <a:pt x="882" y="1351"/>
                  <a:pt x="908" y="1341"/>
                </a:cubicBezTo>
                <a:cubicBezTo>
                  <a:pt x="934" y="1322"/>
                  <a:pt x="933" y="1315"/>
                  <a:pt x="979" y="1302"/>
                </a:cubicBezTo>
                <a:cubicBezTo>
                  <a:pt x="992" y="1283"/>
                  <a:pt x="1062" y="1266"/>
                  <a:pt x="1076" y="1257"/>
                </a:cubicBezTo>
                <a:cubicBezTo>
                  <a:pt x="1141" y="1212"/>
                  <a:pt x="1128" y="1199"/>
                  <a:pt x="1179" y="1173"/>
                </a:cubicBezTo>
                <a:cubicBezTo>
                  <a:pt x="1218" y="1108"/>
                  <a:pt x="1238" y="1108"/>
                  <a:pt x="1264" y="1037"/>
                </a:cubicBezTo>
                <a:cubicBezTo>
                  <a:pt x="1280" y="1007"/>
                  <a:pt x="1288" y="1002"/>
                  <a:pt x="1296" y="985"/>
                </a:cubicBezTo>
                <a:cubicBezTo>
                  <a:pt x="1308" y="962"/>
                  <a:pt x="1326" y="920"/>
                  <a:pt x="1335" y="901"/>
                </a:cubicBezTo>
                <a:cubicBezTo>
                  <a:pt x="1361" y="798"/>
                  <a:pt x="1339" y="893"/>
                  <a:pt x="1348" y="869"/>
                </a:cubicBezTo>
                <a:cubicBezTo>
                  <a:pt x="1352" y="839"/>
                  <a:pt x="1368" y="783"/>
                  <a:pt x="1367" y="726"/>
                </a:cubicBezTo>
                <a:cubicBezTo>
                  <a:pt x="1366" y="669"/>
                  <a:pt x="1350" y="572"/>
                  <a:pt x="1341" y="526"/>
                </a:cubicBezTo>
                <a:cubicBezTo>
                  <a:pt x="1336" y="491"/>
                  <a:pt x="1333" y="476"/>
                  <a:pt x="1315" y="448"/>
                </a:cubicBezTo>
                <a:cubicBezTo>
                  <a:pt x="1307" y="424"/>
                  <a:pt x="1303" y="404"/>
                  <a:pt x="1289" y="383"/>
                </a:cubicBezTo>
                <a:cubicBezTo>
                  <a:pt x="1282" y="364"/>
                  <a:pt x="1275" y="352"/>
                  <a:pt x="1264" y="338"/>
                </a:cubicBezTo>
                <a:cubicBezTo>
                  <a:pt x="1253" y="322"/>
                  <a:pt x="1237" y="302"/>
                  <a:pt x="1225" y="286"/>
                </a:cubicBezTo>
                <a:cubicBezTo>
                  <a:pt x="1213" y="270"/>
                  <a:pt x="1203" y="254"/>
                  <a:pt x="1192" y="241"/>
                </a:cubicBezTo>
                <a:cubicBezTo>
                  <a:pt x="1181" y="195"/>
                  <a:pt x="1218" y="242"/>
                  <a:pt x="1160" y="209"/>
                </a:cubicBezTo>
                <a:cubicBezTo>
                  <a:pt x="1160" y="196"/>
                  <a:pt x="1132" y="190"/>
                  <a:pt x="1128" y="183"/>
                </a:cubicBezTo>
                <a:cubicBezTo>
                  <a:pt x="1125" y="177"/>
                  <a:pt x="1113" y="162"/>
                  <a:pt x="1108" y="157"/>
                </a:cubicBezTo>
                <a:cubicBezTo>
                  <a:pt x="1085" y="130"/>
                  <a:pt x="1089" y="130"/>
                  <a:pt x="1057" y="125"/>
                </a:cubicBezTo>
                <a:cubicBezTo>
                  <a:pt x="1027" y="107"/>
                  <a:pt x="1001" y="91"/>
                  <a:pt x="972" y="73"/>
                </a:cubicBezTo>
                <a:cubicBezTo>
                  <a:pt x="951" y="60"/>
                  <a:pt x="924" y="51"/>
                  <a:pt x="901" y="40"/>
                </a:cubicBezTo>
                <a:cubicBezTo>
                  <a:pt x="815" y="0"/>
                  <a:pt x="908" y="47"/>
                  <a:pt x="811" y="21"/>
                </a:cubicBezTo>
                <a:cubicBezTo>
                  <a:pt x="785" y="15"/>
                  <a:pt x="615" y="25"/>
                  <a:pt x="668" y="15"/>
                </a:cubicBezTo>
                <a:cubicBezTo>
                  <a:pt x="681" y="17"/>
                  <a:pt x="694" y="2"/>
                  <a:pt x="707" y="2"/>
                </a:cubicBezTo>
                <a:cubicBezTo>
                  <a:pt x="718" y="2"/>
                  <a:pt x="685" y="20"/>
                  <a:pt x="675" y="15"/>
                </a:cubicBezTo>
                <a:cubicBezTo>
                  <a:pt x="672" y="14"/>
                  <a:pt x="608" y="17"/>
                  <a:pt x="610" y="15"/>
                </a:cubicBez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1"/>
          <p:cNvSpPr/>
          <p:nvPr/>
        </p:nvSpPr>
        <p:spPr>
          <a:xfrm>
            <a:off x="6804000" y="342900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4/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Экономико-математический кроссворд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Проценты и банк»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(проверк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716360" y="1915920"/>
            <a:ext cx="3772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703dff"/>
                </a:solidFill>
                <a:latin typeface="Comic Sans MS"/>
              </a:rPr>
              <a:t>По горизонтали: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Учреждение, хранящее денежные средств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4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Нецелое число.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5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отая часть числ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6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трана, в которой впервые появились банковские учрежд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703dff"/>
                </a:solidFill>
                <a:latin typeface="Comic Sans MS"/>
              </a:rPr>
              <a:t>По вертикали: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1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Денежные вклады в банк.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3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суда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4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иноним слова «часть»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755640" y="306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1042920" y="306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1332000" y="306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7"/>
          <p:cNvSpPr/>
          <p:nvPr/>
        </p:nvSpPr>
        <p:spPr>
          <a:xfrm flipH="1">
            <a:off x="2268000" y="4869000"/>
            <a:ext cx="28764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8"/>
          <p:cNvSpPr/>
          <p:nvPr/>
        </p:nvSpPr>
        <p:spPr>
          <a:xfrm flipH="1">
            <a:off x="1619280" y="522936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133200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10"/>
          <p:cNvSpPr/>
          <p:nvPr/>
        </p:nvSpPr>
        <p:spPr>
          <a:xfrm>
            <a:off x="104292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75564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46836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19564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248436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15"/>
          <p:cNvSpPr/>
          <p:nvPr/>
        </p:nvSpPr>
        <p:spPr>
          <a:xfrm flipV="1">
            <a:off x="219564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16"/>
          <p:cNvSpPr/>
          <p:nvPr/>
        </p:nvSpPr>
        <p:spPr>
          <a:xfrm flipV="1">
            <a:off x="248436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17"/>
          <p:cNvSpPr/>
          <p:nvPr/>
        </p:nvSpPr>
        <p:spPr>
          <a:xfrm flipV="1">
            <a:off x="277164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18"/>
          <p:cNvSpPr/>
          <p:nvPr/>
        </p:nvSpPr>
        <p:spPr>
          <a:xfrm flipV="1">
            <a:off x="305928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Line 19"/>
          <p:cNvSpPr/>
          <p:nvPr/>
        </p:nvSpPr>
        <p:spPr>
          <a:xfrm flipV="1">
            <a:off x="334800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1619280" y="4869000"/>
            <a:ext cx="144000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3059280" y="342864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3348000" y="342864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059280" y="378936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3059280" y="414972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25"/>
          <p:cNvSpPr/>
          <p:nvPr/>
        </p:nvSpPr>
        <p:spPr>
          <a:xfrm flipV="1">
            <a:off x="3635280" y="342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26"/>
          <p:cNvSpPr/>
          <p:nvPr/>
        </p:nvSpPr>
        <p:spPr>
          <a:xfrm flipV="1">
            <a:off x="3924360" y="342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27"/>
          <p:cNvSpPr/>
          <p:nvPr/>
        </p:nvSpPr>
        <p:spPr>
          <a:xfrm>
            <a:off x="3276720" y="3789360"/>
            <a:ext cx="1152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28"/>
          <p:cNvSpPr/>
          <p:nvPr/>
        </p:nvSpPr>
        <p:spPr>
          <a:xfrm>
            <a:off x="3635280" y="378936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29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0"/>
          <p:cNvSpPr/>
          <p:nvPr/>
        </p:nvSpPr>
        <p:spPr>
          <a:xfrm flipV="1">
            <a:off x="3635280" y="234900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1"/>
          <p:cNvSpPr/>
          <p:nvPr/>
        </p:nvSpPr>
        <p:spPr>
          <a:xfrm>
            <a:off x="3635280" y="414972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32"/>
          <p:cNvSpPr/>
          <p:nvPr/>
        </p:nvSpPr>
        <p:spPr>
          <a:xfrm>
            <a:off x="3635280" y="450864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33"/>
          <p:cNvSpPr/>
          <p:nvPr/>
        </p:nvSpPr>
        <p:spPr>
          <a:xfrm>
            <a:off x="3635280" y="486900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34"/>
          <p:cNvSpPr/>
          <p:nvPr/>
        </p:nvSpPr>
        <p:spPr>
          <a:xfrm>
            <a:off x="3635280" y="306864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35"/>
          <p:cNvSpPr/>
          <p:nvPr/>
        </p:nvSpPr>
        <p:spPr>
          <a:xfrm>
            <a:off x="3635280" y="270828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36"/>
          <p:cNvSpPr/>
          <p:nvPr/>
        </p:nvSpPr>
        <p:spPr>
          <a:xfrm>
            <a:off x="3635280" y="234936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37"/>
          <p:cNvSpPr/>
          <p:nvPr/>
        </p:nvSpPr>
        <p:spPr>
          <a:xfrm>
            <a:off x="3924360" y="234936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38"/>
          <p:cNvSpPr/>
          <p:nvPr/>
        </p:nvSpPr>
        <p:spPr>
          <a:xfrm>
            <a:off x="468360" y="3789360"/>
            <a:ext cx="201600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39"/>
          <p:cNvSpPr/>
          <p:nvPr/>
        </p:nvSpPr>
        <p:spPr>
          <a:xfrm>
            <a:off x="1619280" y="4508640"/>
            <a:ext cx="172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40"/>
          <p:cNvSpPr/>
          <p:nvPr/>
        </p:nvSpPr>
        <p:spPr>
          <a:xfrm flipV="1">
            <a:off x="1619280" y="3068640"/>
            <a:ext cx="0" cy="216072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41"/>
          <p:cNvSpPr/>
          <p:nvPr/>
        </p:nvSpPr>
        <p:spPr>
          <a:xfrm>
            <a:off x="468360" y="4149720"/>
            <a:ext cx="201600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42"/>
          <p:cNvSpPr/>
          <p:nvPr/>
        </p:nvSpPr>
        <p:spPr>
          <a:xfrm flipV="1">
            <a:off x="1908000" y="3068640"/>
            <a:ext cx="0" cy="216072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43"/>
          <p:cNvSpPr/>
          <p:nvPr/>
        </p:nvSpPr>
        <p:spPr>
          <a:xfrm flipH="1">
            <a:off x="755280" y="3429000"/>
            <a:ext cx="1152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755640" y="3068640"/>
            <a:ext cx="1152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45"/>
          <p:cNvSpPr/>
          <p:nvPr/>
        </p:nvSpPr>
        <p:spPr>
          <a:xfrm flipH="1">
            <a:off x="3059280" y="4869000"/>
            <a:ext cx="28872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46"/>
          <p:cNvSpPr/>
          <p:nvPr/>
        </p:nvSpPr>
        <p:spPr>
          <a:xfrm>
            <a:off x="3059280" y="3429000"/>
            <a:ext cx="1368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47"/>
          <p:cNvSpPr/>
          <p:nvPr/>
        </p:nvSpPr>
        <p:spPr>
          <a:xfrm>
            <a:off x="4500720" y="342900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48"/>
          <p:cNvSpPr/>
          <p:nvPr/>
        </p:nvSpPr>
        <p:spPr>
          <a:xfrm>
            <a:off x="4211640" y="342900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Freeform 49"/>
          <p:cNvSpPr/>
          <p:nvPr/>
        </p:nvSpPr>
        <p:spPr>
          <a:xfrm>
            <a:off x="4356000" y="3789360"/>
            <a:ext cx="103320" cy="1440"/>
          </a:xfrm>
          <a:custGeom>
            <a:avLst/>
            <a:gdLst/>
            <a:ahLst/>
            <a:rect l="l" t="t" r="r" b="b"/>
            <a:pathLst>
              <a:path w="65" h="1">
                <a:moveTo>
                  <a:pt x="65" y="0"/>
                </a:moveTo>
                <a:cubicBezTo>
                  <a:pt x="43" y="0"/>
                  <a:pt x="22" y="0"/>
                  <a:pt x="0" y="0"/>
                </a:cubicBezTo>
              </a:path>
            </a:pathLst>
          </a:custGeom>
          <a:noFill/>
          <a:ln w="28440">
            <a:solidFill>
              <a:srgbClr val="6c30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50"/>
          <p:cNvSpPr/>
          <p:nvPr/>
        </p:nvSpPr>
        <p:spPr>
          <a:xfrm>
            <a:off x="755640" y="3068640"/>
            <a:ext cx="287280" cy="360360"/>
          </a:xfrm>
          <a:prstGeom prst="rect">
            <a:avLst/>
          </a:prstGeom>
          <a:noFill/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51"/>
          <p:cNvSpPr/>
          <p:nvPr/>
        </p:nvSpPr>
        <p:spPr>
          <a:xfrm>
            <a:off x="4211640" y="3429000"/>
            <a:ext cx="289080" cy="360360"/>
          </a:xfrm>
          <a:prstGeom prst="rect">
            <a:avLst/>
          </a:prstGeom>
          <a:noFill/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52"/>
          <p:cNvSpPr/>
          <p:nvPr/>
        </p:nvSpPr>
        <p:spPr>
          <a:xfrm>
            <a:off x="755640" y="321300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53"/>
          <p:cNvSpPr/>
          <p:nvPr/>
        </p:nvSpPr>
        <p:spPr>
          <a:xfrm>
            <a:off x="1619280" y="321300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54"/>
          <p:cNvSpPr/>
          <p:nvPr/>
        </p:nvSpPr>
        <p:spPr>
          <a:xfrm>
            <a:off x="1619280" y="465300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Rectangle 55"/>
          <p:cNvSpPr/>
          <p:nvPr/>
        </p:nvSpPr>
        <p:spPr>
          <a:xfrm>
            <a:off x="468360" y="393372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Rectangle 56"/>
          <p:cNvSpPr/>
          <p:nvPr/>
        </p:nvSpPr>
        <p:spPr>
          <a:xfrm>
            <a:off x="3635280" y="2492280"/>
            <a:ext cx="1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57"/>
          <p:cNvSpPr/>
          <p:nvPr/>
        </p:nvSpPr>
        <p:spPr>
          <a:xfrm>
            <a:off x="3059280" y="357336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58"/>
          <p:cNvSpPr/>
          <p:nvPr/>
        </p:nvSpPr>
        <p:spPr>
          <a:xfrm>
            <a:off x="755640" y="3068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Б  А  Н  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59"/>
          <p:cNvSpPr/>
          <p:nvPr/>
        </p:nvSpPr>
        <p:spPr>
          <a:xfrm>
            <a:off x="3059280" y="342900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Д  Р  О  Б 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60"/>
          <p:cNvSpPr/>
          <p:nvPr/>
        </p:nvSpPr>
        <p:spPr>
          <a:xfrm>
            <a:off x="468360" y="378936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П  Р  О  Ц  Е  Н 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61"/>
          <p:cNvSpPr/>
          <p:nvPr/>
        </p:nvSpPr>
        <p:spPr>
          <a:xfrm>
            <a:off x="1619280" y="450864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И  Т  А  Л  И  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62"/>
          <p:cNvSpPr/>
          <p:nvPr/>
        </p:nvSpPr>
        <p:spPr>
          <a:xfrm>
            <a:off x="1619280" y="342900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63"/>
          <p:cNvSpPr/>
          <p:nvPr/>
        </p:nvSpPr>
        <p:spPr>
          <a:xfrm>
            <a:off x="1619280" y="4149720"/>
            <a:ext cx="28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64"/>
          <p:cNvSpPr/>
          <p:nvPr/>
        </p:nvSpPr>
        <p:spPr>
          <a:xfrm>
            <a:off x="1619280" y="486900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65"/>
          <p:cNvSpPr/>
          <p:nvPr/>
        </p:nvSpPr>
        <p:spPr>
          <a:xfrm>
            <a:off x="3059280" y="378936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66"/>
          <p:cNvSpPr/>
          <p:nvPr/>
        </p:nvSpPr>
        <p:spPr>
          <a:xfrm>
            <a:off x="3059280" y="4149720"/>
            <a:ext cx="28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3635280" y="2349360"/>
            <a:ext cx="2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68"/>
          <p:cNvSpPr/>
          <p:nvPr/>
        </p:nvSpPr>
        <p:spPr>
          <a:xfrm>
            <a:off x="3635280" y="2708280"/>
            <a:ext cx="2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Rectangle 69"/>
          <p:cNvSpPr/>
          <p:nvPr/>
        </p:nvSpPr>
        <p:spPr>
          <a:xfrm>
            <a:off x="3635280" y="3068640"/>
            <a:ext cx="2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Rectangle 70"/>
          <p:cNvSpPr/>
          <p:nvPr/>
        </p:nvSpPr>
        <p:spPr>
          <a:xfrm>
            <a:off x="3635280" y="3789360"/>
            <a:ext cx="2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Rectangle 71"/>
          <p:cNvSpPr/>
          <p:nvPr/>
        </p:nvSpPr>
        <p:spPr>
          <a:xfrm>
            <a:off x="3635280" y="4149720"/>
            <a:ext cx="2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72"/>
          <p:cNvSpPr/>
          <p:nvPr/>
        </p:nvSpPr>
        <p:spPr>
          <a:xfrm>
            <a:off x="3635280" y="4508640"/>
            <a:ext cx="2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5" name="Picture 73" descr=""/>
          <p:cNvPicPr/>
          <p:nvPr/>
        </p:nvPicPr>
        <p:blipFill>
          <a:blip r:embed="rId1"/>
          <a:stretch/>
        </p:blipFill>
        <p:spPr>
          <a:xfrm>
            <a:off x="3203640" y="50292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кономико-математическ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Каждая команда получает шесть задач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Задачи разделены на три категории сложности: сложные, средней сложности и легки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Эта работа одновременно индивидуальная и командна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индивидуальная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каждый выбирает задачу любой категории сложности (лучше не одну) и решает ее на отдельном листе, который сдает учителю математики и получает оценку по математик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командна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олученные каждым участником команды результаты (только вариант ответа задачи, </a:t>
            </a:r>
            <a:r>
              <a:rPr b="0" lang="ru-RU" sz="1800" spc="-1" strike="noStrike">
                <a:solidFill>
                  <a:srgbClr val="cc0099"/>
                </a:solidFill>
                <a:latin typeface="Comic Sans MS"/>
              </a:rPr>
              <a:t>например, 1) В;  2) Г; … и т.д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.), вы записываете на отдельный листок и сдаете его учителю экономики. Правильные ответы принесут дополнительные баллы всей команде (сложные – 3 балла; средней сложности – 2 балла;  легкие – 1 балл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6588000" y="508464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Легкие задачи: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Банк начисляет по вкладам 20% годовых. Какую сумму денег можн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ть через год, положив на депозитный счет 500 рублей?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 банке взят кредит в размере 640 евро сроком на один год. Какую сумм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нег придется вернуть, если кредитный процент банка составляет 25% годовых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Задачи средней сложности: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Депозитный процент банка составляет 10%, кредитный процент банка составляет 20%. Определите прибыль банка, если сумма кредитов равна 5000 рублей, а сумма депозитов 4000 рублей.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ы взяли в банке кредит в размере 800 рублей, а через год вам пришлось вернуть 1400 рублей. Определите кредитный процент, начисляемый банком за год.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Сложные задачи: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Настя, взяв кредит в размере 40 долларов, через год вернула 48 долларов. Определите сумму Катиного кредита (кредит взят на тех же условиях), если через год она вернула 90 долларов.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Какой капитал нужно положить в банк под 25% годовых, чтобы через год получить доход (сумму начисленных процентов) в размере 125 рублей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Варианты ответов:</a:t>
            </a:r>
            <a:br>
              <a:rPr sz="1600"/>
            </a:b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) 500;     Б) 100;      В) 75;      Г) 800;      Д) 1000;      Е) 600;      Ж) 50.                                            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395280" y="0"/>
            <a:ext cx="7848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кономико-математические зада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Анаграм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755820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гадайте зашифрованные слова и уберите лишнее слово, не подходящее по смысл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1)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ТОП + ДИЕЗ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2)  РЕ + ТИК + Д;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800" spc="-1" strike="noStrike">
                <a:solidFill>
                  <a:srgbClr val="d96f0f"/>
                </a:solidFill>
                <a:latin typeface="Comic Sans MS"/>
              </a:rPr>
              <a:t>3)  Ц + ТОН + РЕ + П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800" spc="-1" strike="noStrike">
                <a:solidFill>
                  <a:srgbClr val="0f4ba3"/>
                </a:solidFill>
                <a:latin typeface="Comic Sans MS"/>
              </a:rPr>
              <a:t>4)  ПО + ПИР + Я + ОР + Ц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692360" y="5373720"/>
            <a:ext cx="698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1) ДЕПОЗИТ;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2) КРЕДИ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d96f0f"/>
                </a:solidFill>
                <a:latin typeface="Comic Sans MS"/>
              </a:rPr>
              <a:t>3) ПРОЦЕНТ;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f4ba3"/>
                </a:solidFill>
                <a:latin typeface="Comic Sans MS"/>
              </a:rPr>
              <a:t>4) ПРОПОРЦ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24360" y="5805360"/>
            <a:ext cx="302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16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448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ка домашнего задания</a:t>
            </a: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«Сказки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1"/>
          <a:stretch/>
        </p:blipFill>
        <p:spPr>
          <a:xfrm>
            <a:off x="442764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2"/>
          <a:stretch/>
        </p:blipFill>
        <p:spPr>
          <a:xfrm>
            <a:off x="2124000" y="494172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3" descr=""/>
          <p:cNvPicPr/>
          <p:nvPr/>
        </p:nvPicPr>
        <p:blipFill>
          <a:blip r:embed="rId6"/>
          <a:stretch/>
        </p:blipFill>
        <p:spPr>
          <a:xfrm>
            <a:off x="0" y="126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4" descr=""/>
          <p:cNvPicPr/>
          <p:nvPr/>
        </p:nvPicPr>
        <p:blipFill>
          <a:blip r:embed="rId7"/>
          <a:stretch/>
        </p:blipFill>
        <p:spPr>
          <a:xfrm>
            <a:off x="6804000" y="141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5" descr=""/>
          <p:cNvPicPr/>
          <p:nvPr/>
        </p:nvPicPr>
        <p:blipFill>
          <a:blip r:embed="rId8"/>
          <a:stretch/>
        </p:blipFill>
        <p:spPr>
          <a:xfrm>
            <a:off x="6877080" y="3429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26"/>
          <p:cNvSpPr/>
          <p:nvPr/>
        </p:nvSpPr>
        <p:spPr>
          <a:xfrm>
            <a:off x="1979640" y="1413000"/>
            <a:ext cx="496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27"/>
          <p:cNvSpPr/>
          <p:nvPr/>
        </p:nvSpPr>
        <p:spPr>
          <a:xfrm>
            <a:off x="2050920" y="1815120"/>
            <a:ext cx="4749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Каждая команда на отдельный листо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писывает названия сказок, в которых е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упоминание о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деньгах,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4ba3"/>
                </a:solidFill>
                <a:latin typeface="Comic Sans MS"/>
              </a:rPr>
              <a:t>банках,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d96f0f"/>
                </a:solidFill>
                <a:latin typeface="Comic Sans MS"/>
              </a:rPr>
              <a:t>процентах,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едитовании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7" name="Рисунок 6" descr=""/>
          <p:cNvPicPr/>
          <p:nvPr/>
        </p:nvPicPr>
        <p:blipFill>
          <a:blip r:embed="rId1"/>
          <a:stretch/>
        </p:blipFill>
        <p:spPr>
          <a:xfrm>
            <a:off x="419040" y="952560"/>
            <a:ext cx="7404120" cy="45846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27"/>
          <p:cNvSpPr/>
          <p:nvPr/>
        </p:nvSpPr>
        <p:spPr>
          <a:xfrm>
            <a:off x="2484360" y="564516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На сайте «Учи.ру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39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казать учащимся взаимосвязь двух предметов - экономики и математики при изучении темы «Банк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крепить и проверить знания учащихся по темам: «Процент», «Дробь», «Банк» в форме соревнования между групп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68000" y="151920"/>
            <a:ext cx="475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Блиц-опрос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«Вид банка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3422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f4ba3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f4ba3"/>
                </a:solidFill>
                <a:latin typeface="Comic Sans MS"/>
              </a:rPr>
              <a:t>Охарактеризуйте основную деятельность банк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Инновационного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Ипотечного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e8a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8a600"/>
                </a:solidFill>
                <a:latin typeface="Comic Sans MS"/>
              </a:rPr>
              <a:t>Сберегательного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нвестиционног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"/>
          <p:cNvPicPr/>
          <p:nvPr/>
        </p:nvPicPr>
        <p:blipFill>
          <a:blip r:embed="rId3"/>
          <a:stretch/>
        </p:blipFill>
        <p:spPr>
          <a:xfrm>
            <a:off x="6877080" y="2637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0" descr=""/>
          <p:cNvPicPr/>
          <p:nvPr/>
        </p:nvPicPr>
        <p:blipFill>
          <a:blip r:embed="rId4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1">
            <a:hlinkClick r:id="rId5" action="ppaction://hlinksldjump"/>
          </p:cNvPr>
          <p:cNvSpPr/>
          <p:nvPr/>
        </p:nvSpPr>
        <p:spPr>
          <a:xfrm>
            <a:off x="8532720" y="6165720"/>
            <a:ext cx="466920" cy="538200"/>
          </a:xfrm>
          <a:custGeom>
            <a:avLst/>
            <a:gdLst>
              <a:gd name="textAreaLeft" fmla="*/ 30240 w 466920"/>
              <a:gd name="textAreaRight" fmla="*/ 436680 w 466920"/>
              <a:gd name="textAreaTop" fmla="*/ 30240 h 538200"/>
              <a:gd name="textAreaBottom" fmla="*/ 507960 h 538200"/>
            </a:gdLst>
            <a:ahLst/>
            <a:rect l="textAreaLeft" t="textAreaTop" r="textAreaRight" b="textAreaBottom"/>
            <a:pathLst>
              <a:path w="21600" h="24895">
                <a:moveTo>
                  <a:pt x="0" y="0"/>
                </a:moveTo>
                <a:lnTo>
                  <a:pt x="21600" y="0"/>
                </a:lnTo>
                <a:lnTo>
                  <a:pt x="21600" y="24895"/>
                </a:lnTo>
                <a:lnTo>
                  <a:pt x="0" y="24895"/>
                </a:lnTo>
                <a:close/>
              </a:path>
              <a:path fill="lightenLess" w="21600" h="248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5">
                <a:moveTo>
                  <a:pt x="21600" y="0"/>
                </a:moveTo>
                <a:lnTo>
                  <a:pt x="21600" y="24895"/>
                </a:lnTo>
                <a:lnTo>
                  <a:pt x="20200" y="23495"/>
                </a:lnTo>
                <a:lnTo>
                  <a:pt x="20200" y="1400"/>
                </a:lnTo>
                <a:close/>
              </a:path>
              <a:path fill="darkenLess" w="21600" h="24895">
                <a:moveTo>
                  <a:pt x="21600" y="24895"/>
                </a:moveTo>
                <a:lnTo>
                  <a:pt x="0" y="24895"/>
                </a:lnTo>
                <a:lnTo>
                  <a:pt x="1400" y="23495"/>
                </a:lnTo>
                <a:lnTo>
                  <a:pt x="20200" y="23495"/>
                </a:lnTo>
                <a:close/>
              </a:path>
              <a:path fill="lighten" w="21600" h="24895">
                <a:moveTo>
                  <a:pt x="0" y="248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5"/>
                </a:lnTo>
                <a:close/>
              </a:path>
              <a:path fill="darken" w="21600" h="24895">
                <a:moveTo>
                  <a:pt x="3794" y="9140"/>
                </a:moveTo>
                <a:lnTo>
                  <a:pt x="7301" y="9140"/>
                </a:lnTo>
                <a:lnTo>
                  <a:pt x="7301" y="14475"/>
                </a:lnTo>
                <a:cubicBezTo>
                  <a:pt x="7301" y="15398"/>
                  <a:pt x="8102" y="16129"/>
                  <a:pt x="9138" y="16129"/>
                </a:cubicBezTo>
                <a:lnTo>
                  <a:pt x="10800" y="16129"/>
                </a:lnTo>
                <a:cubicBezTo>
                  <a:pt x="11836" y="16129"/>
                  <a:pt x="12636" y="15398"/>
                  <a:pt x="12636" y="14475"/>
                </a:cubicBezTo>
                <a:lnTo>
                  <a:pt x="12636" y="9140"/>
                </a:lnTo>
                <a:lnTo>
                  <a:pt x="10800" y="9140"/>
                </a:lnTo>
                <a:lnTo>
                  <a:pt x="14308" y="5632"/>
                </a:lnTo>
                <a:lnTo>
                  <a:pt x="17981" y="9140"/>
                </a:lnTo>
                <a:lnTo>
                  <a:pt x="16144" y="9140"/>
                </a:lnTo>
                <a:lnTo>
                  <a:pt x="16144" y="14475"/>
                </a:lnTo>
                <a:cubicBezTo>
                  <a:pt x="16144" y="17243"/>
                  <a:pt x="13568" y="19802"/>
                  <a:pt x="10800" y="19802"/>
                </a:cubicBezTo>
                <a:lnTo>
                  <a:pt x="9138" y="19802"/>
                </a:lnTo>
                <a:cubicBezTo>
                  <a:pt x="6370" y="19802"/>
                  <a:pt x="3794" y="17243"/>
                  <a:pt x="3794" y="14475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36520" y="2133720"/>
            <a:ext cx="68709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МОЛОДЦЫ!</a:t>
            </a: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7" name="Picture 10" descr=""/>
          <p:cNvPicPr/>
          <p:nvPr/>
        </p:nvPicPr>
        <p:blipFill>
          <a:blip r:embed="rId1"/>
          <a:stretch/>
        </p:blipFill>
        <p:spPr>
          <a:xfrm>
            <a:off x="3657600" y="333360"/>
            <a:ext cx="1706400" cy="17064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"/>
          <p:cNvPicPr/>
          <p:nvPr/>
        </p:nvPicPr>
        <p:blipFill>
          <a:blip r:embed="rId2"/>
          <a:stretch/>
        </p:blipFill>
        <p:spPr>
          <a:xfrm>
            <a:off x="3384720" y="4149720"/>
            <a:ext cx="2374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39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спомнить понятия процент, банк, депозит, кредит, дроб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крепить навыки учащихся в решении экономико-математических задач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овести контроль знаний учащихся по темам «Процент», «Банк. Кредит. Депозит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Устная математическая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f4ba3"/>
                </a:solidFill>
                <a:latin typeface="Comic Sans MS"/>
              </a:rPr>
              <a:t>Найдите названному проценту соответствующее количество учащих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908000" y="2421000"/>
            <a:ext cx="2016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b800"/>
                </a:solidFill>
                <a:latin typeface="Comic Sans MS"/>
              </a:rPr>
              <a:t>100%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10%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50%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25%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0" y="2565360"/>
            <a:ext cx="388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Четверть учащих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школ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Все учащие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школ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e8a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a600"/>
                </a:solidFill>
                <a:latin typeface="Comic Sans MS"/>
              </a:rPr>
              <a:t>Десятая ча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a600"/>
                </a:solidFill>
                <a:latin typeface="Comic Sans MS"/>
              </a:rPr>
              <a:t>учащихся школ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оловина всех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учащихся школ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780000" y="3068640"/>
            <a:ext cx="1439640" cy="720720"/>
          </a:xfrm>
          <a:prstGeom prst="line">
            <a:avLst/>
          </a:prstGeom>
          <a:ln w="28440">
            <a:solidFill>
              <a:srgbClr val="0f4ba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635280" y="3860640"/>
            <a:ext cx="1368360" cy="720720"/>
          </a:xfrm>
          <a:prstGeom prst="line">
            <a:avLst/>
          </a:prstGeom>
          <a:ln w="28440">
            <a:solidFill>
              <a:srgbClr val="0f4ba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708360" y="4797360"/>
            <a:ext cx="1224000" cy="647640"/>
          </a:xfrm>
          <a:prstGeom prst="line">
            <a:avLst/>
          </a:prstGeom>
          <a:ln w="28440">
            <a:solidFill>
              <a:srgbClr val="0f4ba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3780000" y="3141720"/>
            <a:ext cx="1223640" cy="2232000"/>
          </a:xfrm>
          <a:prstGeom prst="line">
            <a:avLst/>
          </a:prstGeom>
          <a:ln w="28440">
            <a:solidFill>
              <a:srgbClr val="0f4ba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18003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тная математическая разминка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1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4ba3"/>
                </a:solidFill>
                <a:latin typeface="Comic Sans MS"/>
              </a:rPr>
              <a:t>Найдите названному проценту соответствующую дроб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26920" y="2997360"/>
            <a:ext cx="3745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b200"/>
                </a:solidFill>
                <a:latin typeface="Comic Sans MS"/>
              </a:rPr>
              <a:t>80%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148360" y="2997360"/>
            <a:ext cx="3527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8a600"/>
                </a:solidFill>
                <a:latin typeface="Comic Sans MS"/>
              </a:rPr>
              <a:t>3/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2/3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4/5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cc0099"/>
                </a:solidFill>
                <a:latin typeface="Comic Sans MS"/>
              </a:rPr>
              <a:t>7/1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4356000" y="4581360"/>
            <a:ext cx="1871640" cy="360360"/>
          </a:xfrm>
          <a:prstGeom prst="line">
            <a:avLst/>
          </a:prstGeom>
          <a:ln w="381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тная математическая разминка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4ba3"/>
                </a:solidFill>
                <a:latin typeface="Comic Sans MS"/>
              </a:rPr>
              <a:t>Найдите названному проценту соответствующую дроб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26920" y="2997360"/>
            <a:ext cx="3745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cc0099"/>
                </a:solidFill>
                <a:latin typeface="Comic Sans MS"/>
              </a:rPr>
              <a:t>45%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148360" y="2997360"/>
            <a:ext cx="3527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8a600"/>
                </a:solidFill>
                <a:latin typeface="Comic Sans MS"/>
              </a:rPr>
              <a:t>9/2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3/5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3/1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5/1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4427640" y="3573360"/>
            <a:ext cx="1584360" cy="9352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тная математическая разминка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4ba3"/>
                </a:solidFill>
                <a:latin typeface="Comic Sans MS"/>
              </a:rPr>
              <a:t>Найдите названному проценту соответствующую дроб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26920" y="2997360"/>
            <a:ext cx="3745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6c3062"/>
                </a:solidFill>
                <a:latin typeface="Comic Sans MS"/>
              </a:rPr>
              <a:t>15%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148360" y="2997360"/>
            <a:ext cx="3527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1/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3/2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1/1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cc0099"/>
                </a:solidFill>
                <a:latin typeface="Comic Sans MS"/>
              </a:rPr>
              <a:t>7/1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7"/>
          <p:cNvSpPr/>
          <p:nvPr/>
        </p:nvSpPr>
        <p:spPr>
          <a:xfrm flipV="1">
            <a:off x="4427640" y="4365720"/>
            <a:ext cx="1584360" cy="287280"/>
          </a:xfrm>
          <a:prstGeom prst="line">
            <a:avLst/>
          </a:prstGeom>
          <a:ln w="38160">
            <a:solidFill>
              <a:srgbClr val="6c30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тная математическая разминка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4ba3"/>
                </a:solidFill>
                <a:latin typeface="Comic Sans MS"/>
              </a:rPr>
              <a:t>Найдите названному проценту соответствующую дроб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26920" y="2997360"/>
            <a:ext cx="3745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703dff"/>
                </a:solidFill>
                <a:latin typeface="Comic Sans MS"/>
              </a:rPr>
              <a:t>55%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148360" y="2997360"/>
            <a:ext cx="3527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8a6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e8a600"/>
                </a:solidFill>
                <a:latin typeface="Comic Sans MS"/>
              </a:rPr>
              <a:t>7/1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3/5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11/20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cc0099"/>
                </a:solidFill>
                <a:latin typeface="Comic Sans MS"/>
              </a:rPr>
              <a:t>1/2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427640" y="4581360"/>
            <a:ext cx="1512720" cy="5032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Экономико-математический кроссворд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Проценты и банк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16360" y="1915920"/>
            <a:ext cx="3772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703dff"/>
                </a:solidFill>
                <a:latin typeface="Comic Sans MS"/>
              </a:rPr>
              <a:t>По горизонтали: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Учреждение, хранящее денежные средств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4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Нецелое число.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5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отая часть числ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6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трана, в которой впервые появились банковские учрежд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703dff"/>
                </a:solidFill>
                <a:latin typeface="Comic Sans MS"/>
              </a:rPr>
              <a:t>По вертикали: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1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Денежные вклады в банк.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3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суда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6c3062"/>
                </a:solidFill>
                <a:latin typeface="Comic Sans MS"/>
              </a:rPr>
              <a:t>4</a:t>
            </a:r>
            <a:r>
              <a:rPr b="1" lang="ru-RU" sz="1800" spc="-1" strike="noStrike">
                <a:solidFill>
                  <a:srgbClr val="6c3062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Синоним слова «часть».</a:t>
            </a:r>
            <a:r>
              <a:rPr b="0" lang="ru-RU" sz="1800" spc="-1" strike="noStrike">
                <a:solidFill>
                  <a:srgbClr val="6c306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55640" y="306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042920" y="306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332000" y="306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2268000" y="4869000"/>
            <a:ext cx="28764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8"/>
          <p:cNvSpPr/>
          <p:nvPr/>
        </p:nvSpPr>
        <p:spPr>
          <a:xfrm flipH="1">
            <a:off x="1619280" y="522936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133200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04292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75564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46836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219564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4"/>
          <p:cNvSpPr/>
          <p:nvPr/>
        </p:nvSpPr>
        <p:spPr>
          <a:xfrm>
            <a:off x="2484360" y="378936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219564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6"/>
          <p:cNvSpPr/>
          <p:nvPr/>
        </p:nvSpPr>
        <p:spPr>
          <a:xfrm flipV="1">
            <a:off x="248436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7"/>
          <p:cNvSpPr/>
          <p:nvPr/>
        </p:nvSpPr>
        <p:spPr>
          <a:xfrm flipV="1">
            <a:off x="277164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305928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3348000" y="450828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1619280" y="4869000"/>
            <a:ext cx="144000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21"/>
          <p:cNvSpPr/>
          <p:nvPr/>
        </p:nvSpPr>
        <p:spPr>
          <a:xfrm flipV="1">
            <a:off x="3059280" y="342864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22"/>
          <p:cNvSpPr/>
          <p:nvPr/>
        </p:nvSpPr>
        <p:spPr>
          <a:xfrm flipV="1">
            <a:off x="3348000" y="342864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059280" y="378936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3059280" y="414972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25"/>
          <p:cNvSpPr/>
          <p:nvPr/>
        </p:nvSpPr>
        <p:spPr>
          <a:xfrm flipV="1">
            <a:off x="3635280" y="342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6"/>
          <p:cNvSpPr/>
          <p:nvPr/>
        </p:nvSpPr>
        <p:spPr>
          <a:xfrm flipV="1">
            <a:off x="3924360" y="342864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3276720" y="3789360"/>
            <a:ext cx="1152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3635280" y="378936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30"/>
          <p:cNvSpPr/>
          <p:nvPr/>
        </p:nvSpPr>
        <p:spPr>
          <a:xfrm flipV="1">
            <a:off x="3635280" y="234900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31"/>
          <p:cNvSpPr/>
          <p:nvPr/>
        </p:nvSpPr>
        <p:spPr>
          <a:xfrm>
            <a:off x="3635280" y="414972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32"/>
          <p:cNvSpPr/>
          <p:nvPr/>
        </p:nvSpPr>
        <p:spPr>
          <a:xfrm>
            <a:off x="3635280" y="450864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33"/>
          <p:cNvSpPr/>
          <p:nvPr/>
        </p:nvSpPr>
        <p:spPr>
          <a:xfrm>
            <a:off x="3635280" y="486900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34"/>
          <p:cNvSpPr/>
          <p:nvPr/>
        </p:nvSpPr>
        <p:spPr>
          <a:xfrm>
            <a:off x="3635280" y="306864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35"/>
          <p:cNvSpPr/>
          <p:nvPr/>
        </p:nvSpPr>
        <p:spPr>
          <a:xfrm>
            <a:off x="3635280" y="270828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3635280" y="2349360"/>
            <a:ext cx="28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37"/>
          <p:cNvSpPr/>
          <p:nvPr/>
        </p:nvSpPr>
        <p:spPr>
          <a:xfrm>
            <a:off x="3924360" y="2349360"/>
            <a:ext cx="0" cy="107964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468360" y="3789360"/>
            <a:ext cx="201600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39"/>
          <p:cNvSpPr/>
          <p:nvPr/>
        </p:nvSpPr>
        <p:spPr>
          <a:xfrm>
            <a:off x="1619280" y="4508640"/>
            <a:ext cx="172728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40"/>
          <p:cNvSpPr/>
          <p:nvPr/>
        </p:nvSpPr>
        <p:spPr>
          <a:xfrm flipV="1">
            <a:off x="1619280" y="3068640"/>
            <a:ext cx="0" cy="216072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468360" y="4149720"/>
            <a:ext cx="201600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42"/>
          <p:cNvSpPr/>
          <p:nvPr/>
        </p:nvSpPr>
        <p:spPr>
          <a:xfrm flipV="1">
            <a:off x="1908000" y="3068640"/>
            <a:ext cx="0" cy="216072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755280" y="3429000"/>
            <a:ext cx="1152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44"/>
          <p:cNvSpPr/>
          <p:nvPr/>
        </p:nvSpPr>
        <p:spPr>
          <a:xfrm>
            <a:off x="755640" y="3068640"/>
            <a:ext cx="1152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3059280" y="4869000"/>
            <a:ext cx="28872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3059280" y="3429000"/>
            <a:ext cx="1368360" cy="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4500720" y="342900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4211640" y="3429000"/>
            <a:ext cx="0" cy="360360"/>
          </a:xfrm>
          <a:prstGeom prst="line">
            <a:avLst/>
          </a:prstGeom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4356000" y="3789360"/>
            <a:ext cx="103320" cy="1440"/>
          </a:xfrm>
          <a:custGeom>
            <a:avLst/>
            <a:gdLst/>
            <a:ahLst/>
            <a:rect l="l" t="t" r="r" b="b"/>
            <a:pathLst>
              <a:path w="65" h="1">
                <a:moveTo>
                  <a:pt x="65" y="0"/>
                </a:moveTo>
                <a:cubicBezTo>
                  <a:pt x="43" y="0"/>
                  <a:pt x="22" y="0"/>
                  <a:pt x="0" y="0"/>
                </a:cubicBezTo>
              </a:path>
            </a:pathLst>
          </a:custGeom>
          <a:noFill/>
          <a:ln w="28440">
            <a:solidFill>
              <a:srgbClr val="6c30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50"/>
          <p:cNvSpPr/>
          <p:nvPr/>
        </p:nvSpPr>
        <p:spPr>
          <a:xfrm>
            <a:off x="755640" y="3068640"/>
            <a:ext cx="287280" cy="360360"/>
          </a:xfrm>
          <a:prstGeom prst="rect">
            <a:avLst/>
          </a:prstGeom>
          <a:noFill/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51"/>
          <p:cNvSpPr/>
          <p:nvPr/>
        </p:nvSpPr>
        <p:spPr>
          <a:xfrm>
            <a:off x="4211640" y="3429000"/>
            <a:ext cx="289080" cy="360360"/>
          </a:xfrm>
          <a:prstGeom prst="rect">
            <a:avLst/>
          </a:prstGeom>
          <a:noFill/>
          <a:ln w="28440">
            <a:solidFill>
              <a:srgbClr val="6c3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755640" y="321300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1619280" y="321300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1619280" y="465300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55"/>
          <p:cNvSpPr/>
          <p:nvPr/>
        </p:nvSpPr>
        <p:spPr>
          <a:xfrm>
            <a:off x="468360" y="393372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635280" y="2492280"/>
            <a:ext cx="1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57"/>
          <p:cNvSpPr/>
          <p:nvPr/>
        </p:nvSpPr>
        <p:spPr>
          <a:xfrm>
            <a:off x="3059280" y="357336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1"/>
          <a:stretch/>
        </p:blipFill>
        <p:spPr>
          <a:xfrm>
            <a:off x="3203640" y="50292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Панфилова</cp:lastModifiedBy>
  <dcterms:modified xsi:type="dcterms:W3CDTF">2020-07-27T17:33:57Z</dcterms:modified>
  <cp:revision>52</cp:revision>
  <dc:subject/>
  <dc:title>PowerPoint Presentation</dc:title>
</cp:coreProperties>
</file>