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28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1360" y="4194000"/>
            <a:ext cx="264924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940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4000"/>
            <a:ext cx="8228160" cy="236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ee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" name=""/>
          <p:cNvCxnSpPr/>
          <p:nvPr/>
        </p:nvCxnSpPr>
        <p:spPr>
          <a:xfrm>
            <a:off x="0" y="3886200"/>
            <a:ext cx="9144720" cy="216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</a:ln>
        </p:spPr>
      </p:cxn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ee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0" y="1503360"/>
            <a:ext cx="9144720" cy="216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</a:ln>
        </p:spPr>
      </p:cxn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ee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0" y="1503360"/>
            <a:ext cx="9144720" cy="216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</a:ln>
        </p:spPr>
      </p:cxn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ee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/>
          <p:nvPr/>
        </p:nvCxnSpPr>
        <p:spPr>
          <a:xfrm>
            <a:off x="0" y="1503360"/>
            <a:ext cx="9144720" cy="216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</a:ln>
        </p:spPr>
      </p:cxn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ee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/>
          <p:nvPr/>
        </p:nvCxnSpPr>
        <p:spPr>
          <a:xfrm>
            <a:off x="0" y="5633640"/>
            <a:ext cx="9144720" cy="252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</a:ln>
        </p:spPr>
      </p:cxn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96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-714240" y="0"/>
            <a:ext cx="77724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eef0e8"/>
                </a:solidFill>
                <a:latin typeface="Trebuchet MS"/>
                <a:ea typeface="Trebuchet MS"/>
              </a:rPr>
              <a:t>Крым и Россия</a:t>
            </a:r>
            <a:br>
              <a:rPr sz="4200"/>
            </a:br>
            <a:r>
              <a:rPr b="1" lang="ru-RU" sz="4200" spc="-1" strike="noStrike">
                <a:solidFill>
                  <a:srgbClr val="eef0e8"/>
                </a:solidFill>
                <a:latin typeface="Trebuchet MS"/>
                <a:ea typeface="Trebuchet MS"/>
              </a:rPr>
              <a:t>«Мы вместе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952800"/>
            <a:ext cx="7772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01760" y="5492880"/>
            <a:ext cx="1592280" cy="2401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8682120" cy="3429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072120" y="142920"/>
            <a:ext cx="28479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82440" y="0"/>
            <a:ext cx="922644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Trebuchet MS"/>
              </a:rPr>
              <a:t>Происхождение наз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78120"/>
            <a:ext cx="41148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ef0e8"/>
                </a:solidFill>
                <a:latin typeface="Trebuchet MS"/>
              </a:rPr>
              <a:t>Название «Крым» происходит от тюркского – вал, стена, 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ef0e8"/>
                </a:solidFill>
                <a:latin typeface="Trebuchet MS"/>
              </a:rPr>
              <a:t>Перекопский или Турецкий вал отделял Крым от материка, он был построен 2 тыс. лет назад. Его длина почти 8,5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8640" y="2492280"/>
            <a:ext cx="396108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Trebuchet MS"/>
              </a:rPr>
              <a:t>Распад СССР и референдум в Кры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1773360"/>
            <a:ext cx="4753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ef0e8"/>
                </a:solidFill>
                <a:latin typeface="Trebuchet MS"/>
              </a:rPr>
              <a:t>20 января 1991 г. в Крыму был проведён референдум. На голосование был поставлен вопрос: "</a:t>
            </a:r>
            <a:r>
              <a:rPr b="1" lang="ru-RU" sz="2000" spc="-1" strike="noStrike">
                <a:solidFill>
                  <a:srgbClr val="eef0e8"/>
                </a:solidFill>
                <a:latin typeface="Trebuchet MS"/>
              </a:rPr>
              <a:t>Вы за воссоздание Крымской Автономной Советской Социалистической республики как субъекта Союза ССР</a:t>
            </a:r>
            <a:r>
              <a:rPr b="0" lang="ru-RU" sz="2000" spc="-1" strike="noStrike">
                <a:solidFill>
                  <a:srgbClr val="eef0e8"/>
                </a:solidFill>
                <a:latin typeface="Trebuchet MS"/>
              </a:rPr>
              <a:t> и участника Союзного договора?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ef0e8"/>
                </a:solidFill>
                <a:latin typeface="Trebuchet MS"/>
              </a:rPr>
              <a:t>Участвовало в референдуме 81 % гражд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ef0e8"/>
                </a:solidFill>
                <a:latin typeface="Trebuchet MS"/>
              </a:rPr>
              <a:t>Проголосовало </a:t>
            </a:r>
            <a:r>
              <a:rPr b="1" lang="ru-RU" sz="2000" spc="-1" strike="noStrike">
                <a:solidFill>
                  <a:srgbClr val="eef0e8"/>
                </a:solidFill>
                <a:latin typeface="Trebuchet MS"/>
              </a:rPr>
              <a:t>«За» </a:t>
            </a:r>
            <a:r>
              <a:rPr b="0" lang="ru-RU" sz="2000" spc="-1" strike="noStrike">
                <a:solidFill>
                  <a:srgbClr val="eef0e8"/>
                </a:solidFill>
                <a:latin typeface="Trebuchet MS"/>
              </a:rPr>
              <a:t>- 93% жителей Кры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Но воля жителей Крыма была проигнорирована полити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0920" y="4621320"/>
            <a:ext cx="3429000" cy="19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108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  <a:ea typeface="Trebuchet MS"/>
              </a:rPr>
              <a:t>Воссоединение Крыма с Росс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806480"/>
            <a:ext cx="45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ef0e8"/>
                </a:solidFill>
                <a:latin typeface="Trebuchet MS"/>
              </a:rPr>
              <a:t>16 марта 2014 г. прошёл референдум о статусе Кры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ef0e8"/>
                </a:solidFill>
                <a:latin typeface="Trebuchet MS"/>
              </a:rPr>
              <a:t>В референдуме приняло участие 83 % граждан Кры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ef0e8"/>
                </a:solidFill>
                <a:latin typeface="Trebuchet MS"/>
              </a:rPr>
              <a:t>97 % проголосовало «за воссоединение Крыма с Росси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63249" t="1034" r="6581" b="26847"/>
          <a:stretch/>
        </p:blipFill>
        <p:spPr>
          <a:xfrm>
            <a:off x="8028000" y="0"/>
            <a:ext cx="111600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68960" y="1627200"/>
            <a:ext cx="34099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9036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70400" y="-1440"/>
            <a:ext cx="4718160" cy="2947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0" t="0" r="21234" b="0"/>
          <a:stretch/>
        </p:blipFill>
        <p:spPr>
          <a:xfrm>
            <a:off x="5576760" y="2943360"/>
            <a:ext cx="3611520" cy="3906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-46080" y="2946240"/>
            <a:ext cx="6745320" cy="3924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5094360" cy="32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zlov Anton Viktorovich</dc:creator>
  <dc:description/>
  <dc:language>en-US</dc:language>
  <cp:lastModifiedBy>истори</cp:lastModifiedBy>
  <cp:lastPrinted>2014-03-24T11:16:25Z</cp:lastPrinted>
  <dcterms:modified xsi:type="dcterms:W3CDTF">2014-04-09T09:56:04Z</dcterms:modified>
  <cp:revision>69</cp:revision>
  <dc:subject/>
  <dc:title>Задания с графиками (А8) Часть А</dc:title>
</cp:coreProperties>
</file>