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9.wmf" ContentType="image/x-wmf"/>
  <Override PartName="/ppt/media/image18.jpeg" ContentType="image/jpeg"/>
  <Override PartName="/ppt/media/image22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BD5B-B70D-4845-A830-02514B635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5102-D454-4863-B995-3090A3072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AD6C-E8A3-46C9-81DA-0A5E4A6E6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6201-7DF1-4630-BF72-9D28FAF5A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7FBA-45DE-4D5F-A2CA-B4953BA6F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65A1-6FFB-4858-8283-58E1A55E4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3170-5189-46F9-9915-E592D2E65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EE66-5C11-4ACB-946F-55143509A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42D2-E022-45FC-BE5B-7803C9974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4E9A-2F17-40C3-A4A0-F40CED4D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B567-500B-4D33-A2E1-3B060249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7855-B708-4529-AA4A-2B1A7726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EA265-248C-43CC-87E9-7B8CBEA48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87280" y="333360"/>
            <a:ext cx="7005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Обособленное подразделение «Центр развития ребенка – детский сад «Росинка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муниципального дошкольного образовательного учрежд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«Центр развития ребенка – детский сад «Сказка»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85320" y="1557360"/>
            <a:ext cx="724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Презентация дидактического пособия лэпбук на тем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                         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« Дикие животны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Для детей младшего дошкольного возрас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53120" y="6093000"/>
            <a:ext cx="249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оспитатель: Тезикова С.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284720" y="63086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9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916360" y="2852640"/>
            <a:ext cx="2771640" cy="3529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5595840"/>
            <a:ext cx="1908000" cy="1262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732720" y="2708280"/>
            <a:ext cx="2266920" cy="17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Материал данного лэпбука предназначен для детей младшего</a:t>
            </a:r>
            <a:br>
              <a:rPr sz="2000"/>
            </a:b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и среднего  дошкольного возра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642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Цель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Формировать у детей элементарные знания о диких животны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Задач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1400" spc="-1" strike="noStrike" u="sng">
                <a:solidFill>
                  <a:srgbClr val="009999"/>
                </a:solidFill>
                <a:uFillTx/>
                <a:latin typeface="Arial"/>
              </a:rPr>
              <a:t>Образовательные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Формировать знания детей о диких животных, их внешн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иде, особенностях их повадок и жизнедеятельности в лесу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1400" spc="-1" strike="noStrike" u="sng">
                <a:solidFill>
                  <a:srgbClr val="009999"/>
                </a:solidFill>
                <a:uFillTx/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      </a:t>
            </a:r>
            <a:r>
              <a:rPr b="1" i="1" lang="en-US" sz="1400" spc="-1" strike="noStrike" u="sng">
                <a:solidFill>
                  <a:srgbClr val="009999"/>
                </a:solidFill>
                <a:uFillTx/>
                <a:latin typeface="Arial"/>
              </a:rPr>
              <a:t>Развивающ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пособствовать развитию  памяти, внимания, воображени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вязной речи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i="1" lang="en-US" sz="1400" spc="-1" strike="noStrike" u="sng">
                <a:solidFill>
                  <a:srgbClr val="009999"/>
                </a:solidFill>
                <a:uFillTx/>
                <a:latin typeface="Arial"/>
              </a:rPr>
              <a:t>Воспитательные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оспитывать интерес к познанию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кружающего мира, бережное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тношение к обитателям жив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ирод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4549680"/>
            <a:ext cx="3492360" cy="2308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643280" y="5013360"/>
            <a:ext cx="409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Данное пособие мож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использовать к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на занятиях, так и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режимных момен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Содерж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822960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Дидактические игры и упражн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Кто что ест?», « Чей хвост?», «Собери картинку», «Назови животное», «Четвертый лишний», «Собери семью и назови правильно», «Чей след», «Угадай чья тень», «Травоядные и хищник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Раскра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Книжки - гармошки и книжки – малышки с загадками,  стихами, пословицами и поговорками и повадками диких живот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63640" y="3213000"/>
            <a:ext cx="3125880" cy="3645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435640" y="3141720"/>
            <a:ext cx="297324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049840" y="404640"/>
            <a:ext cx="529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«Чья тень?», «Чей хвост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25480" y="1197000"/>
            <a:ext cx="776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Цель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развивать способность анализировать; закреплять ум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личать и называть животных; учить употребля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уществительные в родительном падеже единственного чис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95280" y="2205000"/>
            <a:ext cx="3995640" cy="2998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500720" y="3832200"/>
            <a:ext cx="403200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555640" y="189000"/>
            <a:ext cx="392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«Назови животно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632400" y="907920"/>
            <a:ext cx="528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Цель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креплять знания детей о дик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ивотных, умение различать  и наход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ужное животное; учить описыв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ивот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3058920" cy="2293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916360" y="3141720"/>
            <a:ext cx="38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«Собери картинк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771640" y="4564080"/>
            <a:ext cx="3059280" cy="2293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147640" y="4149720"/>
            <a:ext cx="4254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Цель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ь правильно собир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ображение из отдель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асте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ормировать предст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 целостном образе животн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0" y="3716280"/>
            <a:ext cx="331308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123640" y="0"/>
            <a:ext cx="426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«Четвертый лишни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20" y="907920"/>
            <a:ext cx="3391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Цель: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вать ум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лассифицировать живот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 существенным  признака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креплять знание дик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ивот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492360" y="620640"/>
            <a:ext cx="3113280" cy="23353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300720" y="1268280"/>
            <a:ext cx="2843280" cy="2132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81840" y="3429000"/>
            <a:ext cx="728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«Собери семью и назови правильн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6659640" y="4491000"/>
            <a:ext cx="2484360" cy="2367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4356000" y="3933720"/>
            <a:ext cx="2448000" cy="2362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96920" y="4149720"/>
            <a:ext cx="4184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Цель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вать наблюдательнос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нимание и аналитиче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особности; активизиров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ловарь детей в употребле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званий животных и их детеныш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277440" y="260280"/>
            <a:ext cx="166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Загад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-1440" y="907920"/>
            <a:ext cx="688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Цель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ь детей концентрировать внимание, мобилизов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ыслительную деятельность для поиска ответа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6453360" cy="1944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47320" y="3573360"/>
            <a:ext cx="8721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Раскрас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с изображением диких животных способствуют развитию мел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торики рук детей и также позволяют закрепить знание окраски живот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4537080"/>
            <a:ext cx="3384720" cy="2320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3924360" y="4624560"/>
            <a:ext cx="4859280" cy="22334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6831000" y="620640"/>
            <a:ext cx="2313000" cy="2997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6300720" y="1197000"/>
            <a:ext cx="231768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37120" y="692280"/>
            <a:ext cx="80568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накомство со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стихами, пословицами и повадкам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живот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зволяет формировать и расширять представления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 внешнем виде, повадках, образе жизни диких живот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 также пополняют словарный запас детей прилагательн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косолапый, неуклюжий, ловкий…) и глаголами (скачет, рыщет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443640" y="3933720"/>
            <a:ext cx="2192400" cy="2924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635280" y="2997360"/>
            <a:ext cx="2916360" cy="26064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0" y="2276640"/>
            <a:ext cx="363528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1-14T07:13:44Z</dcterms:created>
  <dc:creator>Света</dc:creator>
  <dc:description/>
  <dc:language>en-US</dc:language>
  <cp:lastModifiedBy>Света</cp:lastModifiedBy>
  <dcterms:modified xsi:type="dcterms:W3CDTF">2020-07-28T13:48:56Z</dcterms:modified>
  <cp:revision>48</cp:revision>
  <dc:subject/>
  <dc:title>Слайд 1</dc:title>
</cp:coreProperties>
</file>