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0E4-A627-4BF3-A3DB-8400BAD2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A70-A825-4635-9B7B-C3D75821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7C96F-C6D2-4D70-B6BD-690EF6C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D00C2-FDAE-4625-A5A5-1A255B40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3D9BB-2E66-4347-8813-30CA090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4D95-B0D3-4818-8FBB-FE1044A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29CAA-3EE9-4CA2-A826-2D40244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429A2-82B5-444F-BC55-259A534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2968A-E4D2-4FBD-BFDD-26FA15A2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FD601-03D7-4590-A841-CFFFCCA8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4098-60F5-43B2-8089-94715C8E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54B-8A99-4C12-9B40-E24C64CE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545-71BB-4713-B651-97DFBA20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FBE-D444-40B6-AFD8-93A94361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4B3A-3D5E-4D19-B63C-FD49F887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6E1-4554-4024-B97E-D5624FF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89F2-F969-45B0-A201-9DA578D2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96A5-2E7B-45D1-B09A-0F882197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A632-F6B9-461C-BB07-ABA8CA2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C89-795C-44ED-B907-4392423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BFC-4DB4-4927-A18C-A9926E2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A3E-F7A9-4AE9-A0AB-F84814A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4D0-A5B2-4C61-BDAC-7375D69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4B5-84B0-41BC-AD81-F0AF48D4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4CF9-D00A-4ADB-9020-CDEB7B9D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AEE-207E-42BC-AC14-B27F23F0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F316-E155-4A49-848E-006283D6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C035-138C-45EA-B25D-8BDB130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2AE7-C128-404E-9263-BDF81FB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0F52-C004-4F9E-A6DA-098C0D79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14D3-9FFF-410E-AC9B-CAA7535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FAD-5415-4B67-A6A0-98299DE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08FC-03DB-4254-AC4F-040F07B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B489-09C6-4726-BEDC-06AE336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7CBC-19E2-4930-BECC-2C3ACF8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CB8E-50F4-426A-BCDA-572EAFCF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1169-D8DB-4F67-90C2-AAF1340E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BAA9-5578-4177-86FF-C82D5139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B852-5557-47C3-8069-0E25CD46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D07F-4EB1-4CF2-B2EE-94C6B513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7255-0614-49A2-9778-9AACF839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A134-BF0F-4C0A-866E-E718B4D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926-D91F-4FA9-A744-5413132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8453-A62E-400B-86D2-2B55606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3D81-37F6-4227-8969-2F7AEA1D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B64D-5CBF-42FF-8852-356C131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E2FE-CD62-4057-A8D2-5D2CF57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46BE-E8A8-4B7D-AF14-5DE54CF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48A6-A8A6-4CA7-9D8C-95B2976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4655-E504-48F9-A79C-8D4318FF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F7A1-ED5C-4D52-BBE1-719B8F51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E395-BF95-4388-80A2-C9A93AD9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9E62-DB93-4D39-BE32-529A96A1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3B3-C123-4113-8042-83A18CD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A9BF-E5DC-4689-82F6-0EC5415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380C-8B14-48BE-8C8D-7E0C5C9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F2C56-5B74-4E53-9AAB-1FF7D38E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3844-F488-44EC-97E6-781180C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7E74-5320-48B0-877C-DE30336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3A4B-40E5-4EDB-BA15-4999A37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B0FF-AA19-4917-BBF3-E2DA3BD0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3977-2809-4D9F-B885-023BA8E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59239-05D5-49FA-ABF6-C6C7240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C4C0-7EAE-43B7-81D9-343813A5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798-2454-4029-A224-F4F3BEAF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5911-D0C1-45FE-96B7-7D2EAA3C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334F-ABB5-4789-9989-6E364E2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EBA3-5C8B-4CF9-9AC8-2DE3AA69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0085-1899-4846-80CB-EF04E7B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5895-0B4A-4D80-B81A-B6EC479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3A69-9F3F-472A-BA08-C3AD17F0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243F-EA02-420E-811D-CE17A35D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72CA-7AFA-4D72-8194-44F6813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95BE-98DB-4F15-B945-4DB0853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02AC6-6120-4172-9C47-7CE7791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A94-D2D0-4DE5-A24D-659EFEF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DEF0-1585-4955-92F6-2269A0DB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07F2-B166-42AF-A1A5-C2F17026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60C9-7EB0-4A27-B4E6-B77F3A05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A26C2-DFED-4120-8E47-D6B699B8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B495-4B6C-4080-A537-471847E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DC0E-1C17-4979-A33C-BADD05CA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DC4D-2B06-451F-B3F6-4CB4793A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5354-8E37-4A48-8275-8C122742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16E5-FD09-4C55-A2D8-BE86E90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8DD6-6D1E-47DD-8DBA-81C651B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ED1-79FE-435C-9219-6B65F9C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11F9-3762-47A4-AA51-B9DA6B5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27E9-F125-4C7E-9D97-96D86AD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AA7D-54D0-4E28-9AA8-02D6950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AD10-E25B-4825-A316-DB8AC987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7763-2D93-4D3E-A9F7-69D29959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BFFAF-C6E6-484F-BB59-B3C28CB9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82D72-C3C5-420F-8B3C-6C39867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0DCCF-364D-4FB5-9EE7-C6EAF608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0CD2-B8EF-4D1A-BCAA-E1DA152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BA36-EB17-4958-8875-FD717F8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B3A-385A-4F73-A135-34366405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09E2E-0EDB-4005-9A9D-76D4AD0F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0B48-6E43-42A9-B435-27A4EE0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D93CE-DC99-46C8-8129-7003E0B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83EE-F441-4FE8-BA7E-3942D5F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58BCA-3A23-4955-866D-CA0D4655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A2A2-122D-4BCC-94EF-6312921F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CF11B-8DFA-4B21-B012-94E34839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A5B74-EF49-46AD-89ED-5900E683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E42E-C0E2-4064-9DD3-8E20C27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E0101-8D51-47D2-A827-34B4574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969C-F4C3-4A86-9761-A3EB32F61D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0F81-D53C-4C5F-B148-A0DD8997AD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2E54-B008-4A1E-8657-445749CD73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96E-60C0-42FB-BBFD-9765CD56D3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ABC1-81C4-4EAE-836B-6E3315B4BC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1A72-4806-4043-A466-E236084E3D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7813-0C61-4A55-A2BE-D927D4998C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44E1-F819-4DD3-AE18-053364DDE8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DA2-E624-4D65-8564-BBE1DBE903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artizanpolyana.ru/wp-content/uploads/2013/03/p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6_&#1086;&#1082;&#1090;&#1103;&#1073;&#1088;&#1103;" TargetMode="External"/><Relationship Id="rId3" Type="http://schemas.openxmlformats.org/officeDocument/2006/relationships/hyperlink" Target="http://ru.wikipedia.org/wiki/1941_&#1075;&#1086;&#1076;" TargetMode="External"/><Relationship Id="rId4" Type="http://schemas.openxmlformats.org/officeDocument/2006/relationships/hyperlink" Target="http://ru.wikipedia.org/wiki/&#1041;&#1088;&#1103;&#1085;&#1089;&#1082;&#1080;&#1077;_&#1083;&#1077;&#1089;&#1072;" TargetMode="External"/><Relationship Id="rId5" Type="http://schemas.openxmlformats.org/officeDocument/2006/relationships/hyperlink" Target="http://ru.wikipedia.org/wiki/&#1051;&#1077;&#1089;&#1085;&#1099;&#1077;_&#1057;&#1072;&#1088;&#1072;&#1080;" TargetMode="External"/><Relationship Id="rId6" Type="http://schemas.openxmlformats.org/officeDocument/2006/relationships/hyperlink" Target="http://ru.wikipedia.org/wiki/&#1059;&#1088;&#1080;&#1094;&#1082;&#1080;&#1081;_%28&#1041;&#1088;&#1103;&#1085;&#1089;&#1082;%29" TargetMode="External"/><Relationship Id="rId7" Type="http://schemas.openxmlformats.org/officeDocument/2006/relationships/hyperlink" Target="http://ru.wikipedia.org/wiki/17_&#1089;&#1077;&#1085;&#1090;&#1103;&#1073;&#1088;&#1103;" TargetMode="External"/><Relationship Id="rId8" Type="http://schemas.openxmlformats.org/officeDocument/2006/relationships/hyperlink" Target="http://ru.wikipedia.org/wiki/1943_&#1075;&#1086;&#1076;" TargetMode="External"/><Relationship Id="rId9" Type="http://schemas.openxmlformats.org/officeDocument/2006/relationships/hyperlink" Target="http://ru.wikipedia.org/wiki/&#1041;&#1088;&#1103;&#1085;&#1089;&#1082;&#1072;&#1103;_&#1086;&#1087;&#1077;&#1088;&#1072;&#1094;&#1080;&#1103;" TargetMode="External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57;&#1086;&#1074;&#1077;&#1090;&#1089;&#1082;&#1080;&#1081;_&#1088;&#1072;&#1081;&#1086;&#1085;_%28&#1041;&#1088;&#1103;&#1085;&#1089;&#1082;%29" TargetMode="External"/><Relationship Id="rId3" Type="http://schemas.openxmlformats.org/officeDocument/2006/relationships/hyperlink" Target="http://ru.wikipedia.org/wiki/&#1055;&#1080;&#1083;&#1086;&#1085;" TargetMode="External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artizanpolyana.ru/?page_id=10" TargetMode="External"/><Relationship Id="rId2" Type="http://schemas.openxmlformats.org/officeDocument/2006/relationships/hyperlink" Target="http://partizanpolyana.ru/wp-content/uploads/2013/03/p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684360" y="62064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db3e2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db3e2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00" name="Рисунок 123" descr="http://www.anapakurort.info/forum/images/2012/06/6615_bryansk_e1y_1.jpg"/>
          <p:cNvPicPr/>
          <p:nvPr/>
        </p:nvPicPr>
        <p:blipFill>
          <a:blip r:embed="rId1"/>
          <a:srcRect l="0" t="0" r="0" b="6558"/>
          <a:stretch/>
        </p:blipFill>
        <p:spPr>
          <a:xfrm>
            <a:off x="826920" y="1341360"/>
            <a:ext cx="7201080" cy="43912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>
            <a:off x="75564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мятники военной истории Брянщ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547640" y="-3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льптура «Партизан в заса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89" descr="p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7650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 flipV="1" rot="10800000">
            <a:off x="394920" y="2822760"/>
            <a:ext cx="84978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льптура «Партизан в засаде» встречает посетителей у входа в комплекс (автор её – скульптор А. Кобилинец). Решимость сражаться до победы и мужество народа, поднявшегося на защиту своей Родины, олицетворяет она. В Брянских лесах в годы оккупации действовало 139 отрядов и 27 партизанских бригад общей численностью более 60 тысяч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1814400" y="60120"/>
            <a:ext cx="55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тизанские земля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90" descr="p3"/>
          <p:cNvPicPr/>
          <p:nvPr/>
        </p:nvPicPr>
        <p:blipFill>
          <a:blip r:embed="rId1"/>
          <a:stretch/>
        </p:blipFill>
        <p:spPr>
          <a:xfrm>
            <a:off x="179280" y="692280"/>
            <a:ext cx="3138480" cy="2260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 flipV="1" rot="10800000">
            <a:off x="539280" y="3089520"/>
            <a:ext cx="799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кронами развесистых дубов притаились партизанские землянки. У партизан было несколько типов землянок: для отдыха, штабные, медицинские. В землянках вы сможете увидеть суровую обстановку, нехитрую утварь, почувствовать живое дыхание тех далёких лет. Землянки на Партизанской поляне восстановлены: медицинская (у берега) в 1969 г., штабная в 1983 г. Землянка для отдыха, которая всегда открыта для посетителей, восстановлена в 1977 году со слов со слов секретаря Брянского горкома партии Щёкина и бойца партизанского отряда Д. Е. Кравцова Костина Ф. А.. В землянке можно увидеть простую мебель, нары, печу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3995640" y="907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ьётся в тёплой печурке огонь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леньях смола, как слез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поёт мне в землянке гармонь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 улыбку твою и глаз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539640" y="3758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ипидарная масте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91" descr="p4"/>
          <p:cNvPicPr/>
          <p:nvPr/>
        </p:nvPicPr>
        <p:blipFill>
          <a:blip r:embed="rId1"/>
          <a:stretch/>
        </p:blipFill>
        <p:spPr>
          <a:xfrm>
            <a:off x="395280" y="1484280"/>
            <a:ext cx="2521080" cy="286236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 flipV="1" rot="10800000">
            <a:off x="3276720" y="1223640"/>
            <a:ext cx="496728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берегу реки Снежеть восстановлена партизанская скипидарная мастерская. В таких мастерских с помощью «минских реторт» партизаны из смолы получали скипидар, применявшийся в качестве горючего для автомобилей и лёгких танков, для заправки автомобильной техники, как антисептик в медицинских целях. Мастерская восстановлена по рассказам партиз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х экстремальных условиях, в которых выживали партизанские отряды, особенно на первых этапах партизанского движения, производство скипидара в кустарных условиях имело очень важн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843280" y="2624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ли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92" descr="p5"/>
          <p:cNvPicPr/>
          <p:nvPr/>
        </p:nvPicPr>
        <p:blipFill>
          <a:blip r:embed="rId1"/>
          <a:stretch/>
        </p:blipFill>
        <p:spPr>
          <a:xfrm>
            <a:off x="179280" y="1413000"/>
            <a:ext cx="2521080" cy="41767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 flipV="1" rot="10800000">
            <a:off x="2771640" y="1398240"/>
            <a:ext cx="554544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артизанской тропе, ставшей всенародной дорогой, установлены мраморные обелиски, которые рассказывают о подвигах и итогах боевого пути партизанских бригад им. Д. Е. Кравцова и Н. А. Щорса. Мраморные глыбы для их изготовления прислали в 1971 году уральцы, поражённые беспрецедентным размахом партизанского движения на Брянщине. Первый обелиск посвящен партизанской бригаде имени Н. А. Щорса, действовавшей с августа 1941 по сентябрь 1943 года. В составе бригады было 1053 партизана и партизанок. Ею было уничтожено свыше 155 тысяч немецких солдат и офицеров, 80 воинских эшелонов и бронепоездов, 783 автомашины, танка и бронемашины, 10 самолетов, 48 мостов на железнодорожных и грунтовых дорогах, 10 км железнодорожного пути, 25 км телефонно-телеграфной связ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обелиск на поляне посвящён партизанской бригаде им. Д. Е. Кравцова. В её составе было 640 партизан и партизанок. Ею было уничтожено свыше 22 тысяч немецких солдат и офицеров, 111 воинских эшелонов и бронепоездов, 630 автомашин, танков и бронемашин, самолёт, 57 мостов на железнодорожных и грунтовых дорогах, более 19 км ж/д пути, 6 км телефонно-телеграфной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1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94" descr="p7"/>
          <p:cNvPicPr/>
          <p:nvPr/>
        </p:nvPicPr>
        <p:blipFill>
          <a:blip r:embed="rId1"/>
          <a:stretch/>
        </p:blipFill>
        <p:spPr>
          <a:xfrm>
            <a:off x="468360" y="1052640"/>
            <a:ext cx="1438200" cy="2000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95" descr="p8"/>
          <p:cNvPicPr/>
          <p:nvPr/>
        </p:nvPicPr>
        <p:blipFill>
          <a:blip r:embed="rId2"/>
          <a:stretch/>
        </p:blipFill>
        <p:spPr>
          <a:xfrm>
            <a:off x="395280" y="4292640"/>
            <a:ext cx="1647720" cy="2286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4"/>
          <p:cNvSpPr/>
          <p:nvPr/>
        </p:nvSpPr>
        <p:spPr>
          <a:xfrm flipV="1" rot="10800000">
            <a:off x="2410920" y="720360"/>
            <a:ext cx="5905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8-метровый пилон, имеющий вид полуразвёрнутого знамени, возвышается в центре мемориала. Это центральное и одновременно самое высокое место мемориального комплекса. С подножия пилона открывается живописный вид на озеро, которое прекрасно в любое время года. Озеро образовалось там, где брали землю для холма, и сразу очень гармонично вписалось в панораму комплек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 flipV="1" rot="10800000">
            <a:off x="2627280" y="4088160"/>
            <a:ext cx="612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на памяти – главный монумент комплекса (авторы – скульптор А. Кобилинец, архитектор – А. Виноградов): на красном граните увековечены 8 306 фамилий погибших партизан. «Стена Памяти» имеет восемь знамённых групп и 6 горельефных композиций, которые помогают нам понять чувства людей – свидетелей той страшной войны. И потому говорят, что горельефные фигуры – не из бронзы, они из плоти и кро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"/>
          <p:cNvSpPr/>
          <p:nvPr/>
        </p:nvSpPr>
        <p:spPr>
          <a:xfrm>
            <a:off x="3810960" y="32446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н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95640" y="446040"/>
            <a:ext cx="51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чный 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96" descr="1pp18"/>
          <p:cNvPicPr/>
          <p:nvPr/>
        </p:nvPicPr>
        <p:blipFill>
          <a:blip r:embed="rId1"/>
          <a:stretch/>
        </p:blipFill>
        <p:spPr>
          <a:xfrm>
            <a:off x="179280" y="1844640"/>
            <a:ext cx="2857680" cy="2133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3"/>
          <p:cNvSpPr/>
          <p:nvPr/>
        </p:nvSpPr>
        <p:spPr>
          <a:xfrm flipV="1" rot="10800000">
            <a:off x="3564000" y="129708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мволический партизанский костёр – сердце Партизанской поляны. Головешки костра чугунные, имитированы под деревянные. Здесь принимают присягу воины и милиционеры, к Вечному Огню несут цветы молодожёны. Вечный Огонь горит на Партизанской поляне всегда: ночью и днём, летом и зимой. Колышется его пламя, и кажется, что незримым строем его обступили герои-партизаны. Отблески костра на стене окружающего леса, похожие на всполохи зарниц, возвращают нас в героическое прош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993600" y="407880"/>
            <a:ext cx="7699680" cy="3444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1220437294m"/>
          <p:cNvPicPr/>
          <p:nvPr/>
        </p:nvPicPr>
        <p:blipFill>
          <a:blip r:embed="rId2"/>
          <a:stretch/>
        </p:blipFill>
        <p:spPr>
          <a:xfrm>
            <a:off x="4284720" y="3573360"/>
            <a:ext cx="41749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684360" y="158256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Великой Отечественной вой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6 октяб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1941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ород Брянск был оккупирован немецкими войсками. В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4"/>
              </a:rPr>
              <a:t>лесах Брянщи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йствовали партизанские отряды общей численностью до 60 тысяч человек. Значительная часть мирного населения была истреблена (массовые захоронения в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5"/>
              </a:rPr>
              <a:t>Лесных Сарая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нцлагерь № 142 в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6"/>
              </a:rPr>
              <a:t>Радиц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7"/>
              </a:rPr>
              <a:t>17 сентяб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8"/>
              </a:rPr>
              <a:t>1943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рянск был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Calibri"/>
                <a:hlinkClick r:id="rId9"/>
              </a:rPr>
              <a:t>освобождё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ветскими войсками, в настоящее время эта дата отмечается как День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2979000" y="-144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ела Воинской С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50" descr="http://photo.flap.biz/i/orgs/3/883/3883154_middle.jpg?0"/>
          <p:cNvPicPr/>
          <p:nvPr/>
        </p:nvPicPr>
        <p:blipFill>
          <a:blip r:embed="rId1"/>
          <a:stretch/>
        </p:blipFill>
        <p:spPr>
          <a:xfrm>
            <a:off x="395280" y="1125360"/>
            <a:ext cx="3816360" cy="4824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 flipV="1" rot="10800000">
            <a:off x="4643280" y="383760"/>
            <a:ext cx="410544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25 марта 2010 года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Президент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Д.А.Медведе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подписал Указы о присво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почётного звания «Город воинской слав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ведение памятной стелы — обязательное условие при получении городом звания воинской славы. Брянск одним из первых установил мемориал. Гранитная стела высотой 7 метров увенчана двуглавым орлом, символом России. На барельефах вокруг мемориала — боевая история Брянска, начиная от Александра Пересвета. Памятник доблести и славы освятил епископ Брянский и Севский Феофилакт. Полномочный представитель президента в ЦФО Георгий Полтавченко отметил заслуги Брянска и области в общей истории России, особенно в годы Великой Отечественной войны. Ведь именно на Брянщине зародилось партизанское движ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900000" y="260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ган Бессмер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46" descr="&amp;Kcy;&amp;ucy;&amp;rcy;&amp;gcy;&amp;acy;&amp;ncy; &amp;Bcy;&amp;iecy;&amp;scy;&amp;scy;&amp;mcy;&amp;iecy;&amp;rcy;&amp;tcy;&amp;icy;&amp;yacy;"/>
          <p:cNvPicPr/>
          <p:nvPr/>
        </p:nvPicPr>
        <p:blipFill>
          <a:blip r:embed="rId1"/>
          <a:stretch/>
        </p:blipFill>
        <p:spPr>
          <a:xfrm>
            <a:off x="179280" y="170028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4859280" y="692280"/>
            <a:ext cx="367344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амятник павшим в борьбе с немецко-фашистскими захватчиками, ставший одним из символов города Брянска. Расположен в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Советском районе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города, в центральном парке культуры и отдыха «Соловьи» (им. 1000-летия Брянска), Представляет собой искусственную земляную насыпь в виде пятигранного холма общим объёмом свыше 20 тысяч кубических метров и высотой 12 метров, которую венчает 18-метровый бетонный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пилон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в виде пятиконечной звез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следние работы завершились в 1972 году, когда состоялось торжественное открытие пилон в виде пятиконечной звез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2478240" y="260280"/>
            <a:ext cx="41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освободителям Бря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37" descr="&amp;Pcy;&amp;acy;&amp;mcy;&amp;yacy;&amp;tcy;&amp;ncy;&amp;icy;&amp;kcy; &amp;ocy;&amp;scy;&amp;vcy;&amp;ocy;&amp;bcy;&amp;ocy;&amp;dcy;&amp;icy;&amp;tcy;&amp;iecy;&amp;lcy;&amp;yacy;&amp;mcy; &amp;Bcy;&amp;rcy;&amp;yacy;&amp;ncy;&amp;scy;&amp;kcy;&amp;acy;"/>
          <p:cNvPicPr/>
          <p:nvPr/>
        </p:nvPicPr>
        <p:blipFill>
          <a:blip r:embed="rId1"/>
          <a:stretch/>
        </p:blipFill>
        <p:spPr>
          <a:xfrm>
            <a:off x="539640" y="1341360"/>
            <a:ext cx="3384720" cy="3888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3"/>
          <p:cNvSpPr/>
          <p:nvPr/>
        </p:nvSpPr>
        <p:spPr>
          <a:xfrm>
            <a:off x="3995640" y="652320"/>
            <a:ext cx="446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ткрытие памятника воинам и партизанам состоялось 17 сентября 1966 года и было приурочено к 23-годовщине освобождения Брянска от фашистов. Создателем скульптуры стал А. Файдыш-Крандиевский, архитекторами М. Барщ, А. Колчи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амятник состоит из трех композиций. Центром является пилон, перед которым установлена бронзовая скульптура воина в образе коммуниста-комиссара, который призывает воинов начать стремительную атаку. На лицевой стороне обелиска красуются слова «За нашу Советскую родину». Справа от центра композиции находится бронзовая скульптура идущих в бой солдат, слева — группа партиза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Брянск был освобожден от немецких войск 17 сентября 1943 года воинами Советской армии и партизанами. Они были разделена на 139 партизанских отрядов и общая численность партизан составляла более 60 тысяч человек — бойцов и командиров. Среди них сражались представители 42 национальностей, а так же европейские антифашисты из Англии, Германии, Венгрии, Болгарии, Исп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"/>
          <p:cNvSpPr/>
          <p:nvPr/>
        </p:nvSpPr>
        <p:spPr>
          <a:xfrm>
            <a:off x="2484360" y="-108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сные сар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1118"/>
          <p:cNvPicPr/>
          <p:nvPr/>
        </p:nvPicPr>
        <p:blipFill>
          <a:blip r:embed="rId1"/>
          <a:stretch/>
        </p:blipFill>
        <p:spPr>
          <a:xfrm>
            <a:off x="539640" y="981000"/>
            <a:ext cx="4032360" cy="44640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 flipV="1" rot="10800000">
            <a:off x="4642920" y="343080"/>
            <a:ext cx="3961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сные сараи - место массовых расстрелов местных жителей в годы немецко-фашисткой оккупации города (1941-1943 гг). В XIX веке здесь располагались склады артиллерийского ведомства. А т.к. находились они в сосновом лесу, то получили название "лесные сараи". После освобождения Брянска частями Красной Армии в сентябре 1943 года, на склонах оврага в Лесных Сараях было обнаружено несколько больших ям с трупами расстрелянных и замученных мирных граждан. Большинство из них — жители города Брянска. До настоящего времени не установлено, действовал ли в Лесных Сараях концлагерь, или же это было место массовых казней, или место захоронения жертв репрессий. Принято считать, что Лесные Сараи в годы оккупации стали "главным" местом массовых казней горожан, противящихся "новому порядку".Принято считать, что Лесные Сараи в годы оккупации стали главным местом массовых казней горожан, противящихся режиму гитлеровской армии. При этом количество жертв, по сообщениям разных источников, варьируется от 1215 до 19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3260880" y="1890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вод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10" descr="&amp;Pcy;&amp;acy;&amp;mcy;&amp;yacy;&amp;tcy;&amp;ncy;&amp;icy;&amp;kcy; &amp;vcy;&amp;ocy;&amp;dcy;&amp;icy;&amp;tcy;&amp;iecy;&amp;lcy;&amp;yacy;&amp;mcy;"/>
          <p:cNvPicPr/>
          <p:nvPr/>
        </p:nvPicPr>
        <p:blipFill>
          <a:blip r:embed="rId1"/>
          <a:stretch/>
        </p:blipFill>
        <p:spPr>
          <a:xfrm>
            <a:off x="395280" y="112536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 flipV="1" rot="10800000">
            <a:off x="4788000" y="505440"/>
            <a:ext cx="3744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2 сентября 1968 года, накануне празднования освобождения Брянска от фашистских войск на трассе Орел-Брянск состоялось торжественное открытие памятника воинам-водителям. Невозможно переоценить вклад водителей в победу в Великой отечественной войне. Их самоотверженная работа на передовых и в тылу заслуживает безграничного уважен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еревозя тонны грузов, оружия, провизии, они рисковали своими жизнями что бы доставить все в пункт назначения. Многие так и не вернулись с фрон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амятник изображает фигуру водителя, стоящего на подножке автомобиля у подножия 30-метрового пилона, рука его крепко сжимает руль, а строгий взгляд устремлен куда-то вдаль. Место для памятника тоже выбрано не просто так. Именно о этой трассе на фронт уходила 18-я автомобильная бригада, а несколькими годами позже пришли освободители гор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апротив памятника установлены так называемые полуторки — ГАЗ-АА и ЗиС-5, не муляжи, а настоящие автомобили, которые прошли вой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2627280" y="40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Летч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147" descr="http://img-fotki.yandex.ru/get/6413/35340376.34/0_84783_2d150a1d_XL"/>
          <p:cNvPicPr/>
          <p:nvPr/>
        </p:nvPicPr>
        <p:blipFill>
          <a:blip r:embed="rId1"/>
          <a:stretch/>
        </p:blipFill>
        <p:spPr>
          <a:xfrm>
            <a:off x="200160" y="1341360"/>
            <a:ext cx="4516200" cy="40323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 flipV="1" rot="10800000">
            <a:off x="4932360" y="767160"/>
            <a:ext cx="3672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мятник Летчикам установлен на въезде в город со стороны Смоленска в память о брянских пилотах, защищавших нашу Родину в годы Отечественной войны и выполнявших воинский долг в послевоенные годы, неподалеку от летного поля старого аэропорта был установлен на постамент знаменитый реактивный истребитель 50-х годов МиГ-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памятник имеет и другое значение. Первоначально Брянский аэродром был военным, и жители города часто видели поднимающиеся на охрану спокойствия родной страны грозные истребители. Затем военная база была перестроена в гражданский аэропорт, и вместо боевых машин появились АН-24, ЯК-40, самолеты сельхозавиации. И теперь в мемориальной композиции последний МиГ взмывает в ясное голубое неб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 flipV="1" rot="10800000">
            <a:off x="611280" y="14508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Calibri"/>
                <a:ea typeface="Times New Roman"/>
                <a:hlinkClick r:id="rId1"/>
              </a:rPr>
              <a:t>Мемориальный комплекс «Партизанская поля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88" descr="p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413000"/>
            <a:ext cx="2057400" cy="28573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 flipV="1" rot="10800000">
            <a:off x="3276360" y="12240"/>
            <a:ext cx="532764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ссмертному подвигу защитников Родины, храбро дравшихся с врагом, посвящён мемориальный комплекс «Партизанская поляна». Мысль о создании памятника партизанам впервые зародилась на встрече партизан бригад имени Д. Е. Кравцова и Н. А. Щорса 13 сентября 1968 года. Проект ансамбля безвозмездно разработан брянским художником-архитектором Василием Николаевичем Городковым. Это была поистине народная стройка! На мемориале работали маленькие дети и седые старушки, профессиональные строители и домохозяйки, ветераны и молодёжь. Пожертвования приходили со всего Советского Союза. Торжественное его открытие состоялось 17 сентября 1969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18:14Z</dcterms:created>
  <dc:creator>user</dc:creator>
  <dc:description/>
  <dc:language>en-US</dc:language>
  <cp:lastModifiedBy>Андрей</cp:lastModifiedBy>
  <dcterms:modified xsi:type="dcterms:W3CDTF">2020-07-28T15:09:54Z</dcterms:modified>
  <cp:revision>11</cp:revision>
  <dc:subject/>
  <dc:title>Слайд 1</dc:title>
</cp:coreProperties>
</file>