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0078-89C9-4B7E-8315-2F40A89D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265B-7497-4379-B22B-38762388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7ACC-020F-4C1A-A7A7-3AD7D9AD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EF1-A63C-4235-B0E4-68F8E847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400A-6796-4CF6-94EF-D63A18DB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1C29-05BE-4B15-8C8E-E2B98AAF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B793-C696-4C8D-9B80-71003F04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992A-BF32-4688-9038-6D197C8C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4B9E-F9A6-44A8-ACF2-1340B619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4E65-9A6B-4F2D-BA7C-27259CA5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2180-408F-4211-A20F-1CC838B0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FE7-7D20-4BA8-8DC4-E8277EE3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22D1-CC83-40E6-9435-5A954379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F62D-FE40-40EC-A511-CB0C7E95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A08B-64C1-4496-ACD8-7F154A14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B354-B7B0-4EC1-A215-673490F3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CBA8-1AF1-4191-8695-AB96F533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EAB-1CF3-4907-AE0B-70F8FA07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11F4-7558-40E9-8F44-8FA02798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8761-0288-4A1C-A1E3-DF76D05B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8395-C65D-4CBE-9236-70E3B233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04C5-0AF5-4006-93A9-5297387C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18B-74DE-4BB0-97AF-BFFDB021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C8EE-6417-482C-96B9-4CFA12CA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9A8D-0D93-4929-91AA-92B5F957F3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F492-99EE-4B62-A79A-93AD1F319AF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одзаголовок 3"/>
          <p:cNvSpPr/>
          <p:nvPr/>
        </p:nvSpPr>
        <p:spPr>
          <a:xfrm>
            <a:off x="468360" y="2637000"/>
            <a:ext cx="85024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79315"/>
                </a:solidFill>
                <a:latin typeface="Arial"/>
              </a:rPr>
              <a:t> </a:t>
            </a:r>
            <a:br>
              <a:rPr sz="30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одзаголовок 3"/>
          <p:cNvSpPr/>
          <p:nvPr/>
        </p:nvSpPr>
        <p:spPr>
          <a:xfrm>
            <a:off x="1214280" y="928800"/>
            <a:ext cx="70027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ffff"/>
                </a:solidFill>
                <a:latin typeface="Calibri"/>
              </a:rPr>
              <a:t>Наши дети - подростки</a:t>
            </a:r>
            <a:r>
              <a:rPr b="1" lang="ru-RU" sz="10000" spc="-1" strike="noStrike">
                <a:solidFill>
                  <a:srgbClr val="b79315"/>
                </a:solidFill>
                <a:latin typeface="Arial"/>
              </a:rPr>
              <a:t> </a:t>
            </a:r>
            <a:br>
              <a:rPr sz="10000"/>
            </a:b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63160" y="404640"/>
            <a:ext cx="84121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Появляются собственные вкусы, взгляды, оценки, собственная линия пове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Появляется моральный «кодекс», предписывающий подросткам четкий стиль поведения в дружеских отношениях со сверстникам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взаимная поддерж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помощь в случае нужд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уверенность в друге и доверие к нем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защита друга в его отсутстви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принятие успехов друг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эмоциональный комфорт в обще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Comic Sans MS"/>
              </a:rPr>
              <a:t>      </a:t>
            </a:r>
            <a:r>
              <a:rPr b="1" lang="ru-RU" sz="2000" spc="-1" strike="noStrike">
                <a:solidFill>
                  <a:srgbClr val="cc6600"/>
                </a:solidFill>
                <a:latin typeface="Comic Sans MS"/>
              </a:rPr>
              <a:t>Так как подросток во многом непоследователен и противоречив, он часто отступает от этого свода правил, но от друзей ожидает их неукоснительного соблю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5651640" y="836640"/>
            <a:ext cx="3313080" cy="1008000"/>
          </a:xfrm>
          <a:prstGeom prst="cloudCallout">
            <a:avLst>
              <a:gd name="adj1" fmla="val -46166"/>
              <a:gd name="adj2" fmla="val -4653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5508720" y="1474920"/>
            <a:ext cx="107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372360" y="981000"/>
            <a:ext cx="194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33"/>
                </a:solidFill>
                <a:latin typeface="Comic Sans MS"/>
              </a:rPr>
              <a:t>Все нестабильно, взгляды могут измениться через недел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6516720" y="2852640"/>
            <a:ext cx="2303280" cy="1513080"/>
          </a:xfrm>
          <a:prstGeom prst="cloudCallout">
            <a:avLst>
              <a:gd name="adj1" fmla="val -71226"/>
              <a:gd name="adj2" fmla="val -5304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804000" y="3213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33"/>
                </a:solidFill>
                <a:latin typeface="Comic Sans MS"/>
              </a:rPr>
              <a:t>«Один за всех и все за одного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2356920"/>
            <a:ext cx="8820000" cy="825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8000"/>
                </a:solidFill>
                <a:uFillTx/>
                <a:latin typeface="Century Gothic"/>
              </a:rPr>
              <a:t>Внутренний мир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0040" y="3000240"/>
            <a:ext cx="8352000" cy="31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Сложные переживания, связанные с новыми отношениями, свои личностные черты и поступки анализируются им пристраст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Подросток хочет понять, какой он на самом деле, и представляет себе, каким он хотел бы бы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Comic Sans MS"/>
              </a:rPr>
              <a:t>Личностная рефлексия, потребность разобраться в себе самом порождают и 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исповедальность</a:t>
            </a:r>
            <a:r>
              <a:rPr b="1" lang="ru-RU" sz="1600" spc="-1" strike="noStrike">
                <a:solidFill>
                  <a:srgbClr val="993300"/>
                </a:solidFill>
                <a:latin typeface="Comic Sans MS"/>
              </a:rPr>
              <a:t> в общении с ровесниками, и 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дневники</a:t>
            </a:r>
            <a:r>
              <a:rPr b="1" lang="ru-RU" sz="1600" spc="-1" strike="noStrike">
                <a:solidFill>
                  <a:srgbClr val="993300"/>
                </a:solidFill>
                <a:latin typeface="Comic Sans MS"/>
              </a:rPr>
              <a:t>, которые начинают вести именно в этот период, 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стихи и фантаз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Самооценка в подростковом возрасте оказывается </a:t>
            </a:r>
            <a:r>
              <a:rPr b="1" lang="ru-RU" sz="1600" spc="-1" strike="noStrike">
                <a:solidFill>
                  <a:srgbClr val="008000"/>
                </a:solidFill>
                <a:latin typeface="Comic Sans MS"/>
              </a:rPr>
              <a:t>низкой</a:t>
            </a: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 по своему общему уровню и </a:t>
            </a:r>
            <a:r>
              <a:rPr b="1" lang="ru-RU" sz="1600" spc="-1" strike="noStrike">
                <a:solidFill>
                  <a:srgbClr val="008000"/>
                </a:solidFill>
                <a:latin typeface="Comic Sans MS"/>
              </a:rPr>
              <a:t>неустойчив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250920" y="189000"/>
            <a:ext cx="85294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Формируется «Я - концепция» ребен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611280" y="170028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мерно в 12-13 лет возникает интерес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 своему внутреннему миру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затем происходи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степенное усложнение и углубление самопозн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1" name="camera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3"/>
          <p:cNvCxnSpPr/>
          <p:nvPr/>
        </p:nvCxnSpPr>
        <p:spPr>
          <a:xfrm>
            <a:off x="4463640" y="6308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29480" cy="1401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Формируется образ «реального Я» и «идеального Я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250920" y="2276640"/>
            <a:ext cx="8713800" cy="43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дставления о собственной внешней привлекатель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Представления о своем ум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Представления о своих способностях в разных областя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Представления о силе характера, общительности, доброте и  других качества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ознавательный компонен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знание себ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знание своих различных каче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Оценочный и поведенческий компонен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ажно знать насколько значимы его индивидуальные особен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ценка своих качеств зависит от системы ценностей, сложившейся главным образом благодаря влиянию семьи и сверстни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cc0000"/>
                </a:solidFill>
                <a:latin typeface="Arial"/>
              </a:rPr>
              <a:t>Подросток – ещё не цельная зрелая личность. Неустойчивость, подвижность всей душевной жизни в начале и середине подросткового возраста приводит к изменчивости представлений о себ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357120" y="1357200"/>
            <a:ext cx="82296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8000"/>
                </a:solidFill>
                <a:uFillTx/>
                <a:latin typeface="Century Gothic"/>
              </a:rPr>
              <a:t>Реальное «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1" name="camera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cc33"/>
                </a:solidFill>
                <a:uFillTx/>
                <a:latin typeface="Century Gothic"/>
              </a:rPr>
              <a:t>Идеальное «Я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389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Идеальное «Я» может сильно отличаться от реаль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При высоком уровне притяза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При недостаточном осознании своих возможнос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Разрыв между идеальным образом и действительным своим положением приводит к </a:t>
            </a:r>
            <a:r>
              <a:rPr b="1" i="1" lang="ru-RU" sz="2000" spc="-1" strike="noStrike">
                <a:solidFill>
                  <a:srgbClr val="993300"/>
                </a:solidFill>
                <a:latin typeface="Comic Sans MS"/>
              </a:rPr>
              <a:t>неуверенности в себе</a:t>
            </a: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что внешне может выражаться в </a:t>
            </a:r>
            <a:r>
              <a:rPr b="1" i="1" lang="ru-RU" sz="2000" spc="-1" strike="noStrike">
                <a:solidFill>
                  <a:srgbClr val="993300"/>
                </a:solidFill>
                <a:latin typeface="Comic Sans MS"/>
              </a:rPr>
              <a:t>обидчивости, упрямстве, агрессив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Когда идеальный образ представляется достижимым, он побуждает к самовоспита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Подростки не только мечтают о том, какими они будут, но и стремятся развивать в себе желательные каче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У подростка развивается саморегуляц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99ff99"/>
                </a:solidFill>
                <a:uFillTx/>
                <a:latin typeface="Comic Sans MS"/>
              </a:rPr>
              <a:t>Общение со сверстникам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Общение пронизывает всю жизнь подростков, накладывая отпечаток и на учение, и на неучебные занятия, и на отношения с родител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Comic Sans MS"/>
              </a:rPr>
              <a:t>Ведущая деятельность в этот период – </a:t>
            </a:r>
            <a:r>
              <a:rPr b="1" i="1" lang="ru-RU" sz="2000" spc="-1" strike="noStrike">
                <a:solidFill>
                  <a:srgbClr val="993300"/>
                </a:solidFill>
                <a:latin typeface="Comic Sans MS"/>
              </a:rPr>
              <a:t>интимно-личностное общ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Подростковая дружба – сложное, часто противоречивое яв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«Счастье – это когда тебя понимают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Близкие друзья – ровесники одного и того же пола, учатся в одном классе, принадлежат к одной и той же сре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mic Sans MS"/>
              </a:rPr>
              <a:t>Неформальные груп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Взаимная симпат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Общие интересы, занят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Способы развлечений, место проведения свободного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99ff99"/>
                </a:solidFill>
                <a:uFillTx/>
                <a:latin typeface="Comic Sans MS"/>
              </a:rPr>
              <a:t>Общение со взрослым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Влияние родителей уже ограниче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Ценностные ориентации подростка, понимание им социальных проблем, нравственные оценки событий и поступков зависят в первую очередь от позиции род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Для подростков характерно стремление к </a:t>
            </a: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эмансипации  (</a:t>
            </a:r>
            <a:r>
              <a:rPr b="1" i="1" lang="ru-RU" sz="1400" spc="-1" strike="noStrike">
                <a:solidFill>
                  <a:srgbClr val="ffffff"/>
                </a:solidFill>
                <a:latin typeface="Comic Sans MS"/>
              </a:rPr>
              <a:t>освобождение от какой-либо зависимости, отмена каких-либо ограничений, уравнение в правах)</a:t>
            </a:r>
            <a:r>
              <a:rPr b="1" lang="ru-RU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от близких взрослы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i="1" lang="ru-RU" sz="1800" spc="-1" strike="noStrike">
                <a:solidFill>
                  <a:srgbClr val="ffffff"/>
                </a:solidFill>
                <a:latin typeface="Comic Sans MS"/>
              </a:rPr>
              <a:t>нуждаясь в родителях, их любви и заботе, в их мнени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mic Sans MS"/>
              </a:rPr>
              <a:t>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Comic Sans MS"/>
              </a:rPr>
              <a:t>они испытывают сильное желание быть самостоятельным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mic Sans MS"/>
              </a:rPr>
              <a:t>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Comic Sans MS"/>
              </a:rPr>
              <a:t>равными с ними в прав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990033"/>
                </a:solidFill>
                <a:latin typeface="Comic Sans MS"/>
              </a:rPr>
              <a:t>То, как сложатся отношения в этот трудный для обеих сторон период, зависит главным образом от стиля воспитания, сложившегося в семье, и возможностей родителей перестроиться – принять чувство взрослости своего ребе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одзаголовок 3"/>
          <p:cNvSpPr/>
          <p:nvPr/>
        </p:nvSpPr>
        <p:spPr>
          <a:xfrm>
            <a:off x="250920" y="189000"/>
            <a:ext cx="87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оведенческие особенности подростков:</a:t>
            </a:r>
            <a:r>
              <a:rPr b="1" lang="ru-RU" sz="3000" spc="-1" strike="noStrike">
                <a:solidFill>
                  <a:srgbClr val="b79315"/>
                </a:solidFill>
                <a:latin typeface="Constantia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95280" y="836640"/>
            <a:ext cx="8424720" cy="58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Подростковый возраст: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Стремятся быть взрослыми, но избегают ответстве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Выбирают себе куми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роявляется соревновательный моти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Чувствительность  к оценке посторонних своей внеш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Целеустремленность, настойчивость и импульсивно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устойчивость может смениться апатие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сутствие стремлений и желаний что-либо дела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ышенная самоуверенность, безаппеляцион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уждениях быстро меняется ранимостью и неуверенностью в себ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айняя самонадеянность и безаппеляционные суждения в отношении окружающ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имательность порой уживается с поразительной черствостью, болезненная застенчивость с развязностью, желанием быть признанным и оцененным другими - с показной независимостью, борьба с авторитетами, общепринятыми правилами и распространенными идеалами - с обожествлением случайных куми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39640" y="0"/>
          <a:ext cx="7704360" cy="679752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68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регите своих детей,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х за шалости не ругайте.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ло своих неудачных дней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когда на них не срывайте. 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сердитесь на них всерьез,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же если они провинились,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чего нет дороже слез,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о с ресничек родных скатились. 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ли валит усталость с ног,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ладать с нею нету мочи,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у а к Вам подойдет сынок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ли руки протянет дочка, 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нимите покрепче их.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тской ласкою дорожите.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о счастье - короткий миг.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ть счастливыми поспешите!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дь растают как снег весной,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елькнут дни златые эти,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покинут очаг родной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зрослевшие Ваши дети. 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листывая альбом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фотографиями детства,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грустью вспомните о былом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 тех днях, когда были вместе. 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же будете Вы хотеть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это время опять вернуться,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об им маленьким песню спеть,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Щечки нежной губами коснуться. 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пока в доме детский смех,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 игрушек некуда деться,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 на свете счастливей всех,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регите, пожалуйста, детство!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2" descr=""/>
          <p:cNvPicPr/>
          <p:nvPr/>
        </p:nvPicPr>
        <p:blipFill>
          <a:blip r:embed="rId1"/>
          <a:stretch/>
        </p:blipFill>
        <p:spPr>
          <a:xfrm>
            <a:off x="250920" y="0"/>
            <a:ext cx="8528040" cy="1951200"/>
          </a:xfrm>
          <a:prstGeom prst="rect">
            <a:avLst/>
          </a:prstGeom>
          <a:ln w="0">
            <a:noFill/>
          </a:ln>
        </p:spPr>
      </p:pic>
      <p:sp>
        <p:nvSpPr>
          <p:cNvPr id="214" name="Подзаголовок 3"/>
          <p:cNvSpPr/>
          <p:nvPr/>
        </p:nvSpPr>
        <p:spPr>
          <a:xfrm>
            <a:off x="468360" y="2637000"/>
            <a:ext cx="85024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1" lang="ru-RU" sz="6800" spc="-1" strike="noStrike">
                <a:solidFill>
                  <a:srgbClr val="ffffff"/>
                </a:solidFill>
                <a:latin typeface="Calibri"/>
              </a:rPr>
              <a:t>физиологическом</a:t>
            </a: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;</a:t>
            </a:r>
            <a:r>
              <a:rPr b="1" lang="ru-RU" sz="6600" spc="-1" strike="noStrike">
                <a:solidFill>
                  <a:srgbClr val="b79315"/>
                </a:solidFill>
                <a:latin typeface="Arial"/>
              </a:rPr>
              <a:t> </a:t>
            </a:r>
            <a:br>
              <a:rPr sz="30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одзаголовок 3"/>
          <p:cNvSpPr/>
          <p:nvPr/>
        </p:nvSpPr>
        <p:spPr>
          <a:xfrm>
            <a:off x="395280" y="3860640"/>
            <a:ext cx="835812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>
              <a:lnSpc>
                <a:spcPct val="6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3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6300" spc="-1" strike="noStrike">
                <a:solidFill>
                  <a:srgbClr val="ffffff"/>
                </a:solidFill>
                <a:latin typeface="Constantia"/>
              </a:rPr>
              <a:t>психологическом</a:t>
            </a:r>
            <a:r>
              <a:rPr b="1" lang="ru-RU" sz="5200" spc="-1" strike="noStrike">
                <a:solidFill>
                  <a:srgbClr val="ffffff"/>
                </a:solidFill>
                <a:latin typeface="Constantia"/>
              </a:rPr>
              <a:t>;</a:t>
            </a:r>
            <a:r>
              <a:rPr b="1" lang="ru-RU" sz="5200" spc="-1" strike="noStrike">
                <a:solidFill>
                  <a:srgbClr val="b79315"/>
                </a:solidFill>
                <a:latin typeface="Constantia"/>
              </a:rPr>
              <a:t> 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одзаголовок 3"/>
          <p:cNvSpPr/>
          <p:nvPr/>
        </p:nvSpPr>
        <p:spPr>
          <a:xfrm>
            <a:off x="324000" y="5157720"/>
            <a:ext cx="835812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>
              <a:lnSpc>
                <a:spcPct val="6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3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ru-RU" sz="6500" spc="-1" strike="noStrike">
                <a:solidFill>
                  <a:srgbClr val="ffffff"/>
                </a:solidFill>
                <a:latin typeface="Constantia"/>
              </a:rPr>
              <a:t> социальном</a:t>
            </a:r>
            <a:r>
              <a:rPr b="0" lang="ru-RU" sz="6300" spc="-1" strike="noStrike">
                <a:solidFill>
                  <a:srgbClr val="ffffff"/>
                </a:solidFill>
                <a:latin typeface="Constantia"/>
              </a:rPr>
              <a:t>.</a:t>
            </a:r>
            <a:r>
              <a:rPr b="1" lang="ru-RU" sz="3900" spc="-1" strike="noStrike">
                <a:solidFill>
                  <a:srgbClr val="b79315"/>
                </a:solidFill>
                <a:latin typeface="Constantia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одзаголовок 3"/>
          <p:cNvSpPr/>
          <p:nvPr/>
        </p:nvSpPr>
        <p:spPr>
          <a:xfrm>
            <a:off x="250920" y="189000"/>
            <a:ext cx="87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Период полового созревания</a:t>
            </a:r>
            <a:r>
              <a:rPr b="1" lang="ru-RU" sz="3900" spc="-1" strike="noStrike">
                <a:solidFill>
                  <a:srgbClr val="b79315"/>
                </a:solidFill>
                <a:latin typeface="Constantia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4"/>
          <p:cNvSpPr/>
          <p:nvPr/>
        </p:nvSpPr>
        <p:spPr>
          <a:xfrm>
            <a:off x="324000" y="1125360"/>
            <a:ext cx="4317840" cy="16192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и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оспособ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5"/>
          <p:cNvSpPr/>
          <p:nvPr/>
        </p:nvSpPr>
        <p:spPr>
          <a:xfrm>
            <a:off x="395280" y="3141720"/>
            <a:ext cx="4317840" cy="16192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внимательно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сеян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4643280" y="1916280"/>
            <a:ext cx="4318200" cy="16189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и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тереса к учеб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395280" y="5084640"/>
            <a:ext cx="4317840" cy="16192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выше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увстви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8"/>
          <p:cNvSpPr/>
          <p:nvPr/>
        </p:nvSpPr>
        <p:spPr>
          <a:xfrm>
            <a:off x="4643280" y="4292640"/>
            <a:ext cx="4318200" cy="16192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пыльчив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424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ru-RU" sz="2600" spc="-1" strike="noStrike">
                <a:solidFill>
                  <a:srgbClr val="ffff99"/>
                </a:solidFill>
                <a:latin typeface="Comic Sans MS"/>
              </a:rPr>
              <a:t>Половое созревание зависит от эндокринных изменений в организм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080" indent="205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Интенсивное физическое и физиологическое развитие      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увеличиваются рост и ве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0" indent="205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Изменение роста и веса сопровождается изменением пропорций тела      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дети часто ощущают себя в это время неуклюжими, неловки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0" indent="205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Появляются вторичные половые признаки – </a:t>
            </a:r>
            <a:r>
              <a:rPr b="1" lang="ru-RU" sz="2000" spc="-1" strike="noStrike">
                <a:solidFill>
                  <a:srgbClr val="ffff99"/>
                </a:solidFill>
                <a:latin typeface="Comic Sans MS"/>
              </a:rPr>
              <a:t>внешние признаки полового созре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0" indent="2052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Возникают трудности в функционировании сердца, легких, кровоснабжении головного мозга     </a:t>
            </a:r>
            <a:r>
              <a:rPr b="0" i="1" lang="ru-RU" sz="1800" spc="-1" strike="noStrike">
                <a:solidFill>
                  <a:srgbClr val="ffffff"/>
                </a:solidFill>
                <a:latin typeface="Comic Sans MS"/>
              </a:rPr>
              <a:t>для подростков характерны перепады сосудистого и мышечного тонуса, которые вызывают быструю смену физического состояния и, соответственно, </a:t>
            </a: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настро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В подростковом возрасте эмоциональный фон становится неровным, нестабиль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4" name="AutoShape 4"/>
          <p:cNvCxnSpPr>
            <a:stCxn id="223" idx="2"/>
            <a:endCxn id="223" idx="2"/>
          </p:cNvCxnSpPr>
          <p:nvPr/>
        </p:nvCxnSpPr>
        <p:spPr>
          <a:xfrm>
            <a:off x="4463640" y="6308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5" name="Line 5"/>
          <p:cNvSpPr/>
          <p:nvPr/>
        </p:nvSpPr>
        <p:spPr>
          <a:xfrm>
            <a:off x="2195640" y="2349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6"/>
          <p:cNvSpPr/>
          <p:nvPr/>
        </p:nvSpPr>
        <p:spPr>
          <a:xfrm>
            <a:off x="5364000" y="306864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7164360" y="458136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525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Comic Sans MS"/>
              </a:rPr>
              <a:t>Ребенок вынужден постоянно приспосабливаться к физическим и физиологическим изменениям, происходящим в его организме,</a:t>
            </a:r>
            <a:r>
              <a:rPr b="0" lang="ru-RU" sz="36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Comic Sans MS"/>
              </a:rPr>
              <a:t>переживать</a:t>
            </a:r>
            <a:r>
              <a:rPr b="0" lang="ru-RU" sz="36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990033"/>
                </a:solidFill>
                <a:latin typeface="Comic Sans MS"/>
              </a:rPr>
              <a:t>«гормональную</a:t>
            </a:r>
            <a:r>
              <a:rPr b="0" lang="ru-RU" sz="36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990033"/>
                </a:solidFill>
                <a:latin typeface="Comic Sans MS"/>
              </a:rPr>
              <a:t>бурю».</a:t>
            </a:r>
            <a:r>
              <a:rPr b="0" lang="ru-RU" sz="36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Comic Sans MS"/>
              </a:rPr>
              <a:t>Подростки как будто все</a:t>
            </a:r>
            <a:r>
              <a:rPr b="0" lang="ru-RU" sz="36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Comic Sans MS"/>
              </a:rPr>
              <a:t>время находятся в</a:t>
            </a:r>
            <a:r>
              <a:rPr b="0" lang="ru-RU" sz="36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990033"/>
                </a:solidFill>
                <a:latin typeface="Comic Sans MS"/>
              </a:rPr>
              <a:t>состоянии стресса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1" name="camera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Century Gothic"/>
              </a:rPr>
              <a:t>Новый </a:t>
            </a:r>
            <a:r>
              <a:rPr b="1" i="1" lang="ru-RU" sz="4000" spc="-1" strike="noStrike">
                <a:solidFill>
                  <a:srgbClr val="33cc33"/>
                </a:solidFill>
                <a:latin typeface="Century Gothic"/>
              </a:rPr>
              <a:t>образ физического «Я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84852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езко повышается интерес к своей внешно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Ребенок остро переживает все </a:t>
            </a:r>
            <a:r>
              <a:rPr b="0" i="1" lang="ru-RU" sz="2400" spc="-1" strike="noStrike">
                <a:solidFill>
                  <a:srgbClr val="0033cc"/>
                </a:solidFill>
                <a:latin typeface="Comic Sans MS"/>
              </a:rPr>
              <a:t>изъяны внешности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действительные и мни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епропорциональность частей тела, неловкость движений, неправильность черт лица, кожа, теряющая детскую чистоту, излишний вес или худоба – все </a:t>
            </a: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расстраивает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а иногда приводит </a:t>
            </a: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к чувству неполноценности, замкнутости, даже невроз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Тяжелые эмоциональные реакции на свою внешность смягчаются при </a:t>
            </a:r>
            <a:r>
              <a:rPr b="0" i="1" lang="ru-RU" sz="2400" spc="-1" strike="noStrike">
                <a:solidFill>
                  <a:srgbClr val="0033cc"/>
                </a:solidFill>
                <a:latin typeface="Comic Sans MS"/>
              </a:rPr>
              <a:t>теплых, доверительных отношениях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с близкими взрослыми, которые должны проявить </a:t>
            </a:r>
            <a:r>
              <a:rPr b="0" i="1" lang="ru-RU" sz="2400" spc="-1" strike="noStrike">
                <a:solidFill>
                  <a:srgbClr val="0033cc"/>
                </a:solidFill>
                <a:latin typeface="Comic Sans MS"/>
              </a:rPr>
              <a:t>и понимание, и такти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Century Gothic"/>
                <a:ea typeface="Arial"/>
              </a:rPr>
              <a:t> </a:t>
            </a:r>
            <a:r>
              <a:rPr b="0" lang="ru-RU" sz="4400" spc="-1" strike="noStrike">
                <a:solidFill>
                  <a:srgbClr val="33cc33"/>
                </a:solidFill>
                <a:latin typeface="Century Gothic"/>
                <a:ea typeface="Arial"/>
              </a:rPr>
              <a:t>Развитие самосозн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1890720"/>
            <a:ext cx="84121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 подростковом возрасте последовательно появляются две особые формы </a:t>
            </a:r>
            <a:r>
              <a:rPr b="1" i="1" lang="ru-RU" sz="3600" spc="-1" strike="noStrike">
                <a:solidFill>
                  <a:srgbClr val="ffffff"/>
                </a:solidFill>
                <a:latin typeface="Comic Sans MS"/>
              </a:rPr>
              <a:t>самосознания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1" lang="ru-RU" sz="4000" spc="-1" strike="noStrike">
                <a:solidFill>
                  <a:srgbClr val="cc0000"/>
                </a:solidFill>
                <a:latin typeface="Comic Sans MS"/>
              </a:rPr>
              <a:t>чувство взрослости и              « Я-концепция 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1" name="camera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529480" cy="1401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33"/>
                </a:solidFill>
                <a:uFillTx/>
                <a:latin typeface="Century Gothic"/>
              </a:rPr>
              <a:t>Чувство взрослости </a:t>
            </a:r>
            <a:r>
              <a:rPr b="1" lang="ru-RU" sz="4400" spc="-1" strike="noStrike">
                <a:solidFill>
                  <a:srgbClr val="33cc33"/>
                </a:solidFill>
                <a:latin typeface="Century Gothic"/>
              </a:rPr>
              <a:t>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485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i="1" lang="ru-RU" sz="3600" spc="-1" strike="noStrike">
                <a:solidFill>
                  <a:srgbClr val="993300"/>
                </a:solidFill>
                <a:latin typeface="Comic Sans MS"/>
              </a:rPr>
              <a:t>отношение подростка к себе как к взрослому и осознание себя в какой-то мере взрослым человек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1" name="camera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32960" y="404640"/>
            <a:ext cx="80154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cc33"/>
                </a:solidFill>
                <a:uFillTx/>
                <a:latin typeface="Century Gothic"/>
              </a:rPr>
              <a:t>Как проявляется чувство взрослости подростк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 желании, чтобы все – и взрослые и сверстники – относились к нему не как к маленькому, а как к взросл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 стремлении к самостоятельности, желании оградить некоторые стороны своей жизни от вмешательства родителей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4356000" y="2492280"/>
            <a:ext cx="3240360" cy="1297080"/>
          </a:xfrm>
          <a:prstGeom prst="cloudCallout">
            <a:avLst>
              <a:gd name="adj1" fmla="val -83611"/>
              <a:gd name="adj2" fmla="val -418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4643280" y="2565360"/>
            <a:ext cx="2732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33"/>
                </a:solidFill>
                <a:latin typeface="Comic Sans MS"/>
              </a:rPr>
              <a:t>Претендует на равноправие в отношениях со взрослыми и идет на конфликты, отстаивая свою «взрослую» позиц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5867280" y="4724280"/>
            <a:ext cx="2808360" cy="1657440"/>
          </a:xfrm>
          <a:prstGeom prst="cloudCallout">
            <a:avLst>
              <a:gd name="adj1" fmla="val -67356"/>
              <a:gd name="adj2" fmla="val -4338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767120" y="5105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6588000" y="4869000"/>
            <a:ext cx="18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33"/>
                </a:solidFill>
                <a:latin typeface="Comic Sans MS"/>
              </a:rPr>
              <a:t>Вопросы внешности,  отношений со сверстниками, иногда учеб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859280" y="479736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5:39:02Z</dcterms:created>
  <dc:creator>Admin</dc:creator>
  <dc:description/>
  <dc:language>en-US</dc:language>
  <cp:lastModifiedBy>Юля</cp:lastModifiedBy>
  <dcterms:modified xsi:type="dcterms:W3CDTF">2015-10-06T07:57:19Z</dcterms:modified>
  <cp:revision>47</cp:revision>
  <dc:subject/>
  <dc:title>Слайд 1</dc:title>
</cp:coreProperties>
</file>