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A0EF-137C-42AF-B48B-2F2AD234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BDF-E8EE-4276-AD74-ACAB0B88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40C-39FB-425D-9A58-7361AA5C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764-9873-4807-9997-A1B3F359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2854-4425-4DA0-B507-2866A89C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A95A-D987-4BAD-8CAB-9AB9626E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E2D9-A9AF-4EDE-826A-D81CF1E2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1199-FCEF-4AE0-9F22-C937A8F2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3F29-ED09-4B79-AC40-2F66F6EE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0C6F-CE86-4D82-AD7C-1097C4AD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2525-2CCE-4243-8B79-7B8FEB25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1B6-86A8-4B82-85A8-A9FB36D7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1F98-2602-49A6-B745-6FDF3364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DA0A-EA62-453D-9FC6-586166AB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1134-996C-4940-9210-EDBC69F0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41F5-C2ED-4115-B978-40A049DE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9648-65E4-44C3-9728-513F8079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C49-87FF-45E7-88B5-3EBBBD99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464-2C31-4A09-9140-3E4AA903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8F1-E190-4A06-B752-BC1731FF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883-58D9-49F7-ADAC-109A1DEF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5C5-0933-4810-B9A5-5496181A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87E-B122-4BDF-A378-A2C42AF1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B7E-28EE-4A72-B9FA-911CD52D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498C-A462-4A3E-9627-6FBFA3FA1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27B8-A2A8-41D5-A310-9EDEACC43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76112"/>
                </a:solidFill>
                <a:latin typeface="Times New Roman"/>
              </a:rPr>
              <a:t>"Россия без каждого из нас обойтись может, но никто из нас без неё не может обойтись" - И.С.Тургенев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05636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0" spc="-1" strike="noStrike">
                <a:solidFill>
                  <a:srgbClr val="076112"/>
                </a:solidFill>
                <a:latin typeface="Times New Roman"/>
              </a:rPr>
              <a:t>род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337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5:36:38Z</dcterms:created>
  <dc:creator>SamLab.ws</dc:creator>
  <dc:description/>
  <dc:language>en-US</dc:language>
  <cp:lastModifiedBy>SamLab.ws</cp:lastModifiedBy>
  <dcterms:modified xsi:type="dcterms:W3CDTF">2011-06-15T15:56:32Z</dcterms:modified>
  <cp:revision>2</cp:revision>
  <dc:subject/>
  <dc:title>"Россия без каждого из нас обойтись может, но никто из нас без неё не может обойтись" - И.С.Тургенев.</dc:title>
</cp:coreProperties>
</file>