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957E-EAC0-40BC-BBD2-4C62EECF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CC94-79B1-4769-A5D9-DDCEB27B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E507-6D1E-429A-BC89-F18E1C7A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74A7-001D-44FE-9201-9780FB92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7DC5-DD70-4FC3-8A87-768FD905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B842-0EDB-4F94-8593-542B74FE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A458-788B-427E-8D85-DE1CDB8E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70B3-4724-4F75-94DC-A29BC4DF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650B-E0DA-4279-9944-812C45B6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8E8D-DA36-4928-B57F-C79432AC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A0C0-BE1B-4005-86BF-43470114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88D4-DB7B-4BD5-B511-84DA52C5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E62E-6164-412B-961F-A158BF93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5D06-5B61-40B0-8D41-0B68428C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8F09-3E5B-4A38-97AC-9ECAEFEE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AB8C-7F6C-4A37-AD4B-6C7A5EAF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4978-3BB5-47B3-B3FD-02A7CCD8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8642-F256-457B-8B5C-2BEC2081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6391-E244-48D3-B9C8-55AE80E7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F412-02E1-45A9-A41B-78D36624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61C3-A7E7-4FFB-8729-081C5E5B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3B7E-E135-4BF2-A6C3-41342245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249F-8EDB-4643-8926-47DFF31D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9D66-A9B9-4360-917A-E06571D7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91B4-18F0-41C4-B44B-1A08D07D8C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BDCE-3483-437F-94F2-B2350EF0E5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Власть и церковь. Церковный раскол.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ки церковной рефор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формы Ник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кол: причины, понятие, протопоп Авваку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альные силы. Формы сопроти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раско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9440" y="306360"/>
            <a:ext cx="8217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Социальный состав раскол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539640" y="1197000"/>
          <a:ext cx="8353440" cy="5599080"/>
        </p:xfrm>
        <a:graphic>
          <a:graphicData uri="http://schemas.openxmlformats.org/drawingml/2006/table">
            <a:tbl>
              <a:tblPr/>
              <a:tblGrid>
                <a:gridCol w="2982960"/>
                <a:gridCol w="537048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)Служители церкв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оскорблены властолюбием Никона, его высокомерным отношением к рядовому духовенству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многие были малограмотны (не могли осваивать новые тексты богослужения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) Посадские лю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из-за враждебного отношения Никона к ликвидации «белых слобод», вмешательством церкви в торговлю и промышленност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) Крестьяне –основная мас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скрывались от барских и монастырских поборов, произвола властей, искали в скитах не только старины, но и во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)Представители господствующего сословия (бояре и дворян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против усиления самодержавия через реформу церкв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57337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.И.Суриков «Боярыня Морозова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2" name="Picture 8" descr="Копия surikmorozova"/>
          <p:cNvPicPr/>
          <p:nvPr/>
        </p:nvPicPr>
        <p:blipFill>
          <a:blip r:embed="rId1"/>
          <a:stretch/>
        </p:blipFill>
        <p:spPr>
          <a:xfrm>
            <a:off x="457200" y="549360"/>
            <a:ext cx="822960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admap2"/>
          <p:cNvPicPr/>
          <p:nvPr/>
        </p:nvPicPr>
        <p:blipFill>
          <a:blip r:embed="rId1"/>
          <a:stretch/>
        </p:blipFill>
        <p:spPr>
          <a:xfrm>
            <a:off x="32400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Прямоугольник 1"/>
          <p:cNvSpPr/>
          <p:nvPr/>
        </p:nvSpPr>
        <p:spPr>
          <a:xfrm>
            <a:off x="250920" y="474840"/>
            <a:ext cx="889308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ffffff"/>
                </a:solidFill>
                <a:uFillTx/>
                <a:latin typeface="Arial"/>
              </a:rPr>
              <a:t>Найдите в тексте ошибк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середине XVII века в России назрела необходимость проведения реформы церкви. Начало её осуществления связано с именем митрополита Макария. Основные мероприятия реформы включали в себя исправление церковных книг по древнерусским текстам, необходимость креститься двумя пальцами, порядок церковного пения и другие. Следствием этой реформы стал раскол в русском обществе, так как значительная часть населения не приняла эти нововведения. Церковные деятели пытались повлиять на старообрядцев, особенно ярко призывал к поддержке новшеств Аввакум Петров. Государственные власти не вмешивались в дела церкви, хотя царское окружение выражало явную симпатию Аввакум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dfdef6"/>
                </a:solidFill>
                <a:uFillTx/>
                <a:latin typeface="Arial"/>
              </a:rPr>
              <a:t>Основная проблема урока:</a:t>
            </a:r>
            <a:br>
              <a:rPr sz="4400"/>
            </a:b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начение раскола для государства, церкви и русского общества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Царь Алексей Михайлович Романов (1629-1676гг.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8" name="Picture 6" descr="romanov_190"/>
          <p:cNvPicPr/>
          <p:nvPr/>
        </p:nvPicPr>
        <p:blipFill>
          <a:blip r:embed="rId1"/>
          <a:stretch/>
        </p:blipFill>
        <p:spPr>
          <a:xfrm>
            <a:off x="2268360" y="1773360"/>
            <a:ext cx="41752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опросы к пункту: «Реформа патриарха Никона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кружок сложился в Москве в конце 40-х гг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вошёл в этот круж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не нравилось духовным лицам в жизни церкв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необходимо было сделать, по их мнению, чтобы это измен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Патриарх Никон (1605-1681гг.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Picture 5" descr="nikon_s"/>
          <p:cNvPicPr/>
          <p:nvPr/>
        </p:nvPicPr>
        <p:blipFill>
          <a:blip r:embed="rId1"/>
          <a:stretch/>
        </p:blipFill>
        <p:spPr>
          <a:xfrm>
            <a:off x="2627280" y="1557360"/>
            <a:ext cx="439272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оугольник 1"/>
          <p:cNvSpPr/>
          <p:nvPr/>
        </p:nvSpPr>
        <p:spPr>
          <a:xfrm>
            <a:off x="250920" y="404640"/>
            <a:ext cx="856908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дание №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читать биографию патриарха Никона и ответить на вопросы от первого лиц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 Никон родился в крестьянской семье села Вельяминова близ Нижнего Новгорода в 1605г. При крещении был назван Никитой. Мальчишкой сбежал от злой мачехи в Макарьев-Желтоводский монастырь (под Костромой), стал самым рьяным послушником: даже спать ложился у благовестного колокола, чтобы не пропустить ни одной службы. Затем стал священником, обзавёлся семьёй и 10 лет прожил мирно и счастливо. Но в одночасье все его трое сыновей умерли. Горе потрясло Никиту и его жену, в смерти детей они увидели знамение Божие, призыв уйти из «мира». На тридцать первом году жизни он постригается в монахи под именем Никона, затем становится игуменом Кожеозсрского монастыря в Поморь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анатическая вера, большой ум, решительный характер, слава оратора, проповедника, впадавшего в состояние экстаза, вдохновения, к тому же - «чудотворца», провидца и целителя сделали его имя известным, и не только в церковных кругах. На него обратил внимание Алексей Михайлович. В 1646г. Никон приехал в Москву и стал архимандритом Новоспасского монастыря, а спустя два года митрополитом новгородским. После смерти патриарха Иосифа царь способствовал тому, чтобы его преемником стал Никон(1652 г.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икон отстаивал идею преобладания духовной власти над светской. «Священство...- писал Никон,- от самого Бога, и древнее и нынешнее, а не от царей...Священство всюду пречестнейше есть царства...». Патриарх начал претендовать на усиление церковной власти, именуя себя «велики государем». Царь, сам стремившийся к усилению личной власти, охладел к недавнему любимцу. В 1658 г. между царем и патриархом произошёл открытый разрыв, в результате которого Никон покинул Москву, в1666 г. над Никоном начался судебный процесс за самовольное оставление поста, в 1667 г. снят сан патриарха, а он сам отправлен в ссылку в Белозерский Ферапонтов монастырь.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прос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де, когда и в какой семье родился будущий патриарх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кое обстоятельство окончательно убедило его уйти из «мира»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то сделало его имя известным, и не только в церковных кругах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кие факты свидетельствуют о быстром возвышении Никон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кой точки зрения придерживался патриарх в вопросе, что выше «священство» или «царство»? Как это повлияло на его жизнь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опросы к пункту: «Реформа патриарха Никона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какому образцу исправлялись богослужебные книг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изменяется в русской православной церкв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64216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bece9"/>
                </a:solidFill>
                <a:uFillTx/>
                <a:latin typeface="Arial"/>
              </a:rPr>
              <a:t>Раскол</a:t>
            </a:r>
            <a:r>
              <a:rPr b="0" lang="ru-RU" sz="4800" spc="-1" strike="noStrike" u="sng">
                <a:solidFill>
                  <a:srgbClr val="dfdef6"/>
                </a:solidFill>
                <a:uFillTx/>
                <a:latin typeface="Arial"/>
              </a:rPr>
              <a:t>-</a:t>
            </a: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 религиозно-общественное движение, вылившееся в отделение от Русской православной церкви части верующих, не принявших реформу патриарха Никона.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Протопоп Аввакум (1621-1682гг.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8" name="Picture 5" descr="avvakum"/>
          <p:cNvPicPr/>
          <p:nvPr/>
        </p:nvPicPr>
        <p:blipFill>
          <a:blip r:embed="rId1"/>
          <a:stretch/>
        </p:blipFill>
        <p:spPr>
          <a:xfrm>
            <a:off x="2627280" y="1628640"/>
            <a:ext cx="3720960" cy="475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11:24:37Z</dcterms:created>
  <dc:creator>Агафонова Галина</dc:creator>
  <dc:description/>
  <dc:language>en-US</dc:language>
  <cp:lastModifiedBy>Андрей</cp:lastModifiedBy>
  <dcterms:modified xsi:type="dcterms:W3CDTF">2015-09-17T15:27:15Z</dcterms:modified>
  <cp:revision>8</cp:revision>
  <dc:subject/>
  <dc:title>Слайд 1</dc:title>
</cp:coreProperties>
</file>