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gif" ContentType="image/gif"/>
  <Override PartName="/ppt/media/image3.jpeg" ContentType="image/jpeg"/>
  <Override PartName="/ppt/media/image14.gif" ContentType="image/gif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527-71D1-4CFD-8F88-05CC55C2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40E-F2CE-4B7A-AA33-5532268A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871B8-AFB3-41FF-A286-99F43FCE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43A97-69FE-4C0D-9F43-DC104EBF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01956-13EF-43AA-B8C7-A17D7A59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245AD-761B-4942-8961-E55752F2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3C2BD-4147-4A24-B6E5-9B8A9971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208C4-B3AE-4C0B-BFB6-0394F5B8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64929-0113-462B-8678-7CA20806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FF27E-8FCF-4DD5-8F89-ADA9A94C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8CBBB-67D3-4826-B44F-1BCFFF01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2D86B-7C83-4BC9-996A-B12B2A5C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4BB-FF0A-4D29-8777-AB69CAC3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E5625-D9A4-470C-B295-4AFC531C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B1E80-CDAC-4A57-881F-B65994C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A191F-B864-4A00-8B71-CD13DA3A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FD2FC-BEC3-4C0B-9A08-73E0E02D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FDA11-BBF6-42C5-9D75-B2AC95C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1BB45-7888-4DA4-B2C6-A52F0F01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B7D6F-400D-4A94-800D-F01C679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B8AA3-0AA1-4E0C-AD4D-5FCA1449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0439A-41C1-458B-83A4-925BA973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11591-19F6-4C68-A602-87B66C81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64F-5AC5-44BB-A2D3-504128B8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ACB01-9678-4D69-95FF-5901D296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1337-E695-4D9A-BDF8-7C5FCD9B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D184-C511-400E-80AB-6117419C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B22E-8F28-4113-8426-F5AC1879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EB5F-99AE-47A9-B235-ECB05EC9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2E18-0A34-4774-9089-A3E18FC1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F91A-C074-49FA-89A6-00B5381F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8498-A86C-42C0-BA60-55B6666D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7A3-7E96-4AF2-9568-445A49B0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EEFB-FDCF-4668-9E8E-1ECEE0E5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E61E-16B4-4BC2-933D-C3D99590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0806-A3C8-47D0-8F51-3F83A9E0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52A8-A4B1-4614-8D0B-B2F7E9CA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6A4F-F486-49A3-9315-53EF8938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2B93F-B27A-4EA0-B892-B5CC0D1C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B16BC-D4AD-4FC6-A096-D66DCA76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B02E3-1AEA-4303-A304-DA8D5568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9ADE5-A131-472C-9293-EA7CA25E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28116-1AA8-4AA0-B6CB-1395CB0C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CC7-0414-4346-9A87-3A3448D8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9406D-B129-4B5A-A0EA-C0AD44DF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5358F-7977-4299-AFDA-4AE6E270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BA0B4-5A6D-431D-8B44-FF3DABF2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285CC-FE0A-4EF6-9ACF-65C4289B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665DA-2657-4DD2-986B-F7638E09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F492F-5F9E-4ECB-BA6B-3DC205C0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33D98-8A4D-419A-8C50-945B27F2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50C4B-0366-4337-A7A6-96213170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2DA62-3E9A-4C7B-9E18-E641045E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B73C1-AFA1-4CA0-ABBB-7798CD47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4DD-BF19-4DD7-921A-409D0873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5D52-D545-4D15-A2D1-BF45179F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A793D-CEC1-43F0-B0DA-23E52506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3C35-ACC0-4B5F-BF68-2DF24625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DE56-F9B8-4848-80FF-7A091DF8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B675E-EF86-4A9A-8748-1CAF1F53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9ABB-16D1-4B75-993A-4FA7A6D4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26AE8-FF09-4572-9EC8-C2C20E36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286D8-141D-4664-BD37-DC08AF7A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3DCE-CBD9-4EE2-8DBF-F07B3B05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1533E-9A85-45C8-94B1-E3A3C0BB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CEB-F358-440E-84C7-9D10ECDC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7A4E0-59C9-41DC-91D8-4D49DFF5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B307A-9781-4F28-A0F5-713C93EB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63C7-BCAF-44D8-9BC3-2A8F020F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99CF3-2CC0-445E-81EC-7F49ADF3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7855-2376-4D9B-B967-933225F3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A7633-ED9D-4CB1-8939-7358E346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2E62C-F6EA-4DD3-B053-198917A9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64D77-9D97-422D-BB65-24B9AC04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EF2AF-7E57-4C62-BFD1-A12341B2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E9159-D4A6-4879-A2A1-C68667D5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B86-2095-4CB3-8F3D-5DE52A08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96323-82F6-4A1C-AF6C-23DB94FD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AD599-BDB5-449D-9828-82384E91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5AC22-CA85-441F-99B7-E1ED46B5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ECEAB-557E-4423-8135-78A3A1F7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0CA68-2E00-45E9-810D-F28ADBA9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0F21F-3FD5-4F94-8959-F7B62AA6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B0461-4465-4A7E-B9CE-6B67C8E1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2D83F-912B-4B6F-B542-409C1BB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F80A2-523F-42A4-BCD2-6C919A5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15EDC-A5BB-4271-9041-8D9ACA46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9B0-22F3-41F9-BFF0-676A88A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8DEC4-B1C4-4A7D-AD28-C046B94E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EE81F-F0B9-446E-BAB6-6111EDDE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9AAAA-CE6F-474D-8B29-AA3457D6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8E38C-4D30-4D97-9439-6B6AE9A8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FBCB9-8EDA-4081-BEF5-5AE74317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DE6C6-81C4-4C2E-9177-D24E8E8D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A2C16-A152-4E26-BD47-6C5B3E3D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80B12-BE31-4255-BFD6-6B2FE908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7F4EA-EC28-4B43-AF21-2C63636B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E4564-4E75-4786-81B8-D972C705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B26-9E55-46CB-974C-92ABE998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30ED9-0EBE-4D71-8830-ADDD433F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1E248-0704-4D35-85EB-3C9C260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71485-78E1-4DB9-9BB5-02745DC4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4E120-A06C-40F2-8D08-A2871359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DEED3-65FE-4741-900D-78528F09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AAB54-095D-49C4-B57F-B258D1A3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59383-0BE9-446F-8075-A1FFE857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0AAAC-B4E0-40EA-9C37-E6C480DE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39F1F-20B8-4B76-937A-9D86C024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B8338-A263-4D16-AD4E-411B6507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2AF-C981-4813-A063-DB4BB3DB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7291C-89ED-4461-9D79-A15AA575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83810-3F8F-4AB2-8AF3-AA2A6FF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B0247-FCDF-48E5-A302-FA648340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EF8E5-7BEF-4794-ADD0-E94D5272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4D7DC-7051-4122-BFC8-9F9A1012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22833-2AC9-4EAA-9179-E0AC9AAF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06207-D061-4A0E-AEA4-2F6AFAD8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7B324-B56F-4441-9CA3-2BED4032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53C27-EB42-401C-905A-5B4EAD50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D78A9-6BA9-4DA2-8C74-6A69C352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DD9B-F8DA-4653-A6B8-E26C6DF5D7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F46B-95AC-4E22-93DF-CE9063A6345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7C36-B6FA-4EF9-B70D-9120EDB93466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7D4B-FA9B-4EBB-B560-B44E5FB6D5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448C-F016-48CD-8270-CD2C989949C6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B6D7-D23E-4D83-A4D2-A1C501C5D0AE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950C-07B3-4DED-B42E-F36223FE938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C298-1ABB-4A04-B9C3-4F0AD91DB7D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C8DA-C16B-403B-B44B-2869AE44259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53A1-A927-4FA9-88E9-8DF5F7C3678F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stat8.blog.ru/lr/0a352e7ab80444609ebbb89881ca2004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analoni.files.wordpress.com/2009/03/dead-sea.jpg?w=450&amp;h=450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1760" y="36576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енкова Л.П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ЛАВАНИЕ Т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609480" y="57150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Рисунок 2" descr="http://festival.1september.ru/articles/565055/img2.gif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3809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есная вода                                       Соленая вода                      Очень соленая 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219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1"/>
          <p:cNvGrpSpPr/>
          <p:nvPr/>
        </p:nvGrpSpPr>
        <p:grpSpPr>
          <a:xfrm>
            <a:off x="76320" y="990720"/>
            <a:ext cx="9067320" cy="2399760"/>
            <a:chOff x="76320" y="990720"/>
            <a:chExt cx="9067320" cy="2399760"/>
          </a:xfrm>
        </p:grpSpPr>
        <p:sp>
          <p:nvSpPr>
            <p:cNvPr id="457" name="AutoShape 32"/>
            <p:cNvSpPr/>
            <p:nvPr/>
          </p:nvSpPr>
          <p:spPr>
            <a:xfrm>
              <a:off x="76320" y="990720"/>
              <a:ext cx="9067320" cy="23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31"/>
            <p:cNvSpPr/>
            <p:nvPr/>
          </p:nvSpPr>
          <p:spPr>
            <a:xfrm>
              <a:off x="1143360" y="1258200"/>
              <a:ext cx="1599840" cy="213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30"/>
            <p:cNvSpPr/>
            <p:nvPr/>
          </p:nvSpPr>
          <p:spPr>
            <a:xfrm>
              <a:off x="1600560" y="1981080"/>
              <a:ext cx="534600" cy="68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29"/>
            <p:cNvSpPr/>
            <p:nvPr/>
          </p:nvSpPr>
          <p:spPr>
            <a:xfrm>
              <a:off x="1143360" y="2323800"/>
              <a:ext cx="53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28"/>
            <p:cNvSpPr/>
            <p:nvPr/>
          </p:nvSpPr>
          <p:spPr>
            <a:xfrm>
              <a:off x="2208600" y="2323800"/>
              <a:ext cx="53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1409760" y="2591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26"/>
            <p:cNvSpPr/>
            <p:nvPr/>
          </p:nvSpPr>
          <p:spPr>
            <a:xfrm>
              <a:off x="1409760" y="285732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25"/>
            <p:cNvSpPr/>
            <p:nvPr/>
          </p:nvSpPr>
          <p:spPr>
            <a:xfrm>
              <a:off x="1676160" y="3123000"/>
              <a:ext cx="26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24"/>
            <p:cNvSpPr/>
            <p:nvPr/>
          </p:nvSpPr>
          <p:spPr>
            <a:xfrm flipH="1">
              <a:off x="1942200" y="285732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3"/>
            <p:cNvSpPr/>
            <p:nvPr/>
          </p:nvSpPr>
          <p:spPr>
            <a:xfrm>
              <a:off x="1409760" y="259128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22"/>
            <p:cNvSpPr/>
            <p:nvPr/>
          </p:nvSpPr>
          <p:spPr>
            <a:xfrm>
              <a:off x="2476800" y="3123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1"/>
            <p:cNvSpPr/>
            <p:nvPr/>
          </p:nvSpPr>
          <p:spPr>
            <a:xfrm flipH="1">
              <a:off x="2208600" y="2591280"/>
              <a:ext cx="2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20"/>
            <p:cNvSpPr/>
            <p:nvPr/>
          </p:nvSpPr>
          <p:spPr>
            <a:xfrm>
              <a:off x="2208600" y="3123000"/>
              <a:ext cx="2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9"/>
            <p:cNvSpPr/>
            <p:nvPr/>
          </p:nvSpPr>
          <p:spPr>
            <a:xfrm>
              <a:off x="4343400" y="1258200"/>
              <a:ext cx="1599840" cy="213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876560" y="2667600"/>
              <a:ext cx="534600" cy="72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7"/>
            <p:cNvSpPr/>
            <p:nvPr/>
          </p:nvSpPr>
          <p:spPr>
            <a:xfrm>
              <a:off x="4343400" y="2323800"/>
              <a:ext cx="159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6"/>
            <p:cNvSpPr/>
            <p:nvPr/>
          </p:nvSpPr>
          <p:spPr>
            <a:xfrm>
              <a:off x="4609800" y="2591280"/>
              <a:ext cx="26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5411160" y="2591280"/>
              <a:ext cx="26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4609800" y="3123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3"/>
            <p:cNvSpPr/>
            <p:nvPr/>
          </p:nvSpPr>
          <p:spPr>
            <a:xfrm>
              <a:off x="4343400" y="285732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2"/>
            <p:cNvSpPr/>
            <p:nvPr/>
          </p:nvSpPr>
          <p:spPr>
            <a:xfrm>
              <a:off x="5677200" y="312300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1"/>
            <p:cNvSpPr/>
            <p:nvPr/>
          </p:nvSpPr>
          <p:spPr>
            <a:xfrm>
              <a:off x="4343400" y="312300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Rectangle 10"/>
            <p:cNvSpPr/>
            <p:nvPr/>
          </p:nvSpPr>
          <p:spPr>
            <a:xfrm>
              <a:off x="7277040" y="1258200"/>
              <a:ext cx="1599840" cy="213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7810200" y="2438280"/>
              <a:ext cx="532800" cy="68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8"/>
            <p:cNvSpPr/>
            <p:nvPr/>
          </p:nvSpPr>
          <p:spPr>
            <a:xfrm>
              <a:off x="7277040" y="2323800"/>
              <a:ext cx="159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7"/>
            <p:cNvSpPr/>
            <p:nvPr/>
          </p:nvSpPr>
          <p:spPr>
            <a:xfrm>
              <a:off x="7543800" y="259128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6"/>
            <p:cNvSpPr/>
            <p:nvPr/>
          </p:nvSpPr>
          <p:spPr>
            <a:xfrm>
              <a:off x="7277040" y="312300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5"/>
            <p:cNvSpPr/>
            <p:nvPr/>
          </p:nvSpPr>
          <p:spPr>
            <a:xfrm>
              <a:off x="8076600" y="312300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"/>
            <p:cNvSpPr/>
            <p:nvPr/>
          </p:nvSpPr>
          <p:spPr>
            <a:xfrm>
              <a:off x="8343000" y="2591280"/>
              <a:ext cx="2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3"/>
            <p:cNvSpPr/>
            <p:nvPr/>
          </p:nvSpPr>
          <p:spPr>
            <a:xfrm>
              <a:off x="8611200" y="2857320"/>
              <a:ext cx="26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"/>
            <p:cNvSpPr/>
            <p:nvPr/>
          </p:nvSpPr>
          <p:spPr>
            <a:xfrm>
              <a:off x="8611200" y="3390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Box 37"/>
          <p:cNvSpPr/>
          <p:nvPr/>
        </p:nvSpPr>
        <p:spPr>
          <a:xfrm>
            <a:off x="304920" y="51055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ведение тела зависит от соотношения плотностей тела и жидкости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83772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. Для того, чтобы выдвинутые гипотезы стали знаниями,   </a:t>
            </a:r>
            <a:r>
              <a:rPr b="0" i="1" lang="ru-RU" sz="6000" spc="-1" strike="noStrike">
                <a:solidFill>
                  <a:srgbClr val="000000"/>
                </a:solidFill>
                <a:latin typeface="Calibri"/>
              </a:rPr>
              <a:t>их нужно подтвердить на опыт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0" y="609480"/>
          <a:ext cx="9144000" cy="4622760"/>
        </p:xfrm>
        <a:graphic>
          <a:graphicData uri="http://schemas.openxmlformats.org/drawingml/2006/table">
            <a:tbl>
              <a:tblPr/>
              <a:tblGrid>
                <a:gridCol w="4114800"/>
                <a:gridCol w="5029200"/>
              </a:tblGrid>
              <a:tr h="106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Условия плавания тел в жидкост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сли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ρ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&gt;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ρ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ж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то тела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ну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Если 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ρ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ρ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ж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то тела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плываю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Если 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ρ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=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ρ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ж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то тела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плавают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внутри жидкост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сли F</a:t>
                      </a:r>
                      <a:r>
                        <a:rPr b="0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тяж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&gt; F</a:t>
                      </a:r>
                      <a:r>
                        <a:rPr b="0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то тела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ну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Если F</a:t>
                      </a:r>
                      <a:r>
                        <a:rPr b="0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тяж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&lt; F</a:t>
                      </a:r>
                      <a:r>
                        <a:rPr b="0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то тела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плываю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Если F</a:t>
                      </a:r>
                      <a:r>
                        <a:rPr b="0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тяж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= F</a:t>
                      </a:r>
                      <a:r>
                        <a:rPr b="0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то тела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вают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внутри жидкости (на поверхности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6"/>
          <p:cNvSpPr/>
          <p:nvPr/>
        </p:nvSpPr>
        <p:spPr>
          <a:xfrm>
            <a:off x="45720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63"/>
          <p:cNvSpPr/>
          <p:nvPr/>
        </p:nvSpPr>
        <p:spPr>
          <a:xfrm>
            <a:off x="45720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67"/>
          <p:cNvSpPr/>
          <p:nvPr/>
        </p:nvSpPr>
        <p:spPr>
          <a:xfrm>
            <a:off x="617220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68"/>
          <p:cNvSpPr/>
          <p:nvPr/>
        </p:nvSpPr>
        <p:spPr>
          <a:xfrm>
            <a:off x="327672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65"/>
          <p:cNvSpPr/>
          <p:nvPr/>
        </p:nvSpPr>
        <p:spPr>
          <a:xfrm>
            <a:off x="327672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64"/>
          <p:cNvSpPr/>
          <p:nvPr/>
        </p:nvSpPr>
        <p:spPr>
          <a:xfrm>
            <a:off x="617220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9406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словия плавания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51"/>
              <p:cNvSpPr txBox="1"/>
              <p:nvPr/>
            </p:nvSpPr>
            <p:spPr>
              <a:xfrm>
                <a:off x="2133720" y="2762280"/>
                <a:ext cx="685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53"/>
              <p:cNvSpPr txBox="1"/>
              <p:nvPr/>
            </p:nvSpPr>
            <p:spPr>
              <a:xfrm>
                <a:off x="6324480" y="2762280"/>
                <a:ext cx="685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55"/>
              <p:cNvSpPr txBox="1"/>
              <p:nvPr/>
            </p:nvSpPr>
            <p:spPr>
              <a:xfrm>
                <a:off x="3429000" y="3657600"/>
                <a:ext cx="21337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1" name="Rectangle 42"/>
          <p:cNvSpPr/>
          <p:nvPr/>
        </p:nvSpPr>
        <p:spPr>
          <a:xfrm>
            <a:off x="45720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 всплыв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плавае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поверх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ид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3"/>
          <p:cNvSpPr/>
          <p:nvPr/>
        </p:nvSpPr>
        <p:spPr>
          <a:xfrm>
            <a:off x="327672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плав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нут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ид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44"/>
          <p:cNvSpPr/>
          <p:nvPr/>
        </p:nvSpPr>
        <p:spPr>
          <a:xfrm>
            <a:off x="617220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то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45"/>
          <p:cNvSpPr/>
          <p:nvPr/>
        </p:nvSpPr>
        <p:spPr>
          <a:xfrm>
            <a:off x="160020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46"/>
          <p:cNvSpPr/>
          <p:nvPr/>
        </p:nvSpPr>
        <p:spPr>
          <a:xfrm>
            <a:off x="739152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47"/>
          <p:cNvSpPr/>
          <p:nvPr/>
        </p:nvSpPr>
        <p:spPr>
          <a:xfrm>
            <a:off x="449568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57"/>
              <p:cNvSpPr txBox="1"/>
              <p:nvPr/>
            </p:nvSpPr>
            <p:spPr>
              <a:xfrm>
                <a:off x="609480" y="3657600"/>
                <a:ext cx="21337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9"/>
              <p:cNvSpPr txBox="1"/>
              <p:nvPr/>
            </p:nvSpPr>
            <p:spPr>
              <a:xfrm>
                <a:off x="6324480" y="3657600"/>
                <a:ext cx="2032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60"/>
              <p:cNvSpPr txBox="1"/>
              <p:nvPr/>
            </p:nvSpPr>
            <p:spPr>
              <a:xfrm>
                <a:off x="3429000" y="5410080"/>
                <a:ext cx="2133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61"/>
              <p:cNvSpPr txBox="1"/>
              <p:nvPr/>
            </p:nvSpPr>
            <p:spPr>
              <a:xfrm>
                <a:off x="533520" y="5410080"/>
                <a:ext cx="2209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62"/>
              <p:cNvSpPr txBox="1"/>
              <p:nvPr/>
            </p:nvSpPr>
            <p:spPr>
              <a:xfrm>
                <a:off x="6248520" y="5410080"/>
                <a:ext cx="2286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2" name="Line 69"/>
          <p:cNvSpPr/>
          <p:nvPr/>
        </p:nvSpPr>
        <p:spPr>
          <a:xfrm>
            <a:off x="746748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70"/>
          <p:cNvSpPr/>
          <p:nvPr/>
        </p:nvSpPr>
        <p:spPr>
          <a:xfrm>
            <a:off x="449568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71"/>
          <p:cNvSpPr/>
          <p:nvPr/>
        </p:nvSpPr>
        <p:spPr>
          <a:xfrm>
            <a:off x="167652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4419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плавает в жидкости, то вес вытесненной им жидкости равен весу этого тела. (силе Архиме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6200" indent="-196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96200" indent="-196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96200" indent="-196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96200" indent="-196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6200" indent="-196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6200" indent="-196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609480" y="457200"/>
            <a:ext cx="76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м меньше плотность тела по сравнению  с плотностью жидкости, тем меньшая её часть погружается в жидк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Прямоугольник 5"/>
          <p:cNvSpPr/>
          <p:nvPr/>
        </p:nvSpPr>
        <p:spPr>
          <a:xfrm>
            <a:off x="533520" y="25909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шивающиеся жидкости, как и твёрдые тела,  подчиняются условиям плавания т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10"/>
          <p:cNvSpPr/>
          <p:nvPr/>
        </p:nvSpPr>
        <p:spPr>
          <a:xfrm>
            <a:off x="609480" y="6324480"/>
            <a:ext cx="6400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990720" y="5943600"/>
            <a:ext cx="716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14"/>
          <p:cNvSpPr/>
          <p:nvPr/>
        </p:nvSpPr>
        <p:spPr>
          <a:xfrm>
            <a:off x="457200" y="4724280"/>
            <a:ext cx="7467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5257440" y="380520"/>
            <a:ext cx="38862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ло плавает, полностью или частично погрузивши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жидкость, при услов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Gill Sans MT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= F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= 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5" descr="04b-i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380880"/>
            <a:ext cx="5029200" cy="6096240"/>
          </a:xfrm>
          <a:prstGeom prst="rect">
            <a:avLst/>
          </a:prstGeom>
          <a:ln w="0">
            <a:noFill/>
          </a:ln>
        </p:spPr>
      </p:pic>
      <p:sp>
        <p:nvSpPr>
          <p:cNvPr id="524" name="Line 8"/>
          <p:cNvSpPr/>
          <p:nvPr/>
        </p:nvSpPr>
        <p:spPr>
          <a:xfrm>
            <a:off x="234000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9"/>
          <p:cNvSpPr/>
          <p:nvPr/>
        </p:nvSpPr>
        <p:spPr>
          <a:xfrm>
            <a:off x="270036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М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№3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Т. Стр70. №52.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4 бал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шибками 2 бал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mbria"/>
              </a:rPr>
              <a:t>Первая групп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304920" y="808200"/>
          <a:ext cx="8686800" cy="6049800"/>
        </p:xfrm>
        <a:graphic>
          <a:graphicData uri="http://schemas.openxmlformats.org/drawingml/2006/table">
            <a:tbl>
              <a:tblPr/>
              <a:tblGrid>
                <a:gridCol w="2286000"/>
                <a:gridCol w="3276360"/>
                <a:gridCol w="1524240"/>
                <a:gridCol w="160020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Какие вещества будут всплывать в керосине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Будет ли плавать в воде стеклянная бутылка заполненная водой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ему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Как рыбы могут менять глубину погружения? § 52. Стр. 1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кратк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 ба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609480" y="57150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mbria"/>
              </a:rPr>
              <a:t>Первая групп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0" y="808200"/>
          <a:ext cx="8991720" cy="6211800"/>
        </p:xfrm>
        <a:graphic>
          <a:graphicData uri="http://schemas.openxmlformats.org/drawingml/2006/table">
            <a:tbl>
              <a:tblPr/>
              <a:tblGrid>
                <a:gridCol w="2367000"/>
                <a:gridCol w="3390840"/>
                <a:gridCol w="1577880"/>
                <a:gridCol w="1656000"/>
              </a:tblGrid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Какие вещества будут всплывать в керосине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пробка, сосна, дуб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Будет ли плавать в воде стеклянная бутылка заполненная водой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чему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. Так как средняя плотность бутылки с водой больше плотности вод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Как рыбы могут менять глубину погружения? § 52. Стр. 1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кратк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ыбы за счет изменения объема плавательного пузыря, значит за счет силы Архимед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 ба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10552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рыб есть орган, называемый плавательным пузырем. Меняя объем пузыря, рыбы могут изменять глубину погру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12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3000600" cy="1704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3" descr="Картинка 43 из 13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468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mbria"/>
              </a:rPr>
              <a:t>Вторая  групп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0" y="808200"/>
          <a:ext cx="8991720" cy="5622840"/>
        </p:xfrm>
        <a:graphic>
          <a:graphicData uri="http://schemas.openxmlformats.org/drawingml/2006/table">
            <a:tbl>
              <a:tblPr/>
              <a:tblGrid>
                <a:gridCol w="2367000"/>
                <a:gridCol w="3390840"/>
                <a:gridCol w="1577880"/>
                <a:gridCol w="16560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Какие металлы тонут в ртут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*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 Будет ли плавать в ртути стеклянная бутылка заполненная ртутью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водные животные не нуждаются в прочных скелетах?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§ 52. Стр. 1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ратк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бал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mbria"/>
              </a:rPr>
              <a:t>Вторая  групп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0" y="808200"/>
          <a:ext cx="8991720" cy="5943600"/>
        </p:xfrm>
        <a:graphic>
          <a:graphicData uri="http://schemas.openxmlformats.org/drawingml/2006/table">
            <a:tbl>
              <a:tblPr/>
              <a:tblGrid>
                <a:gridCol w="2367000"/>
                <a:gridCol w="3390840"/>
                <a:gridCol w="1577880"/>
                <a:gridCol w="16560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Какие металлы тонут в ртут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смий, иридий, платина, золот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*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 Будет ли плавать в ртути стеклянная бутылка заполненная ртутью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.  Так как средняя плотность бутылки с ртутью  меньше  плотности рту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водные животные не нуждаются в прочных скелетах?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§ 52. Стр. 1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ратк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плотность водных животных мало отличается от плотности воды. Поэтому их вес почти полностью уравновешивается архимедовой сило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бал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Плавание живых организмов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яя плотность живых организмов, населяющих водную среду, мало отличается от плотности воды, поэтому их вес почти полностью уравновешивается архимедовой сил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агодаря этому водные животные не нуждаются в столь прочных скелетах, как наземны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5" descr="africa12"/>
          <p:cNvPicPr/>
          <p:nvPr/>
        </p:nvPicPr>
        <p:blipFill>
          <a:blip r:embed="rId1"/>
          <a:stretch/>
        </p:blipFill>
        <p:spPr>
          <a:xfrm>
            <a:off x="539640" y="1628640"/>
            <a:ext cx="39006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mbria"/>
              </a:rPr>
              <a:t>Третья групп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0" y="808200"/>
          <a:ext cx="8991720" cy="5661000"/>
        </p:xfrm>
        <a:graphic>
          <a:graphicData uri="http://schemas.openxmlformats.org/drawingml/2006/table">
            <a:tbl>
              <a:tblPr/>
              <a:tblGrid>
                <a:gridCol w="3657600"/>
                <a:gridCol w="2895480"/>
                <a:gridCol w="1600200"/>
                <a:gridCol w="83844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йцо тонет в пресной воде, но плавает в солёной. Почему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дин неглубокий сосуд пригласил в гости сразу три несмешивающиеся жидкости разной плотности и предложил им располагаться со всеми удобствами. Как расположились жидкости в гостеприимном сосуде, если это были: масло подсолнечное, вода и  нефть. Укажите порядок расположения жидкостей.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§ 52. Стр. 1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. Как киты могут менять глубину погружения? § 52. Стр. 1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бал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mbria"/>
              </a:rPr>
              <a:t>Третья групп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0" y="808200"/>
          <a:ext cx="8991720" cy="6183000"/>
        </p:xfrm>
        <a:graphic>
          <a:graphicData uri="http://schemas.openxmlformats.org/drawingml/2006/table">
            <a:tbl>
              <a:tblPr/>
              <a:tblGrid>
                <a:gridCol w="3657600"/>
                <a:gridCol w="2895480"/>
                <a:gridCol w="1600200"/>
                <a:gridCol w="83844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йцо тонет в пресной воде, но плавает в солёной. Почему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тность соленой воды больше плотности яйца. Поэтому в соленой воде яйцо плава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дин неглубокий сосуд пригласил в гости сразу три несмешивающиеся жидкости разной плотности и предложил им располагаться со всеми удобствами. Как расположились жидкости в гостеприимном сосуде, если это были: масло подсолнечное, вода и  нефть. Укажите порядок расположения жидкостей.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§ 52. Стр. 1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ф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с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. Как киты могут менять глубину погружения? § 52. Стр. 1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ты за счет изменения объема легких, значит за счет силы Архимед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бал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Cambria"/>
              </a:rPr>
              <a:t>Что мы знаем о Мертвом море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да мертвого моря содержит не 2-3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соли как большинство морей и океанов, а более 27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, с глубиной соленость растет. В результате вода Мертвого моря значительно тяжелее обыкновенной морской воды, утонуть в такой тяжелой жидкости практически нельз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8" descr="Картинка 1 из 389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6" descr="люди в мёртвом мор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5" descr="мёртвое море"/>
          <p:cNvPicPr/>
          <p:nvPr/>
        </p:nvPicPr>
        <p:blipFill>
          <a:blip r:embed="rId1"/>
          <a:stretch/>
        </p:blipFill>
        <p:spPr>
          <a:xfrm>
            <a:off x="0" y="0"/>
            <a:ext cx="9372600" cy="70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Я утверждаю…, а вы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5228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утверждаю что, давление, производимое на жидкость, передается по всем направлениям без изменения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утверждаю что, давление жидкости, на которую действует сила тяжести, зависит от высоты столба жидкости и ее плотност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Cambria"/>
              </a:rPr>
              <a:t>Оцени себя! </a:t>
            </a:r>
            <a:endParaRPr b="0" lang="en-US" sz="6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7" name="Прямоугольник 3"/>
          <p:cNvSpPr/>
          <p:nvPr/>
        </p:nvSpPr>
        <p:spPr>
          <a:xfrm>
            <a:off x="2209680" y="2133720"/>
            <a:ext cx="1935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19" descr="21m2"/>
          <p:cNvPicPr/>
          <p:nvPr/>
        </p:nvPicPr>
        <p:blipFill>
          <a:blip r:embed="rId1"/>
          <a:stretch/>
        </p:blipFill>
        <p:spPr>
          <a:xfrm>
            <a:off x="5105520" y="2057400"/>
            <a:ext cx="275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457200" y="42670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ambria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a50021"/>
                </a:solidFill>
                <a:latin typeface="Cambria"/>
              </a:rPr>
              <a:t>за работу на уроке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5" descr="fa29ca72f0a11ac44d55a0e1c44b4de5"/>
          <p:cNvPicPr/>
          <p:nvPr/>
        </p:nvPicPr>
        <p:blipFill>
          <a:blip r:embed="rId1"/>
          <a:stretch/>
        </p:blipFill>
        <p:spPr>
          <a:xfrm>
            <a:off x="6095880" y="2743200"/>
            <a:ext cx="2286000" cy="165744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0021"/>
                </a:solidFill>
                <a:latin typeface="Times New Roman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228600" y="1600200"/>
            <a:ext cx="8397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По учебнику: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2, упр.27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  <a:ea typeface="Times New Roman"/>
              </a:rPr>
              <a:t>Рефлексия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.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228600" y="1688760"/>
            <a:ext cx="89154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На уроке я работал                                  активно / пассивно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2.Своей работой на уроке я                       доволен / не доволен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3.Урок для меня показался                        коротким / длинны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4.За урок я                                                   не устал / устал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5.Мое настроение                                       стало лучше / стало хуж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6.Материал урока мне был                         понятен / не понятен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7.Домашнее задание мне кажется             легким / труд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Погружени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7" name="Прямая соединительная линия 8"/>
          <p:cNvSpPr/>
          <p:nvPr/>
        </p:nvSpPr>
        <p:spPr>
          <a:xfrm>
            <a:off x="838080" y="2057400"/>
            <a:ext cx="67820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Прямоугольник 12"/>
          <p:cNvSpPr/>
          <p:nvPr/>
        </p:nvSpPr>
        <p:spPr>
          <a:xfrm>
            <a:off x="838080" y="2819520"/>
            <a:ext cx="7391520" cy="3276360"/>
          </a:xfrm>
          <a:prstGeom prst="rect">
            <a:avLst/>
          </a:prstGeom>
          <a:solidFill>
            <a:srgbClr val="8e736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Прямоугольник 13"/>
          <p:cNvSpPr/>
          <p:nvPr/>
        </p:nvSpPr>
        <p:spPr>
          <a:xfrm>
            <a:off x="838080" y="1828800"/>
            <a:ext cx="7391520" cy="99072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Овал 14"/>
          <p:cNvSpPr/>
          <p:nvPr/>
        </p:nvSpPr>
        <p:spPr>
          <a:xfrm>
            <a:off x="3276720" y="4038480"/>
            <a:ext cx="457200" cy="45720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Овал 15"/>
          <p:cNvSpPr/>
          <p:nvPr/>
        </p:nvSpPr>
        <p:spPr>
          <a:xfrm>
            <a:off x="4495680" y="2743200"/>
            <a:ext cx="457200" cy="45720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Овал 16"/>
          <p:cNvSpPr/>
          <p:nvPr/>
        </p:nvSpPr>
        <p:spPr>
          <a:xfrm>
            <a:off x="5105520" y="5257800"/>
            <a:ext cx="457200" cy="45720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Овал 17"/>
          <p:cNvSpPr/>
          <p:nvPr/>
        </p:nvSpPr>
        <p:spPr>
          <a:xfrm>
            <a:off x="3429000" y="5562720"/>
            <a:ext cx="457200" cy="45720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228600" y="53316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утверждаю что, уровень в чайнике ниже уровня воды в его носи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утверждаю что, на тело, погруженное в жидкость, действует только одна сила, это сила тяже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утверждаю что, силу, выталкивающую погруженное в жидкость тело, называют архимедовой сил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6" descr="айсберг"/>
          <p:cNvPicPr/>
          <p:nvPr/>
        </p:nvPicPr>
        <p:blipFill>
          <a:blip r:embed="rId1"/>
          <a:srcRect l="0" t="0" r="5254" b="0"/>
          <a:stretch/>
        </p:blipFill>
        <p:spPr>
          <a:xfrm>
            <a:off x="380880" y="22860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0880" y="6091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изменилось бы что-нибудь, если бы воду в океане мы мгновенно поменяли бы на кероси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6" descr="айсберг"/>
          <p:cNvPicPr/>
          <p:nvPr/>
        </p:nvPicPr>
        <p:blipFill>
          <a:blip r:embed="rId1"/>
          <a:srcRect l="0" t="0" r="5254" b="0"/>
          <a:stretch/>
        </p:blipFill>
        <p:spPr>
          <a:xfrm>
            <a:off x="2666880" y="18288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C:\Users\кабинет физики\Desktop\sicilya-savunmasi-video-2d5626.jpg"/>
          <p:cNvPicPr/>
          <p:nvPr/>
        </p:nvPicPr>
        <p:blipFill>
          <a:blip r:embed="rId1"/>
          <a:stretch/>
        </p:blipFill>
        <p:spPr>
          <a:xfrm>
            <a:off x="1584360" y="304920"/>
            <a:ext cx="550224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 нашего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снить: Каковы условия плавания тел в жид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-Тема урока: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словия плавания 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- На какие вопросы мы должны сегодня ответ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 каких условиях тело тонет в жидкос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ри каких условиях всплыва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 каких условиях тело плавает в жидк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0" y="13712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Если 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тяж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&gt; 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то тел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ну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Если 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тяж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&lt; 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то тел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сплываю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Если 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тяж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= 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то тел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авают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внутри жидк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5720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User</cp:lastModifiedBy>
  <dcterms:modified xsi:type="dcterms:W3CDTF">2020-07-29T08:22:12Z</dcterms:modified>
  <cp:revision>151</cp:revision>
  <dc:subject>Условия плавания тел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