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4240" y="338040"/>
            <a:ext cx="829800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4240" y="3543840"/>
            <a:ext cx="829800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3380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66200" y="3380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4240" y="35438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66200" y="35438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4240" y="338040"/>
            <a:ext cx="267156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9720" y="338040"/>
            <a:ext cx="267156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5200" y="338040"/>
            <a:ext cx="267156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4240" y="3543840"/>
            <a:ext cx="267156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9720" y="3543840"/>
            <a:ext cx="267156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5200" y="3543840"/>
            <a:ext cx="267156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14240" y="338040"/>
            <a:ext cx="829800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14240" y="338040"/>
            <a:ext cx="829800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338040"/>
            <a:ext cx="404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66200" y="338040"/>
            <a:ext cx="404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14240" y="441360"/>
            <a:ext cx="829800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4240" y="3380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6200" y="338040"/>
            <a:ext cx="404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14240" y="35438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4240" y="338040"/>
            <a:ext cx="404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6200" y="3380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66200" y="35438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4240" y="3380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6200" y="338040"/>
            <a:ext cx="404928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4240" y="3543840"/>
            <a:ext cx="829800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4240" y="338040"/>
            <a:ext cx="829800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емь чудес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3" descr=""/>
          <p:cNvPicPr/>
          <p:nvPr/>
        </p:nvPicPr>
        <p:blipFill>
          <a:blip r:embed="rId1"/>
          <a:stretch/>
        </p:blipFill>
        <p:spPr>
          <a:xfrm>
            <a:off x="3780000" y="1800360"/>
            <a:ext cx="1771560" cy="1304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539640" y="1355760"/>
            <a:ext cx="2159280" cy="1344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6840360" y="1440000"/>
            <a:ext cx="2186280" cy="1382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360360" y="3780000"/>
            <a:ext cx="2519280" cy="161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5"/>
          <a:stretch/>
        </p:blipFill>
        <p:spPr>
          <a:xfrm>
            <a:off x="3600360" y="3780000"/>
            <a:ext cx="2328840" cy="167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6"/>
          <a:stretch/>
        </p:blipFill>
        <p:spPr>
          <a:xfrm>
            <a:off x="7365960" y="3780000"/>
            <a:ext cx="145404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60360" y="2141640"/>
            <a:ext cx="4049640" cy="61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Висячие сады Семирамиды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079640" y="36036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149280" y="2681280"/>
            <a:ext cx="4049640" cy="61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Статуя Зев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440000" y="900000"/>
            <a:ext cx="669132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330360" y="3579840"/>
            <a:ext cx="4049640" cy="61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Храм Артеми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440000" y="539640"/>
            <a:ext cx="677844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732360" y="1619280"/>
            <a:ext cx="2987640" cy="61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Мавзолей в Галикарна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68360" y="720720"/>
            <a:ext cx="6119640" cy="53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1640" y="360360"/>
            <a:ext cx="4824360" cy="61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1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i="1" lang="ru-RU" sz="3100" spc="-1" strike="noStrike">
                <a:solidFill>
                  <a:srgbClr val="0000ff"/>
                </a:solidFill>
                <a:latin typeface="Times New Roman"/>
              </a:rPr>
              <a:t>Жители Родоса,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1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i="1" lang="ru-RU" sz="3100" spc="-1" strike="noStrike">
                <a:solidFill>
                  <a:srgbClr val="0000ff"/>
                </a:solidFill>
                <a:latin typeface="Times New Roman"/>
              </a:rPr>
              <a:t>племя дорийцев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100" spc="-1" strike="noStrike">
                <a:solidFill>
                  <a:srgbClr val="0000ff"/>
                </a:solidFill>
                <a:latin typeface="Times New Roman"/>
              </a:rPr>
              <a:t>колосс этот медны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100" spc="-1" strike="noStrike">
                <a:solidFill>
                  <a:srgbClr val="0000ff"/>
                </a:solidFill>
                <a:latin typeface="Times New Roman"/>
              </a:rPr>
              <a:t>величиной до небес, Гелий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1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ru-RU" sz="3100" spc="-1" strike="noStrike">
                <a:solidFill>
                  <a:srgbClr val="0000ff"/>
                </a:solidFill>
                <a:latin typeface="Times New Roman"/>
              </a:rPr>
              <a:t>воздвигли тебе.</a:t>
            </a:r>
            <a:br>
              <a:rPr sz="36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7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700" spc="-1" strike="noStrike">
                <a:solidFill>
                  <a:srgbClr val="0000ff"/>
                </a:solidFill>
                <a:latin typeface="Times New Roman"/>
              </a:rPr>
              <a:t>(Неизвестный античный поэт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3600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431640"/>
            <a:ext cx="3961080" cy="576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5076720" y="647640"/>
            <a:ext cx="431964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 rot="20700000">
            <a:off x="676080" y="1952280"/>
            <a:ext cx="829944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382320"/>
            <a:ext cx="829944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670360" y="338040"/>
            <a:ext cx="404964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«Визит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карточка» Егип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- пирамиды. Ещё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древности о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считались чу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св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Но и сегодня он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поражают свои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ви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20720" y="677880"/>
            <a:ext cx="3811680" cy="50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337680"/>
            <a:ext cx="4050000" cy="614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Фараон Хео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187280" y="1871640"/>
            <a:ext cx="2922840" cy="3811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967280" y="338040"/>
            <a:ext cx="40496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Внутренне устройство пирам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040360" y="1979640"/>
            <a:ext cx="395928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20720" y="1260360"/>
            <a:ext cx="828036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441000"/>
            <a:ext cx="829944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14240" y="337680"/>
            <a:ext cx="82994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720720" y="716040"/>
            <a:ext cx="8280360" cy="50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441000"/>
            <a:ext cx="829944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14240" y="382320"/>
            <a:ext cx="829944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720720" y="360360"/>
            <a:ext cx="828036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20720" y="360360"/>
            <a:ext cx="399564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435640" y="1440000"/>
            <a:ext cx="3571920" cy="46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23800" y="900000"/>
            <a:ext cx="6496200" cy="5577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Навуходоносор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922480" y="1444680"/>
            <a:ext cx="355752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880560"/>
            <a:ext cx="40496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Семирам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в одеянии амазо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643280" y="287280"/>
            <a:ext cx="4608720" cy="590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9:32:54Z</dcterms:created>
  <dc:creator/>
  <dc:description/>
  <dc:language>en-US</dc:language>
  <cp:lastModifiedBy>User</cp:lastModifiedBy>
  <dcterms:modified xsi:type="dcterms:W3CDTF">2020-07-29T08:34:45Z</dcterms:modified>
  <cp:revision>5</cp:revision>
  <dc:subject/>
  <dc:title>Семь чудес света</dc:title>
</cp:coreProperties>
</file>