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274680"/>
            <a:ext cx="64008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О – ЭСТЕТИЧЕСКОЕ РАЗВИТИЕ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ЕПКА)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АЯ ГРУППА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дуванчики»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0 год</a:t>
            </a:r>
            <a:endParaRPr b="0" lang="en-US" sz="2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39" name="Содержимое 3" descr="оду.jpg"/>
          <p:cNvPicPr/>
          <p:nvPr/>
        </p:nvPicPr>
        <p:blipFill>
          <a:blip r:embed="rId1"/>
          <a:stretch/>
        </p:blipFill>
        <p:spPr>
          <a:xfrm>
            <a:off x="1571760" y="2500200"/>
            <a:ext cx="73152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Содержимое 4" descr="одув.jpg"/>
          <p:cNvPicPr/>
          <p:nvPr/>
        </p:nvPicPr>
        <p:blipFill>
          <a:blip r:embed="rId1"/>
          <a:stretch/>
        </p:blipFill>
        <p:spPr>
          <a:xfrm>
            <a:off x="4357800" y="928800"/>
            <a:ext cx="4368600" cy="54291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1642680" y="357120"/>
            <a:ext cx="3071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Microsoft Sans Serif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Материалы: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Sans Serif"/>
              </a:rPr>
              <a:t>Пластилин;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Sans Serif"/>
              </a:rPr>
              <a:t>Картон 9*12;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Sans Serif"/>
              </a:rPr>
              <a:t>Карандаш простой;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Sans Serif"/>
              </a:rPr>
              <a:t>Доска для лепки;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Sans Serif"/>
              </a:rPr>
              <a:t>Салфетка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од1.jpg"/>
          <p:cNvPicPr/>
          <p:nvPr/>
        </p:nvPicPr>
        <p:blipFill>
          <a:blip r:embed="rId1"/>
          <a:stretch/>
        </p:blipFill>
        <p:spPr>
          <a:xfrm>
            <a:off x="2500200" y="57240"/>
            <a:ext cx="54295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од2.jpg"/>
          <p:cNvPicPr/>
          <p:nvPr/>
        </p:nvPicPr>
        <p:blipFill>
          <a:blip r:embed="rId1"/>
          <a:stretch/>
        </p:blipFill>
        <p:spPr>
          <a:xfrm>
            <a:off x="2286000" y="0"/>
            <a:ext cx="5857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од3.jpg"/>
          <p:cNvPicPr/>
          <p:nvPr/>
        </p:nvPicPr>
        <p:blipFill>
          <a:blip r:embed="rId1"/>
          <a:stretch/>
        </p:blipFill>
        <p:spPr>
          <a:xfrm>
            <a:off x="2428920" y="0"/>
            <a:ext cx="5572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од4.jpg"/>
          <p:cNvPicPr/>
          <p:nvPr/>
        </p:nvPicPr>
        <p:blipFill>
          <a:blip r:embed="rId1"/>
          <a:stretch/>
        </p:blipFill>
        <p:spPr>
          <a:xfrm>
            <a:off x="2714760" y="142920"/>
            <a:ext cx="5214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9T18:03:16Z</dcterms:created>
  <dc:creator>Татьяна</dc:creator>
  <dc:description/>
  <dc:language>en-US</dc:language>
  <cp:lastModifiedBy>Татьяна</cp:lastModifiedBy>
  <dcterms:modified xsi:type="dcterms:W3CDTF">2020-05-19T18:13:57Z</dcterms:modified>
  <cp:revision>2</cp:revision>
  <dc:subject/>
  <dc:title>ХУДОЖЕСТВЕННО – ЭСТЕТИЧЕСКОЕ РАЗВИТИЕ  (ЛЕПКА) ПОДГОТОВИТЕЛЬНАЯ ГРУППА «Одуванчики» 2020 год</dc:title>
</cp:coreProperties>
</file>