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9E94-9C8B-4CA4-9959-8CEFB40D1C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4163-A910-4647-A074-200F006F22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7D6F-A804-435A-B54A-5968E47E1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71AE-5F8C-471D-9CF0-E034321A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FE41-F60E-4CC3-9082-7D703A58E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AA59-FD50-4E36-9E57-A09E1520E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C7E4-90D1-4ACC-AA80-7D9157252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A2F2-E7BA-4D6D-8214-5207536B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0FA5-18B2-46FF-A568-89E8673F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2988-09BB-4B69-B4EA-5D7478C1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B2F3-2D2C-4F17-A004-6A9E26BD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3DB2-BABE-4FBB-B944-0C0C8D00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779F-3AED-419B-B70E-0327B0DE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A14C-ED38-4CE5-8996-8371BFD0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3D0C-EE7F-4725-80B7-20456C3C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62A9-7239-47FE-86A8-BA51C385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6529-55DD-4E37-881C-7AB3DDF0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8C50-C154-4959-84D7-1AF0BB572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6EA1-9BF0-45FD-9429-2FF24F55B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7A122-B105-43BA-A1B5-B2035ED44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51B0B-95CA-49BB-81A3-D9A5FF14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40D4E-6E42-4E53-A863-78911CF3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433B8-32AA-4136-AE09-424F19E0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4062F-A5C9-4F07-97C7-DD6F6B94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5858-1421-40A4-8A2B-7F33EB6A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480AD-B532-4384-AE11-E5D73570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BAB88-8B92-4C46-A6AF-CE9F7C4F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192E0-3520-4645-99D9-8C943EFC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0160A-867B-43D6-B842-FD1BC0AA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AF9E6-B5C4-4102-932D-C163B808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FE3C7-9998-471F-8E81-1B2A3BEF7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9F726-EEC8-44EF-A8B8-7A10848FB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AEA69-3CCC-4390-9B97-E94261E00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6E817-30C7-44C8-9BEF-5824410A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1311C-7917-42DF-9CE8-B4DA37D0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442A-1E51-4B6F-A0C0-93EFFBFE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9BAA7-0CA1-49A8-B4C4-5BF43DDE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0E6F2-410E-44D3-8E1D-B10B4D67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66370-F7AB-42C5-AC85-D82806F5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737FC-F86C-4BE5-8EF8-A788057E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40AA9-A7B2-4C97-9883-40D82BBB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DA571-1EFA-4A3F-B08E-184434F8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3BF60-5DFD-4A8E-9CC3-F0194A74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01235-02BA-4CF1-954F-454CF62F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5A303-64E0-49F3-B219-E628BB3C8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4C2C7-2DBE-4DEB-85A1-B965129CB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5F29-53BD-43F3-ACF4-28760B64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5ECB6-E94B-4398-BD83-F0A2003F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FDFCD-451B-47F0-9393-EDF3121B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A58DC-858D-44D3-B4E4-3C67C3DA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7E558-1329-4865-BF89-B8A8224A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C7D4E-3387-420B-80FC-3573201F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B5329-8073-4497-8E3D-0DA4B174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0D580-0553-4481-A0DC-03F7D24F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1406C-9C91-4B22-9BEF-D02BF13A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1CD35-D9B4-4EE7-B0B3-4574A7D8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E47D6-546A-4756-A04C-02C7B81FF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6C64-5A40-424B-96CE-A161B0E3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BFB4E-EC57-487F-8553-FEC8E13C4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7DD1D-F119-4041-BFB8-9B290C5CF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13729-204F-4A13-802A-121B5C8F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4AAF3-2F77-4FEC-9E86-AAA6C9B8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E8CF2-FA36-4EFB-B94B-34BD09A7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3B283-DA36-4409-860A-54513C45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DF836-F6DA-45AA-9F4D-886E63FC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4CFC1-3D0F-4444-B1FE-9C2CBB8D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72DF2-2511-4F18-AA3E-E9733A7F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9CFBF-2FD4-45A6-927A-CE79614A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8FF3-7D9F-49C3-9CDF-EE5DFF98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EB123-EDD8-411C-AC3B-AF7F6ECE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9DFD5-AB5D-412F-912D-3063DC6B9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FC2FA-913C-4359-BC6A-13311AB09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87646-D3B0-4284-9C8A-EC2918253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967A1-5387-49C5-87E5-FFF256CD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615EE-F597-4BCA-A5FB-2AF96C88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C036A-D457-440B-BC2E-F5920B03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33DE4-09AA-4A24-BA04-55B5D525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E792D-2163-47B2-B275-C67322F2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034CD-BDEC-4CA9-B485-A7DFCC57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D4B0-D158-4CEB-9136-65B24247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2E431-E65A-4B8B-9754-1675FB9A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E0924-77FA-448F-856F-CA9F1987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5524A-6E9A-4192-83AA-ED760515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6171C-E97A-4EC0-89C9-BDA042566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63D92-5315-41F5-9022-6A900CCA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3351-B531-441D-B1A1-936DC49F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D480-E4F3-4344-B330-18DC0C64F4D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2F21-85F4-44AB-9253-59CE7EB4965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32E0-DA4E-49CD-85F7-78605A07489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D825-A172-480E-86FC-D4E8E513BB2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73D8-9883-4391-B0F3-5C1BADB06CD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9488-AA47-4792-8CDB-C3D94CB6CF8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3251-F506-4A11-811F-7E3D026C07E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838080" y="1463760"/>
            <a:ext cx="777240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Гимнастика пробуж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форма эффективн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здоровительной работ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WordArt 14"/>
          <p:cNvSpPr txBox="1"/>
          <p:nvPr/>
        </p:nvSpPr>
        <p:spPr>
          <a:xfrm>
            <a:off x="1523880" y="396720"/>
            <a:ext cx="5943600" cy="1067040"/>
          </a:xfrm>
          <a:prstGeom prst="rect">
            <a:avLst/>
          </a:prstGeom>
        </p:spPr>
        <p:txBody>
          <a:bodyPr wrap="none" lIns="90000" rIns="90000" tIns="46800" bIns="46800" anchor="t">
            <a:prstTxWarp prst="textCanDown">
              <a:avLst>
                <a:gd name="adj" fmla="val 12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2060"/>
                </a:solidFill>
                <a:latin typeface="Times New Roman"/>
              </a:rPr>
              <a:t>Презентация</a:t>
            </a:r>
            <a:endParaRPr b="1" lang="en-US" sz="1800" spc="1" strike="noStrike">
              <a:ln w="0">
                <a:noFill/>
              </a:ln>
              <a:solidFill>
                <a:srgbClr val="002060"/>
              </a:solidFill>
              <a:latin typeface="Times New Roman"/>
              <a:ea typeface="Times New Roman"/>
            </a:endParaRPr>
          </a:p>
        </p:txBody>
      </p:sp>
      <p:sp>
        <p:nvSpPr>
          <p:cNvPr id="344" name="Text Box 16"/>
          <p:cNvSpPr/>
          <p:nvPr/>
        </p:nvSpPr>
        <p:spPr>
          <a:xfrm>
            <a:off x="4327560" y="5827680"/>
            <a:ext cx="397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7"/>
          <p:cNvSpPr/>
          <p:nvPr/>
        </p:nvSpPr>
        <p:spPr>
          <a:xfrm>
            <a:off x="4724280" y="411480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Bodoni MT"/>
              </a:rPr>
              <a:t>Составила воспитат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Bodoni MT"/>
              </a:rPr>
              <a:t>МДОУ  «Детский сад № 6 д.Горет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Bodoni MT"/>
              </a:rPr>
              <a:t>Осипова Е.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Рисунок 3" descr=""/>
          <p:cNvPicPr/>
          <p:nvPr/>
        </p:nvPicPr>
        <p:blipFill>
          <a:blip r:embed="rId1"/>
          <a:stretch/>
        </p:blipFill>
        <p:spPr>
          <a:xfrm>
            <a:off x="533520" y="3892680"/>
            <a:ext cx="4190760" cy="234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Содержимое 2"/>
          <p:cNvSpPr/>
          <p:nvPr/>
        </p:nvSpPr>
        <p:spPr>
          <a:xfrm>
            <a:off x="762120" y="1295280"/>
            <a:ext cx="74991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укрепить здоровье, иммунитет и опорно-двигательный аппарат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эффективен  показатель изменения сколиоза и плоскостоп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повысить жизненный тонус и снижение утомляемости во второй половине д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развить координацию движ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научит дышать через нос, выполнять движения по показу воспитате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способствовать воспитанию привычки к здоровому образу жизни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WordArt 6"/>
          <p:cNvSpPr txBox="1"/>
          <p:nvPr/>
        </p:nvSpPr>
        <p:spPr>
          <a:xfrm>
            <a:off x="955800" y="304920"/>
            <a:ext cx="66294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002060"/>
                </a:solidFill>
                <a:latin typeface="Times New Roman"/>
              </a:rPr>
              <a:t>Ожидаемые результаты</a:t>
            </a:r>
            <a:endParaRPr b="1" lang="en-US" sz="4400" spc="1" strike="noStrike">
              <a:ln w="0">
                <a:noFill/>
              </a:ln>
              <a:solidFill>
                <a:srgbClr val="002060"/>
              </a:solidFill>
              <a:latin typeface="Times New Roman"/>
              <a:ea typeface="Times New Roman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6" name="Прямоугольник 2"/>
          <p:cNvSpPr/>
          <p:nvPr/>
        </p:nvSpPr>
        <p:spPr>
          <a:xfrm>
            <a:off x="2286000" y="1536840"/>
            <a:ext cx="457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002060"/>
                </a:solidFill>
                <a:latin typeface="Monotype Corsiva"/>
                <a:ea typeface="Arial"/>
              </a:rPr>
              <a:t>Спасибо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002060"/>
                </a:solidFill>
                <a:latin typeface="Monotype Corsiva"/>
                <a:ea typeface="Arial"/>
              </a:rPr>
              <a:t>за внимание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06280" y="304920"/>
            <a:ext cx="87314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бота о здоровье – важнейший труд воспитателя».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В.А.Сухомлинский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8" name="WordArt 7"/>
          <p:cNvSpPr txBox="1"/>
          <p:nvPr/>
        </p:nvSpPr>
        <p:spPr>
          <a:xfrm>
            <a:off x="2590920" y="533520"/>
            <a:ext cx="3962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cc99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49" name="Объект 2" descr=""/>
          <p:cNvPicPr/>
          <p:nvPr/>
        </p:nvPicPr>
        <p:blipFill>
          <a:blip r:embed="rId1"/>
          <a:stretch/>
        </p:blipFill>
        <p:spPr>
          <a:xfrm>
            <a:off x="1508040" y="2674800"/>
            <a:ext cx="6135840" cy="34513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WordArt 6"/>
          <p:cNvSpPr txBox="1"/>
          <p:nvPr/>
        </p:nvSpPr>
        <p:spPr>
          <a:xfrm>
            <a:off x="1143000" y="380880"/>
            <a:ext cx="67816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800080"/>
                </a:solidFill>
                <a:miter/>
              </a:ln>
              <a:solidFill>
                <a:srgbClr val="cc99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-1219680"/>
            <a:ext cx="8229600" cy="716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r>
              <a:rPr b="1" lang="ru-RU" sz="4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имнастика после дневного сна –</a:t>
            </a:r>
            <a:br>
              <a:rPr sz="4100"/>
            </a:br>
            <a:br>
              <a:rPr sz="41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комплекс мероприятий облегчающих переход от сна к бодрствованию. Бодрящая гимнастика помогает детскому организму проснуться, улучшает настроение, поднимает мышечный тонус.  После хорошей гимнастики у детей исчезает чувство сонливости, вялости, слабости, повышается умственная и физическая работоспособность, улучшается настроение и самочувствие ребёнка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52" name="Picture 3" descr=""/>
          <p:cNvPicPr/>
          <p:nvPr/>
        </p:nvPicPr>
        <p:blipFill>
          <a:blip r:embed="rId1"/>
          <a:stretch/>
        </p:blipFill>
        <p:spPr>
          <a:xfrm>
            <a:off x="6629400" y="4680000"/>
            <a:ext cx="2139840" cy="2144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WordArt 11"/>
          <p:cNvSpPr txBox="1"/>
          <p:nvPr/>
        </p:nvSpPr>
        <p:spPr>
          <a:xfrm>
            <a:off x="380880" y="549360"/>
            <a:ext cx="7925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800080"/>
                </a:solidFill>
                <a:miter/>
              </a:ln>
              <a:solidFill>
                <a:srgbClr val="cc99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176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увеличить тонус нервной системы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укрепить мышечный тонус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пособствовать профилактике нарушений опорно-двигательного аппарата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пособствовать профилактике простудных     заболеваний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развитие физических навыков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охранить положительные эмоции при выполнении физических упражнений и прочих режимных моментов во второй половине дня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549360"/>
            <a:ext cx="687564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задачи:</a:t>
            </a:r>
            <a:endParaRPr b="0" lang="en-US" sz="4400" spc="-1" strike="noStrike">
              <a:solidFill>
                <a:srgbClr val="073e87"/>
              </a:solidFill>
              <a:latin typeface="Constantia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иды гимнастики после дневного сна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266720" y="1828440"/>
            <a:ext cx="4343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миночные упражнения в кровати;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ение пальчиковой гимнастики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имнастика игрового характера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ыхательная гимнастика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бежки по дорожкам здоровья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624120" cy="3674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Рисунок 1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68680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Рисунок 1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61048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Рисунок 1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Рисун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stok</dc:creator>
  <dc:description/>
  <dc:language>en-US</dc:language>
  <cp:lastModifiedBy>BOBILA</cp:lastModifiedBy>
  <dcterms:modified xsi:type="dcterms:W3CDTF">2020-07-29T17:35:26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