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240" cy="782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ект</a:t>
            </a:r>
            <a:br>
              <a:rPr sz="5400"/>
            </a:br>
            <a:r>
              <a:rPr b="1" i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«Лук – зелёный друг»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2" descr=""/>
          <p:cNvPicPr/>
          <p:nvPr/>
        </p:nvPicPr>
        <p:blipFill>
          <a:blip r:embed="rId1"/>
          <a:stretch/>
        </p:blipFill>
        <p:spPr>
          <a:xfrm>
            <a:off x="1187280" y="2854440"/>
            <a:ext cx="2592000" cy="3022200"/>
          </a:xfrm>
          <a:prstGeom prst="rect">
            <a:avLst/>
          </a:prstGeom>
          <a:ln w="0">
            <a:noFill/>
          </a:ln>
        </p:spPr>
      </p:pic>
      <p:sp>
        <p:nvSpPr>
          <p:cNvPr id="40" name="Прямоугольник 3"/>
          <p:cNvSpPr/>
          <p:nvPr/>
        </p:nvSpPr>
        <p:spPr>
          <a:xfrm>
            <a:off x="5435640" y="4365720"/>
            <a:ext cx="3312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БУ №10 «Светлячо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ль – Илец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борцева Н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Таблица 2"/>
          <p:cNvGraphicFramePr/>
          <p:nvPr/>
        </p:nvGraphicFramePr>
        <p:xfrm>
          <a:off x="971640" y="476280"/>
          <a:ext cx="7416360" cy="5976720"/>
        </p:xfrm>
        <a:graphic>
          <a:graphicData uri="http://schemas.openxmlformats.org/drawingml/2006/table">
            <a:tbl>
              <a:tblPr/>
              <a:tblGrid>
                <a:gridCol w="2279520"/>
                <a:gridCol w="2568240"/>
                <a:gridCol w="2568240"/>
              </a:tblGrid>
              <a:tr h="7221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3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ключительный эта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оспитатели и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оспитатели и 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одители и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99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отовыставка выращенного лука - выращенный лук использовать в 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книгу любимых рецептов группы с лу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отовыставка нашего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ная картотека мультфильмов про л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900000" y="333360"/>
            <a:ext cx="791964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ключение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ализация данного проекта научила наших детей сравнивать, анализировать,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и приобрели первый опыт исследователь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процессе работы над проектом дошкольники рассматривали рост лука в благоприятных условиях и неблагоприятных. Узнали где ещё можно использовать зеленый л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ам процесс и результат проекта принес детям удовлетворение, радость, осознание собственных ум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900000" y="333360"/>
            <a:ext cx="791964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Admin\Desktop\Рисунок1.png"/>
          <p:cNvPicPr/>
          <p:nvPr/>
        </p:nvPicPr>
        <p:blipFill>
          <a:blip r:embed="rId1"/>
          <a:stretch/>
        </p:blipFill>
        <p:spPr>
          <a:xfrm>
            <a:off x="1185840" y="1332000"/>
            <a:ext cx="3673080" cy="250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Admin\Desktop\Рисунок1.png"/>
          <p:cNvPicPr/>
          <p:nvPr/>
        </p:nvPicPr>
        <p:blipFill>
          <a:blip r:embed="rId2"/>
          <a:stretch/>
        </p:blipFill>
        <p:spPr>
          <a:xfrm>
            <a:off x="5264280" y="1422360"/>
            <a:ext cx="3396960" cy="236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Admin\Desktop\Рисунок1.png"/>
          <p:cNvPicPr/>
          <p:nvPr/>
        </p:nvPicPr>
        <p:blipFill>
          <a:blip r:embed="rId3"/>
          <a:stretch/>
        </p:blipFill>
        <p:spPr>
          <a:xfrm>
            <a:off x="1195560" y="3855960"/>
            <a:ext cx="3674880" cy="266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Admin\Desktop\Рисунок1.png"/>
          <p:cNvPicPr/>
          <p:nvPr/>
        </p:nvPicPr>
        <p:blipFill>
          <a:blip r:embed="rId4"/>
          <a:stretch/>
        </p:blipFill>
        <p:spPr>
          <a:xfrm>
            <a:off x="5245200" y="3895560"/>
            <a:ext cx="3516120" cy="2414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900000" y="333360"/>
            <a:ext cx="791964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адка Лука (опыт №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1154160" y="1652760"/>
            <a:ext cx="3057120" cy="4076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3018960" cy="40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900000" y="333360"/>
            <a:ext cx="7919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еленый лук вырос (опыт №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1125360" y="1844640"/>
            <a:ext cx="3055680" cy="30222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565080" cy="26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900000" y="333360"/>
            <a:ext cx="7919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пыт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3849480" cy="43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900000" y="333360"/>
            <a:ext cx="7919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пыт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"/>
          <p:cNvPicPr/>
          <p:nvPr/>
        </p:nvPicPr>
        <p:blipFill>
          <a:blip r:embed="rId2"/>
          <a:stretch/>
        </p:blipFill>
        <p:spPr>
          <a:xfrm>
            <a:off x="933480" y="1447920"/>
            <a:ext cx="3201480" cy="3606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5869080" y="1447920"/>
            <a:ext cx="277776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Admin\Desktop\фото С.В\SAM_4342.JPG"/>
          <p:cNvPicPr/>
          <p:nvPr/>
        </p:nvPicPr>
        <p:blipFill>
          <a:blip r:embed="rId2"/>
          <a:stretch/>
        </p:blipFill>
        <p:spPr>
          <a:xfrm>
            <a:off x="4664160" y="1603440"/>
            <a:ext cx="3509640" cy="247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Admin\Desktop\фото С.В\SAM_4343.JPG"/>
          <p:cNvPicPr/>
          <p:nvPr/>
        </p:nvPicPr>
        <p:blipFill>
          <a:blip r:embed="rId3"/>
          <a:stretch/>
        </p:blipFill>
        <p:spPr>
          <a:xfrm>
            <a:off x="987480" y="3713040"/>
            <a:ext cx="3126960" cy="27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 еде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рос зеленый лучок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2"/>
          <a:srcRect l="13460" t="10598" r="10091" b="8829"/>
          <a:stretch/>
        </p:blipFill>
        <p:spPr>
          <a:xfrm>
            <a:off x="1042920" y="1847880"/>
            <a:ext cx="2338200" cy="28904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3"/>
          <a:srcRect l="12276" t="9451" r="14055" b="8650"/>
          <a:stretch/>
        </p:blipFill>
        <p:spPr>
          <a:xfrm>
            <a:off x="3863880" y="1830240"/>
            <a:ext cx="2025360" cy="2925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4"/>
          <a:srcRect l="9095" t="9559" r="13636" b="5216"/>
          <a:stretch/>
        </p:blipFill>
        <p:spPr>
          <a:xfrm>
            <a:off x="6588000" y="1847880"/>
            <a:ext cx="2022120" cy="29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рос зеленый лучок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2"/>
          <a:srcRect l="1402" t="23101" r="3400" b="25452"/>
          <a:stretch/>
        </p:blipFill>
        <p:spPr>
          <a:xfrm>
            <a:off x="4932360" y="1946160"/>
            <a:ext cx="3816000" cy="27493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"/>
          <p:cNvPicPr/>
          <p:nvPr/>
        </p:nvPicPr>
        <p:blipFill>
          <a:blip r:embed="rId3"/>
          <a:srcRect l="0" t="26471" r="4490" b="22482"/>
          <a:stretch/>
        </p:blipFill>
        <p:spPr>
          <a:xfrm>
            <a:off x="971640" y="1946160"/>
            <a:ext cx="35301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92120"/>
            <a:ext cx="8229240" cy="99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Лук – зелёный друг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6732720" y="4365720"/>
            <a:ext cx="1728360" cy="2015640"/>
          </a:xfrm>
          <a:prstGeom prst="rect">
            <a:avLst/>
          </a:prstGeom>
          <a:ln w="9525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1728360" cy="201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3"/>
          <a:stretch/>
        </p:blipFill>
        <p:spPr>
          <a:xfrm>
            <a:off x="5940360" y="3357720"/>
            <a:ext cx="2592000" cy="3024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1187280" y="1341360"/>
            <a:ext cx="756108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знавательно–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 – март, апр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, родители и воспит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73512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учок золотой бочок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4802040" y="1889280"/>
            <a:ext cx="3912840" cy="2935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3"/>
          <a:srcRect l="15001" t="38450" r="7999" b="5902"/>
          <a:stretch/>
        </p:blipFill>
        <p:spPr>
          <a:xfrm>
            <a:off x="1249200" y="1916280"/>
            <a:ext cx="3212640" cy="3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ук и его условия роста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2"/>
          <a:srcRect l="7506" t="9634" r="8094" b="7122"/>
          <a:stretch/>
        </p:blipFill>
        <p:spPr>
          <a:xfrm>
            <a:off x="1698480" y="1971720"/>
            <a:ext cx="5256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Таблица 2"/>
          <p:cNvGraphicFramePr/>
          <p:nvPr/>
        </p:nvGraphicFramePr>
        <p:xfrm>
          <a:off x="1042920" y="1346040"/>
          <a:ext cx="7632360" cy="5106960"/>
        </p:xfrm>
        <a:graphic>
          <a:graphicData uri="http://schemas.openxmlformats.org/drawingml/2006/table">
            <a:tbl>
              <a:tblPr/>
              <a:tblGrid>
                <a:gridCol w="3700440"/>
                <a:gridCol w="3931920"/>
              </a:tblGrid>
              <a:tr h="510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Яичница с зеленым лу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Яйца   3 шт., лук зеленый   4 перышка; соль   по вкус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чищенный, промытый зеленый лук очень мелко нарезать, посолить, положить на сковороду и потушить до мягкости. Затем тушеный лук разровнять на сковороде, залить взбитыми яйцами и жарить до готов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крошка из редиса и зеленого лука с яйц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фир - 500г,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да (кипяченая) - 500г, редис - 300г, зеленый лук - 100г , яйцо - 2 шт., укроп, соль - по вкус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вымыть и нарезать, редис вымыть и нашинковать. Яйца отварить вкрутую, обдать холодной водой, очистить и порубить. Укроп вымыть и мелко нарезать. Все перемешать, залить разбавленным водой кефиром, посоли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5600" y="73512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1054080" y="1413000"/>
            <a:ext cx="770076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говор о правильном питании: Методическое пособие для учителя, Олма—Пресс, 2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рейко Л.И. Питание и здоровье. Минск: Персей, 19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ынов С.М. Овощи + фрукты + ягоды = здоровье. М.: Просвещение, 199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уркин В.А., Докучаева Г.Н.  «Лук — от 100 недуг»издательства “АиН”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лаев Л. Аптека на подоконнике,Феникс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ина Н.“Где щи, там и нас ищи!”. – М.: Малыш, - 198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7308720" y="4941720"/>
            <a:ext cx="1366560" cy="15951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108080" y="333360"/>
            <a:ext cx="756720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ель проекта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звать у детей познавательный интерес к выращиванию репчатого лука на перо в комнатных условиях, узнать о его пользе, заинтересовать этапами проведения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закрепление представлений о луке, особенностях внешнего строения, находить «донце» с корнями и верхуш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формирование представления об основных условиях, которые необходимы для роста лука (вода, земля, свет, теп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выработка навыков посадки лука на землю и в стакан с во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выявление, сравнение изменений и различий, которые произошли с луковицами во время его ро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92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732720" y="4365720"/>
            <a:ext cx="1728360" cy="2015640"/>
          </a:xfrm>
          <a:prstGeom prst="rect">
            <a:avLst/>
          </a:prstGeom>
          <a:ln w="9525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236680" y="1587960"/>
            <a:ext cx="478260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что этот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многих от нед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шь друга раздеват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шь слёзы прол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дались? Этот друг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родный чудо-л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-лук, бочок круглё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кушке - чуб зелё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Богд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1728360" cy="201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6804000" y="4365720"/>
            <a:ext cx="1728360" cy="20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"/>
          <p:cNvPicPr/>
          <p:nvPr/>
        </p:nvPicPr>
        <p:blipFill>
          <a:blip r:embed="rId1"/>
          <a:stretch/>
        </p:blipFill>
        <p:spPr>
          <a:xfrm>
            <a:off x="6732720" y="4365720"/>
            <a:ext cx="1728360" cy="20156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826920" y="549360"/>
            <a:ext cx="763380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ект возник по инициативе самих детей группы. В ходе беседы с детьми выяснилось, что все знают: лук полезен, его надо есть, чтобы не болеть. А то, что зеленый лук можно вырастить на подоконнике при соблюдении условий роста растений практически никто не знал. Исходя из этого, мы решили провести исследование по выращиванию лука на подоконнике в благоприятных и неблагоприятных условиях и разработали данный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240" cy="517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проект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ожно ли вырастить зелёный лук на подоконнике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33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з репчатого лука можно вырастить перья зеленого лука при соблюдении условий, необходимых для роста растений (свет, тепло, вода, земля).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728360" cy="20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3"/>
          <p:cNvSpPr/>
          <p:nvPr/>
        </p:nvSpPr>
        <p:spPr>
          <a:xfrm>
            <a:off x="1619280" y="2477160"/>
            <a:ext cx="5638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1"/>
          <a:stretch/>
        </p:blipFill>
        <p:spPr>
          <a:xfrm>
            <a:off x="6948360" y="5168880"/>
            <a:ext cx="122364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900000" y="333360"/>
            <a:ext cx="7919640" cy="55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ъединить детей, родителей и воспитателей в совместной деятельности по выращиванию лука на подоконнике, при этом дет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получить представления как сажать лук и ухаживать за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знать пользу л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знать поговорки, пословицы, загадки про л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знать где и в каких целях можно использовать л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Таблица 2"/>
          <p:cNvGraphicFramePr/>
          <p:nvPr/>
        </p:nvGraphicFramePr>
        <p:xfrm>
          <a:off x="971640" y="476280"/>
          <a:ext cx="7416360" cy="5976720"/>
        </p:xfrm>
        <a:graphic>
          <a:graphicData uri="http://schemas.openxmlformats.org/drawingml/2006/table">
            <a:tbl>
              <a:tblPr/>
              <a:tblGrid>
                <a:gridCol w="2279520"/>
                <a:gridCol w="2568240"/>
                <a:gridCol w="2568240"/>
              </a:tblGrid>
              <a:tr h="7221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3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одготовительный эта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оспитатели и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оспитатели и 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одители и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99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модели (схемы) по выращиванию л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бор научной и художественной литературы о свойствах и пользе л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дактических игр, иллюстраций и трафаретов для рис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готовить землю, ёмкость с водой, лук со стаканчиками для посадки, лей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бор загадок, пословиц, погово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бор мультфильмов про л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Таблица 2"/>
          <p:cNvGraphicFramePr/>
          <p:nvPr/>
        </p:nvGraphicFramePr>
        <p:xfrm>
          <a:off x="108000" y="115920"/>
          <a:ext cx="8856360" cy="6644880"/>
        </p:xfrm>
        <a:graphic>
          <a:graphicData uri="http://schemas.openxmlformats.org/drawingml/2006/table">
            <a:tbl>
              <a:tblPr/>
              <a:tblGrid>
                <a:gridCol w="5400360"/>
                <a:gridCol w="2232000"/>
                <a:gridCol w="1223640"/>
              </a:tblGrid>
              <a:tr h="792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сновно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оспитатели и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оспитатели и 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одители и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47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сследование репчатого лука по опорной таб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: «Для чего нужен огород на подоконнике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и: «Вершки – корешки», «Овощи и фрукты»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 сказки «Лук – зелёный друг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дуктивная деятельность: лепка «Лучок золотой бочок», коллективная аппликация «Лук и условия его роста», рисование «Вырос зеленый лучок», рисование этапов роста л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гадки, поговорки, пословицы про л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епетиции сказки «Спор овощ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сследование роста лука (по схеме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1: Посадка лука в земл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2: Наблюдение за ростом лука при благоприятных услов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3: Наблюдение за ростом лука при неблагоприятных услов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4: Сравнение двух опы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для родителей «Лук – лекарственное раст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ки и поделки из лука на тему «Лук – мой дру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думать сказку или рассказ «Путешествие моего лу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юбимые рецепты с лу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advTm="7000" p14:dur="100"/>
    </mc:Choice>
    <mc:Fallback>
      <p:transition advTm="7000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  <Paragraphs>7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1</cp:lastModifiedBy>
  <dcterms:modified xsi:type="dcterms:W3CDTF">2020-07-29T07:58:46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3</vt:r8>
  </property>
</Properties>
</file>