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701-BDC9-46B9-9A76-9CDD2263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06C-FC44-41CD-899C-FCB361F8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44D-8A08-4DDA-8523-99594A72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892-4A37-415D-8146-06B749E8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D4A-C0AE-4650-980D-7CC13C50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BDE-3EC8-4820-9D64-05E42E19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88B-548B-47F7-BA4A-2D2D582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DFA-880C-4381-8713-8A8E23C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79D-F228-4F85-AF9A-490A0AA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DCE-C7E8-4129-8102-F7B7010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0C8-E4EA-429A-A4C6-16A04D0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AD3-973E-4419-BD89-25792D0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2B37-5E0C-49BF-B498-6C6DF68B30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Present Simple or Present Continuous.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5. We (not to have) dinner  we ( to study) now.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6. Ann (  to draw)  a self-portrai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7. ____ she  want be an agronomist?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8. What___ you ( to do) now?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9. She___ ( to plan) to enter a university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0. What ____he (to do)?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Перевести на английский язык.</a:t>
            </a:r>
            <a:br>
              <a:rPr sz="4400"/>
            </a:br>
            <a:br>
              <a:rPr sz="4400"/>
            </a:b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1. Ее семья ценит традиции.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2.Я уважаю старых людей.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3. O</a:t>
            </a: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н сейчас усердно думает.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4. Мои одноклассники в данный момент переводят предложения.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5. Ты работаешь на этой фабрике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6. Она не любит его.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7.  Каждое утро я встаю, умываюсь, одеваюсь, иду в школу.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9298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ыбери нужный глагол 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to be</a:t>
            </a:r>
            <a:br>
              <a:rPr sz="54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. I__ eating  a delicious dish now.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. We___ playing  on computer.</a:t>
            </a:r>
            <a:br>
              <a:rPr sz="5400"/>
            </a:b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8. Ты что сейчас делаешь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9. Я заканчиваю это упражнение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10.  Не забывай обо мне!!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3. She___washing dishes after the supper.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4. Sally and her husband ____ Walking in the park.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5. Look!  The dog___ running fast.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br>
              <a:rPr sz="1800"/>
            </a:b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бери необходимый вспомогательный глагол.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1.  ___ you  like to sing songs?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2.  ____ you  sing  a song now?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3.  ____ Mark drive his car well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4.____ Mark  driving a car?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5____ all my class having an English lesson now?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6. ____ we study a difficult grammar rule now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7. My friend  ____ not enjoy watching horror films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. I___ not waiting for him at the moment.</a:t>
            </a:r>
            <a:br>
              <a:rPr sz="54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9. We___ not  ant to be upset.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0. Tom and his sister___ not prefer rap music.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ставь глагол в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еобходимое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ремя. </a:t>
            </a:r>
            <a:br>
              <a:rPr sz="44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 The Sun (to go) round the Earth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2. I   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to fell) love now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. He ( to grow) different plants in his garden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4. I ( to write) a letter for my pen pal now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11T10:10:46Z</dcterms:modified>
  <cp:revision>9</cp:revision>
  <dc:subject/>
  <dc:title>        Выбери нужный глагол to be 1. I__ eating  a delicious dish now. 2. We___ playing  on computer. 3. She___washing dishes after the supper. 4. Sally and her husband ____ Walking in the park. 5. Look!  The dog___ running fast.      </dc:title>
</cp:coreProperties>
</file>