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CAD1-0005-4E10-9CE0-F9A28EAC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9C2E-BF4D-412B-8186-DE5B85A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8F76-F6F6-45EF-B8CF-A6461122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A6EC-97AD-42D8-BF77-9588CBD4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DDAF-C126-4CD9-B1BA-F7D3A8F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CDEF-A541-4CD5-8D38-43060E19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C697-E4EC-4964-AE9D-6FF71B8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14FE-CC83-491B-B002-B27D969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9D00-9EDF-4F58-AFB6-A4A6EF1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5C2-48CD-4B97-AE59-50D26B1E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2F2-A6AC-436E-9804-C22F31C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5942-1714-46D2-A1E3-0730B888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608-22B4-4B7C-8541-60B35C6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2FB-11B7-45AE-838E-74788A0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2364-623C-45E2-8ACC-FBBAAA4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7163-B44E-42D6-BE45-48565CD0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0C4-45F0-49AE-A6E8-0BFD6528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4D18-A8D4-4162-894F-5F8B8667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E180-39D7-435F-A228-3E1334B4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3B7A-3E56-46EC-AA64-B10C27C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9299-05D8-4D4F-9F02-AFD5D77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7C3F-4336-4483-9F7A-D9B98FD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5278-69EB-4E95-89FF-07E04DC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7ACF-C5B9-4D5F-A953-924EAF5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951-0850-40DD-86A8-1AC58538BE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3FE4-6B55-401C-B3EC-B429DBD5C5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91920" y="1268280"/>
            <a:ext cx="665172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ценарий</a:t>
            </a:r>
            <a:br>
              <a:rPr sz="24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здника «Всегда готов!»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священного Дню защитника Отечества</a:t>
            </a:r>
            <a:br>
              <a:rPr sz="2800"/>
            </a:br>
            <a:br>
              <a:rPr sz="3300"/>
            </a:br>
            <a:r>
              <a:rPr b="1" i="1" lang="ru-RU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19280" y="4941720"/>
            <a:ext cx="550836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: Бекетова А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Белояр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0280" y="861840"/>
            <a:ext cx="79534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 праздни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юношей допризывного возраста к службе в Российской Арм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я физической подготовки и воспитания морально-волев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здорового досуга как средство отвлечения подростков от дур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частию в военизированной эстафете допукаются юноши 16-17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 команды 10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яженность дистанции 300 м (5 этап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тафета проводится на открытом воздухе. Одновременно участвуют две команды по жреб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д праз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команде судьи участник надевает на себя бронежилет, каску, автомат (деревянный) и бежит к началу 2-го этапа, где передает автомат следующему участнику. Дистанция - 100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этап. Участник, получив автомат, бежит к началу 3 этапа, преодолевая по пути тоннель (гимнастический обруч,  к которому пришит мешок длинной 5 м), где передает автомат следующему участнику. Дистанция - 30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. Получив автомат, 2 участника берут гирю 16 кг, переносят ее на 30 м к началу 4 этапа, где передают автомат следующим участ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 праз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этап. Два участника стоят у носилок. Получив автомат и взяв носилки, бегут по дистанции до «раненого», кладут на носилки и переносят к началу 5 этапа, где передают автомат следующим участникам. Дистанция – 50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этап. Первый  участник, получив автомат, бежит 30 м до рубежа, где лежат 5 шаров от кеглей, а на расстоянии 10 м от него стоит второй участник, который должен ловить корзинкой эти шары. Не выходя за границу обруча, лежащего на земле. За каждый промах команде насчитывается 3 сек. шт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ду присуждают команде, которая показала лучш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7:35:01Z</dcterms:created>
  <dc:creator>User</dc:creator>
  <dc:description/>
  <dc:language>en-US</dc:language>
  <cp:lastModifiedBy>1п</cp:lastModifiedBy>
  <dcterms:modified xsi:type="dcterms:W3CDTF">2020-07-30T11:06:56Z</dcterms:modified>
  <cp:revision>4</cp:revision>
  <dc:subject/>
  <dc:title>      Сценарий праздника «Всегда готов!», посвященного Дню защитника Отечества   </dc:title>
</cp:coreProperties>
</file>