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gif" ContentType="image/gif"/>
  <Override PartName="/ppt/media/image26.gif" ContentType="image/gif"/>
  <Override PartName="/ppt/media/image20.gif" ContentType="image/gif"/>
  <Override PartName="/ppt/media/image21.gif" ContentType="image/gif"/>
  <Override PartName="/ppt/media/image10.jpeg" ContentType="image/jpeg"/>
  <Override PartName="/ppt/media/image19.gif" ContentType="image/gif"/>
  <Override PartName="/ppt/media/image17.gif" ContentType="image/gif"/>
  <Override PartName="/ppt/media/image16.gif" ContentType="image/gif"/>
  <Override PartName="/ppt/media/image15.jpeg" ContentType="image/jpeg"/>
  <Override PartName="/ppt/media/image29.gif" ContentType="image/gif"/>
  <Override PartName="/ppt/media/image14.gif" ContentType="image/gif"/>
  <Override PartName="/ppt/media/image22.jpeg" ContentType="image/jpeg"/>
  <Override PartName="/ppt/media/image1.jpeg" ContentType="image/jpeg"/>
  <Override PartName="/ppt/media/image9.gif" ContentType="image/gif"/>
  <Override PartName="/ppt/media/image30.jpeg" ContentType="image/jpeg"/>
  <Override PartName="/ppt/media/image33.gif" ContentType="image/gif"/>
  <Override PartName="/ppt/media/image18.jpeg" ContentType="image/jpeg"/>
  <Override PartName="/ppt/media/image8.gif" ContentType="image/gif"/>
  <Override PartName="/ppt/media/image34.jpeg" ContentType="image/jpeg"/>
  <Override PartName="/ppt/media/image37.jpeg" ContentType="image/jpeg"/>
  <Override PartName="/ppt/media/image39.jpeg" ContentType="image/jpeg"/>
  <Override PartName="/ppt/media/image40.jpeg" ContentType="image/jpeg"/>
  <Override PartName="/ppt/media/image31.gif" ContentType="image/gif"/>
  <Override PartName="/ppt/media/image13.gif" ContentType="image/gif"/>
  <Override PartName="/ppt/media/image42.jpeg" ContentType="image/jpeg"/>
  <Override PartName="/ppt/media/image11.gif" ContentType="image/gif"/>
  <Override PartName="/ppt/media/image43.gif" ContentType="image/gif"/>
  <Override PartName="/ppt/media/image7.gif" ContentType="image/gif"/>
  <Override PartName="/ppt/media/image6.gif" ContentType="image/gif"/>
  <Override PartName="/ppt/media/image36.gif" ContentType="image/gif"/>
  <Override PartName="/ppt/media/image38.jpeg" ContentType="image/jpeg"/>
  <Override PartName="/ppt/media/image35.gif" ContentType="image/gif"/>
  <Override PartName="/ppt/media/image5.gif" ContentType="image/gif"/>
  <Override PartName="/ppt/media/image12.jpeg" ContentType="image/jpeg"/>
  <Override PartName="/ppt/media/image41.gif" ContentType="image/gif"/>
  <Override PartName="/ppt/media/image4.png" ContentType="image/png"/>
  <Override PartName="/ppt/media/image32.jpeg" ContentType="image/jpeg"/>
  <Override PartName="/ppt/media/image24.gif" ContentType="image/gif"/>
  <Override PartName="/ppt/media/image3.png" ContentType="image/png"/>
  <Override PartName="/ppt/media/image23.gif" ContentType="image/gif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F34C-7CF3-4325-8B91-153E30D3D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5437-F76B-44E3-B219-58339311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FB68-F85A-4A61-B261-4394B0E8F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2F9C-7D3F-4D48-A0BA-34597B6A7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9498-3B30-4A5D-9869-5A13EFBE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0D05-E54C-4CAE-8F5F-6CD501C1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E6A2-3E88-434A-91AC-8BB8B0F0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6B2F-908B-44D0-99C6-610C9A32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759F-13EE-4533-B3BE-5AAB2AF1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4F8F-EB91-4F85-9525-EBB0A91E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1637-E902-4572-B626-19837734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8F5C-E874-4B7D-9638-E7C14FBA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3E20-6830-4FBE-989C-28651146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9C86-3706-4145-B9C4-2F644E79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446D-C21F-4590-B2E8-7C370059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5866-C935-4577-B1C6-C762B72BC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FB75-107D-4BA9-B4A6-D8CFCE1F2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1239-089F-4367-BA9C-8BBF8C06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4012-06CA-4406-B924-29F2900D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33A1-11F4-4E7D-B28B-F6B29E30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F46D-06FC-4686-81E3-D85D2AD8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5714-195C-4F90-8013-9F39B781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10AF-E245-4BD1-A37C-4DB565F1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279E-142C-4EB8-97A8-5A82E4E9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2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3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2DF9-F355-4DCA-85EB-55F7A95F5039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2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5" name="Picture 2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85E9-8CA1-406C-A117-3FA3E6026698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gif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gif"/><Relationship Id="rId3" Type="http://schemas.openxmlformats.org/officeDocument/2006/relationships/image" Target="../media/image6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1e5834"/>
                </a:solidFill>
                <a:latin typeface="Times New Roman"/>
              </a:rPr>
              <a:t>Правила поведения в природе</a:t>
            </a:r>
            <a:endParaRPr b="0" i="1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89" name="Picture 5" descr="flowers11"/>
          <p:cNvPicPr/>
          <p:nvPr/>
        </p:nvPicPr>
        <p:blipFill>
          <a:blip r:embed="rId1"/>
          <a:stretch/>
        </p:blipFill>
        <p:spPr>
          <a:xfrm>
            <a:off x="3924360" y="3789360"/>
            <a:ext cx="1968480" cy="2470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322029462"/>
          <p:cNvPicPr/>
          <p:nvPr/>
        </p:nvPicPr>
        <p:blipFill>
          <a:blip r:embed="rId2"/>
          <a:stretch/>
        </p:blipFill>
        <p:spPr>
          <a:xfrm>
            <a:off x="826920" y="260280"/>
            <a:ext cx="2016360" cy="1487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67977228"/>
          <p:cNvPicPr/>
          <p:nvPr/>
        </p:nvPicPr>
        <p:blipFill>
          <a:blip r:embed="rId3"/>
          <a:stretch/>
        </p:blipFill>
        <p:spPr>
          <a:xfrm>
            <a:off x="7688160" y="4437000"/>
            <a:ext cx="1201680" cy="1876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0002-009-Pravila-povedenija-v-lesu"/>
          <p:cNvPicPr/>
          <p:nvPr/>
        </p:nvPicPr>
        <p:blipFill>
          <a:blip r:embed="rId4"/>
          <a:stretch/>
        </p:blipFill>
        <p:spPr>
          <a:xfrm>
            <a:off x="971640" y="479736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b2292da5a15f"/>
          <p:cNvPicPr/>
          <p:nvPr/>
        </p:nvPicPr>
        <p:blipFill>
          <a:blip r:embed="rId5"/>
          <a:stretch/>
        </p:blipFill>
        <p:spPr>
          <a:xfrm>
            <a:off x="7093080" y="11592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02402"/>
                </a:solidFill>
                <a:latin typeface="Times New Roman"/>
              </a:rPr>
              <a:t>Не разжигайте костёр в лесу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3" name="Picture 7" descr="0011-029-Ne-razzhigaj-kostjor-v-lesu-bez-vzroslykh"/>
          <p:cNvPicPr/>
          <p:nvPr/>
        </p:nvPicPr>
        <p:blipFill>
          <a:blip r:embed="rId1"/>
          <a:stretch/>
        </p:blipFill>
        <p:spPr>
          <a:xfrm>
            <a:off x="1908000" y="1052640"/>
            <a:ext cx="5977080" cy="39909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71640" y="5084640"/>
            <a:ext cx="78436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С огнём в лесу развлекаться опасно – 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Представьте, что пламя легко разгорится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Закончиться может забава ужасно. 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Начнёт полыхать, разбегаться, искриться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В лесу очень сухо бывает порой,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Его потушить невозможно тогда…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Костёр обернётся серьёзной бедой!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Пожары лесные – большая беда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8" descr="паровоз"/>
          <p:cNvPicPr/>
          <p:nvPr/>
        </p:nvPicPr>
        <p:blipFill>
          <a:blip r:embed="rId2"/>
          <a:stretch/>
        </p:blipFill>
        <p:spPr>
          <a:xfrm>
            <a:off x="1116000" y="4149720"/>
            <a:ext cx="7508880" cy="925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02402"/>
                </a:solidFill>
                <a:latin typeface="Times New Roman"/>
              </a:rPr>
              <a:t>Не оставляйте мусор в лесу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7" name="Picture 7" descr="0012-030-Ne-ostavljaj-musor-v-lesu"/>
          <p:cNvPicPr/>
          <p:nvPr/>
        </p:nvPicPr>
        <p:blipFill>
          <a:blip r:embed="rId1"/>
          <a:stretch/>
        </p:blipFill>
        <p:spPr>
          <a:xfrm>
            <a:off x="2484360" y="1052640"/>
            <a:ext cx="5040360" cy="33606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2920" y="4365360"/>
            <a:ext cx="7772400" cy="18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Вы в поход пришли, ребята…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Целлофан, железки, склянки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Отдохнуть, конечно, надо: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Оставлять их здесь нельзя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Поиграть и порезвиться,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Не поленимся, друзья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 наесться, и напиться…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Мусор тут, в лесу, чужой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Но вокруг остались банки,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Заберём его с собой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9" descr="ag00007_"/>
          <p:cNvPicPr/>
          <p:nvPr/>
        </p:nvPicPr>
        <p:blipFill>
          <a:blip r:embed="rId2"/>
          <a:stretch/>
        </p:blipFill>
        <p:spPr>
          <a:xfrm>
            <a:off x="1042920" y="2852640"/>
            <a:ext cx="1384200" cy="1500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939730263"/>
          <p:cNvPicPr/>
          <p:nvPr/>
        </p:nvPicPr>
        <p:blipFill>
          <a:blip r:embed="rId3"/>
          <a:stretch/>
        </p:blipFill>
        <p:spPr>
          <a:xfrm>
            <a:off x="7236000" y="3068640"/>
            <a:ext cx="2206440" cy="1279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02402"/>
                </a:solidFill>
                <a:latin typeface="Times New Roman"/>
              </a:rPr>
              <a:t>Не бейте стекло в лесу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Picture 7" descr="0013-031-Ne-bejte-steklo-v-lesu"/>
          <p:cNvPicPr/>
          <p:nvPr/>
        </p:nvPicPr>
        <p:blipFill>
          <a:blip r:embed="rId1"/>
          <a:stretch/>
        </p:blipFill>
        <p:spPr>
          <a:xfrm>
            <a:off x="2268360" y="1125360"/>
            <a:ext cx="5400720" cy="35960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71280" y="4723920"/>
            <a:ext cx="78483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Нельзя стекло в лесу кидать,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А если вдруг на них свалиться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Нельзя бутылки разбивать;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В больнице можно очутиться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Осколки острые опасны –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 обитателям лесны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О них порежешься ужасно!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Стекляшки тоже не нужны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8" descr="Мики с флажком"/>
          <p:cNvPicPr/>
          <p:nvPr/>
        </p:nvPicPr>
        <p:blipFill>
          <a:blip r:embed="rId2"/>
          <a:stretch/>
        </p:blipFill>
        <p:spPr>
          <a:xfrm>
            <a:off x="971640" y="3068640"/>
            <a:ext cx="164628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476280"/>
            <a:ext cx="7772400" cy="4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02402"/>
                </a:solidFill>
                <a:latin typeface="Times New Roman"/>
              </a:rPr>
              <a:t>Не вырезайте надписи на</a:t>
            </a:r>
            <a:br>
              <a:rPr sz="4000"/>
            </a:br>
            <a:r>
              <a:rPr b="1" i="1" lang="ru-RU" sz="4000" spc="-1" strike="noStrike">
                <a:solidFill>
                  <a:srgbClr val="d02402"/>
                </a:solidFill>
                <a:latin typeface="Times New Roman"/>
              </a:rPr>
              <a:t>            деревьях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71640" y="1413000"/>
            <a:ext cx="41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тоят деревья – великан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х не жалеют хулига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 режут острыми нож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лова на дереве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«на память!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о так жестоко поступать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ельзя деревья обиж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ускай они в лесу расту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Добро и красоту несут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7" descr="0014-033-Ne-vyrezajte-nadpisi-na-derevjakh"/>
          <p:cNvPicPr/>
          <p:nvPr/>
        </p:nvPicPr>
        <p:blipFill>
          <a:blip r:embed="rId1"/>
          <a:stretch/>
        </p:blipFill>
        <p:spPr>
          <a:xfrm>
            <a:off x="5219640" y="692280"/>
            <a:ext cx="3427560" cy="5608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0002-009-Pravila-povedenija-v-lesu"/>
          <p:cNvPicPr/>
          <p:nvPr/>
        </p:nvPicPr>
        <p:blipFill>
          <a:blip r:embed="rId2"/>
          <a:stretch/>
        </p:blipFill>
        <p:spPr>
          <a:xfrm>
            <a:off x="900000" y="5029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7" descr="0016-036-Ne-portite-nesedobnye-griby"/>
          <p:cNvPicPr/>
          <p:nvPr/>
        </p:nvPicPr>
        <p:blipFill>
          <a:blip r:embed="rId1"/>
          <a:stretch/>
        </p:blipFill>
        <p:spPr>
          <a:xfrm>
            <a:off x="2411280" y="981000"/>
            <a:ext cx="5256360" cy="36464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8"/>
          <p:cNvSpPr/>
          <p:nvPr/>
        </p:nvSpPr>
        <p:spPr>
          <a:xfrm>
            <a:off x="971640" y="4581360"/>
            <a:ext cx="77724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В лесу грибов различных много… ты несъедобные не трогай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В корзинку их не собирай, но и ногами не сбивай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Нужны они лесным зверятам: лисичкам, ёжикам, зайчатам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х только люди не едят: в поганках, мухоморах – яд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Но для зверья лесного всё ж тот гриб полезен и хорош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10" descr="Мики с флажком"/>
          <p:cNvPicPr/>
          <p:nvPr/>
        </p:nvPicPr>
        <p:blipFill>
          <a:blip r:embed="rId2"/>
          <a:stretch/>
        </p:blipFill>
        <p:spPr>
          <a:xfrm>
            <a:off x="826920" y="3068640"/>
            <a:ext cx="1646280" cy="16002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02402"/>
                </a:solidFill>
                <a:latin typeface="Times New Roman"/>
              </a:rPr>
              <a:t>Не портите несъедобные грибы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7" descr="0015-035-Ne-vyryvajte-kustarniki-s-kornem"/>
          <p:cNvPicPr/>
          <p:nvPr/>
        </p:nvPicPr>
        <p:blipFill>
          <a:blip r:embed="rId1"/>
          <a:stretch/>
        </p:blipFill>
        <p:spPr>
          <a:xfrm>
            <a:off x="2124000" y="1052640"/>
            <a:ext cx="5688000" cy="37875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547640" y="4869000"/>
            <a:ext cx="6732720" cy="14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Раз ты собрался по грибы – с собою острый нож бери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м аккуратно гриб срезай – в земле грибницу оставля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А если встретил землянику, куст брусники иль черн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Нежно ягодки сорви, а куст – оставь, поберег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0" descr="01949564"/>
          <p:cNvPicPr/>
          <p:nvPr/>
        </p:nvPicPr>
        <p:blipFill>
          <a:blip r:embed="rId2"/>
          <a:stretch/>
        </p:blipFill>
        <p:spPr>
          <a:xfrm>
            <a:off x="900000" y="90792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1"/>
          <p:cNvSpPr/>
          <p:nvPr/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02402"/>
                </a:solidFill>
                <a:latin typeface="Times New Roman"/>
              </a:rPr>
              <a:t>Не вырывайте кустарники с корне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40360" y="404280"/>
            <a:ext cx="4752720" cy="7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02402"/>
                </a:solidFill>
                <a:latin typeface="Times New Roman"/>
              </a:rPr>
              <a:t>Не обижай змей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8" name="Picture 7" descr="0017-038-Ne-obizhaj-zmej"/>
          <p:cNvPicPr/>
          <p:nvPr/>
        </p:nvPicPr>
        <p:blipFill>
          <a:blip r:embed="rId1"/>
          <a:stretch/>
        </p:blipFill>
        <p:spPr>
          <a:xfrm>
            <a:off x="1042920" y="476280"/>
            <a:ext cx="3384720" cy="58435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0" y="1557360"/>
            <a:ext cx="43387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Ты, змею не обижа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, увидев, палку не хвата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е маши руками, не кричи –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росто отойди и помолчи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Хоть опасны змеи, но нужны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Чистоту беречь они должн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анитарам леса и вод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Ты не делай зла или беды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8" descr="56e9a916cb80"/>
          <p:cNvPicPr/>
          <p:nvPr/>
        </p:nvPicPr>
        <p:blipFill>
          <a:blip r:embed="rId2"/>
          <a:stretch/>
        </p:blipFill>
        <p:spPr>
          <a:xfrm>
            <a:off x="3492360" y="4869000"/>
            <a:ext cx="1438560" cy="153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322029462"/>
          <p:cNvPicPr/>
          <p:nvPr/>
        </p:nvPicPr>
        <p:blipFill>
          <a:blip r:embed="rId3"/>
          <a:stretch/>
        </p:blipFill>
        <p:spPr>
          <a:xfrm>
            <a:off x="7596360" y="981000"/>
            <a:ext cx="1295280" cy="955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0002-009-Pravila-povedenija-v-lesu"/>
          <p:cNvPicPr/>
          <p:nvPr/>
        </p:nvPicPr>
        <p:blipFill>
          <a:blip r:embed="rId4"/>
          <a:stretch/>
        </p:blipFill>
        <p:spPr>
          <a:xfrm>
            <a:off x="6948360" y="4869000"/>
            <a:ext cx="1657440" cy="1657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689004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02402"/>
                </a:solidFill>
                <a:latin typeface="Times New Roman"/>
              </a:rPr>
              <a:t>Не разоряйте птичьих гнезд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37209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Дети запомнить должн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 понять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Гнёзда у птиче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ельзя разорять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Если в трав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Увидали яйц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ли услышал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рики птенцов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е приближайтесь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е лезьте ту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 не тревожьт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и птиц, ни гнез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7" descr="0003-011-Ne-razorjajte-ptichi-gnjozda"/>
          <p:cNvPicPr/>
          <p:nvPr/>
        </p:nvPicPr>
        <p:blipFill>
          <a:blip r:embed="rId1"/>
          <a:stretch/>
        </p:blipFill>
        <p:spPr>
          <a:xfrm>
            <a:off x="5219640" y="981000"/>
            <a:ext cx="3210120" cy="5257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54018446"/>
          <p:cNvPicPr/>
          <p:nvPr/>
        </p:nvPicPr>
        <p:blipFill>
          <a:blip r:embed="rId2"/>
          <a:stretch/>
        </p:blipFill>
        <p:spPr>
          <a:xfrm>
            <a:off x="3419640" y="1628640"/>
            <a:ext cx="1604880" cy="1282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7640" y="333360"/>
            <a:ext cx="645804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02402"/>
                </a:solidFill>
                <a:latin typeface="Times New Roman"/>
              </a:rPr>
              <a:t>Не разоряйте муравейники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9" name="Picture 4" descr="5694"/>
          <p:cNvPicPr/>
          <p:nvPr/>
        </p:nvPicPr>
        <p:blipFill>
          <a:blip r:embed="rId1"/>
          <a:stretch/>
        </p:blipFill>
        <p:spPr>
          <a:xfrm>
            <a:off x="2268360" y="1125360"/>
            <a:ext cx="5185080" cy="3454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42920" y="4581000"/>
            <a:ext cx="7772400" cy="15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Муравьи – лесные санитары;                  Гонят разных короедов прочь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Так прозвали люди их недаром!             Только ты им, друг мой, не мешай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Чтобы лес красив был и здоров,             Муравейники не разоряй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Без личинок вредных и жуков,                Эти санитары так нужн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Муравьи на страже день и ночь:             Для лесов твоей родной стра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Мики с флажком"/>
          <p:cNvPicPr/>
          <p:nvPr/>
        </p:nvPicPr>
        <p:blipFill>
          <a:blip r:embed="rId2"/>
          <a:stretch/>
        </p:blipFill>
        <p:spPr>
          <a:xfrm>
            <a:off x="971640" y="3068640"/>
            <a:ext cx="164628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953124323"/>
          <p:cNvPicPr/>
          <p:nvPr/>
        </p:nvPicPr>
        <p:blipFill>
          <a:blip r:embed="rId3"/>
          <a:stretch/>
        </p:blipFill>
        <p:spPr>
          <a:xfrm>
            <a:off x="7451640" y="31417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02402"/>
                </a:solidFill>
                <a:latin typeface="Times New Roman"/>
              </a:rPr>
              <a:t>Не забирай из леса домой животных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Для ёжиков и белок лес 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Это дом родно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Они живут там смел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 летом и зимой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Не стоит их в гор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забирать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Поверь: они в невол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Не будут есть и спать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Находят пропитань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Своих детей растя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 уходить из лес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Нисколько не хотят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7" descr="0005-014-Ne-zabiraj-iz-lesa-domoj-zhivotnykh"/>
          <p:cNvPicPr/>
          <p:nvPr/>
        </p:nvPicPr>
        <p:blipFill>
          <a:blip r:embed="rId1"/>
          <a:stretch/>
        </p:blipFill>
        <p:spPr>
          <a:xfrm>
            <a:off x="3851280" y="1916280"/>
            <a:ext cx="4914720" cy="3671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946435823"/>
          <p:cNvPicPr/>
          <p:nvPr/>
        </p:nvPicPr>
        <p:blipFill>
          <a:blip r:embed="rId2"/>
          <a:stretch/>
        </p:blipFill>
        <p:spPr>
          <a:xfrm>
            <a:off x="1619280" y="5445000"/>
            <a:ext cx="1425600" cy="817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986"/>
          <p:cNvPicPr/>
          <p:nvPr/>
        </p:nvPicPr>
        <p:blipFill>
          <a:blip r:embed="rId3"/>
          <a:stretch/>
        </p:blipFill>
        <p:spPr>
          <a:xfrm>
            <a:off x="8028000" y="4869000"/>
            <a:ext cx="863640" cy="842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02402"/>
                </a:solidFill>
                <a:latin typeface="Times New Roman"/>
              </a:rPr>
              <a:t>Не обижай лесных насекомых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9" name="Picture 7" descr="0006-017-Ne-obizhaj-lesnykh-nasekomykh"/>
          <p:cNvPicPr/>
          <p:nvPr/>
        </p:nvPicPr>
        <p:blipFill>
          <a:blip r:embed="rId1"/>
          <a:stretch/>
        </p:blipFill>
        <p:spPr>
          <a:xfrm>
            <a:off x="1979640" y="1125360"/>
            <a:ext cx="5329080" cy="35053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920" y="4508640"/>
            <a:ext cx="7772400" cy="17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 лесу летают мотыльки, ползут козявки и жуки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рирода мать им жизнь дала. У них у всех свои дел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Ты их увидишь на пути – не обижай, а отойди 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Без насекомых лес, друг мой, и одинокий, и пустой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8" descr="стрекоза"/>
          <p:cNvPicPr/>
          <p:nvPr/>
        </p:nvPicPr>
        <p:blipFill>
          <a:blip r:embed="rId2"/>
          <a:stretch/>
        </p:blipFill>
        <p:spPr>
          <a:xfrm>
            <a:off x="7236000" y="1052640"/>
            <a:ext cx="1442880" cy="1231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183"/>
          <p:cNvPicPr/>
          <p:nvPr/>
        </p:nvPicPr>
        <p:blipFill>
          <a:blip r:embed="rId3"/>
          <a:stretch/>
        </p:blipFill>
        <p:spPr>
          <a:xfrm>
            <a:off x="7451640" y="3860640"/>
            <a:ext cx="1354320" cy="730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Photo 005"/>
          <p:cNvPicPr/>
          <p:nvPr/>
        </p:nvPicPr>
        <p:blipFill>
          <a:blip r:embed="rId4"/>
          <a:stretch/>
        </p:blipFill>
        <p:spPr>
          <a:xfrm>
            <a:off x="1042920" y="3789360"/>
            <a:ext cx="1143000" cy="78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02402"/>
                </a:solidFill>
                <a:latin typeface="Times New Roman"/>
              </a:rPr>
              <a:t>Не рвите полевые цветы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560" y="2133720"/>
            <a:ext cx="40100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Цветы украшают луга и лес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но это не только природы кра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В них пчёлы находят целительный дар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И бабочки пьют из них сладкий нектар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Не надо, друзья, их бессмысленно рвать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Не надо букеты из них  составлять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Завянут букеты…погибнут цветы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И больше не будет такой красоты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7" descr="0007-021-Ne-rvite-polevye-tsvety"/>
          <p:cNvPicPr/>
          <p:nvPr/>
        </p:nvPicPr>
        <p:blipFill>
          <a:blip r:embed="rId1"/>
          <a:stretch/>
        </p:blipFill>
        <p:spPr>
          <a:xfrm>
            <a:off x="5245200" y="981000"/>
            <a:ext cx="3537000" cy="5318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pchel09"/>
          <p:cNvPicPr/>
          <p:nvPr/>
        </p:nvPicPr>
        <p:blipFill>
          <a:blip r:embed="rId2"/>
          <a:stretch/>
        </p:blipFill>
        <p:spPr>
          <a:xfrm>
            <a:off x="4211640" y="436572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бабочка анимация"/>
          <p:cNvPicPr/>
          <p:nvPr/>
        </p:nvPicPr>
        <p:blipFill>
          <a:blip r:embed="rId3"/>
          <a:stretch/>
        </p:blipFill>
        <p:spPr>
          <a:xfrm rot="5400000">
            <a:off x="1237320" y="857880"/>
            <a:ext cx="1274760" cy="1231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02402"/>
                </a:solidFill>
                <a:latin typeface="Times New Roman"/>
              </a:rPr>
              <a:t>Не рвите редкие цветы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0" name="Picture 7" descr="0008-022-Ne-rvite-redkie-tsvety"/>
          <p:cNvPicPr/>
          <p:nvPr/>
        </p:nvPicPr>
        <p:blipFill>
          <a:blip r:embed="rId1"/>
          <a:stretch/>
        </p:blipFill>
        <p:spPr>
          <a:xfrm>
            <a:off x="2268360" y="1125360"/>
            <a:ext cx="5329440" cy="35481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02920" y="4797360"/>
            <a:ext cx="72010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Есть цветочки редкие,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Только рвать не надо их 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Белые и нежные: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С ними лес добрей, светл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Вам кивнут приветливо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Ведь теперь цветов таки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Ландыши, подснежники…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Очень мало на земле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2" descr="flowers_298"/>
          <p:cNvPicPr/>
          <p:nvPr/>
        </p:nvPicPr>
        <p:blipFill>
          <a:blip r:embed="rId2"/>
          <a:stretch/>
        </p:blipFill>
        <p:spPr>
          <a:xfrm>
            <a:off x="7667640" y="2781360"/>
            <a:ext cx="1095480" cy="1879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0007-019-Ne-rvite-polevye-tsvety"/>
          <p:cNvPicPr/>
          <p:nvPr/>
        </p:nvPicPr>
        <p:blipFill>
          <a:blip r:embed="rId3"/>
          <a:stretch/>
        </p:blipFill>
        <p:spPr>
          <a:xfrm>
            <a:off x="971640" y="3357720"/>
            <a:ext cx="1225440" cy="1225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02402"/>
                </a:solidFill>
                <a:latin typeface="Times New Roman"/>
              </a:rPr>
              <a:t>Не ловите бабочек и стрекоз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Бабочка цветна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Над тобой порхает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Стрекоза резвитс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Пляшет, веселится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Лету все так рады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Их ловить не надо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Пусть себе летают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Землю украшают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7" descr="0009-024-Ne-lovite-babochek-i-strekoz"/>
          <p:cNvPicPr/>
          <p:nvPr/>
        </p:nvPicPr>
        <p:blipFill>
          <a:blip r:embed="rId1"/>
          <a:stretch/>
        </p:blipFill>
        <p:spPr>
          <a:xfrm>
            <a:off x="5219640" y="1197000"/>
            <a:ext cx="3402000" cy="5105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butterfly_2004"/>
          <p:cNvPicPr/>
          <p:nvPr/>
        </p:nvPicPr>
        <p:blipFill>
          <a:blip r:embed="rId2"/>
          <a:stretch/>
        </p:blipFill>
        <p:spPr>
          <a:xfrm>
            <a:off x="4140360" y="1052640"/>
            <a:ext cx="1352520" cy="1074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02402"/>
                </a:solidFill>
                <a:latin typeface="Times New Roman"/>
              </a:rPr>
              <a:t>Не шумите в лесу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9" name="Picture 8" descr="0010-028-Ne-shumite-v-lesu"/>
          <p:cNvPicPr/>
          <p:nvPr/>
        </p:nvPicPr>
        <p:blipFill>
          <a:blip r:embed="rId1"/>
          <a:stretch/>
        </p:blipFill>
        <p:spPr>
          <a:xfrm>
            <a:off x="2268360" y="1197000"/>
            <a:ext cx="4751640" cy="31669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1640" y="4365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У леса музыка своя…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По ветке дятел застучал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Её послушайте друзья!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Как много звуков тут и там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Вот птичьи трели раздались,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В лесу не нужен шум и гам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Вот белка скачет вверх и вниз,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Нельзя шуметь, галдеть, крича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А вот кузнечик затрещал,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И громко музыку включать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9" descr="птицы-друзья"/>
          <p:cNvPicPr/>
          <p:nvPr/>
        </p:nvPicPr>
        <p:blipFill>
          <a:blip r:embed="rId2"/>
          <a:stretch/>
        </p:blipFill>
        <p:spPr>
          <a:xfrm>
            <a:off x="6732720" y="692280"/>
            <a:ext cx="1960560" cy="1549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30T21:49:56Z</dcterms:created>
  <dc:creator>USER</dc:creator>
  <dc:description/>
  <dc:language>en-US</dc:language>
  <cp:lastModifiedBy>Елена</cp:lastModifiedBy>
  <dcterms:modified xsi:type="dcterms:W3CDTF">2020-06-23T05:03:45Z</dcterms:modified>
  <cp:revision>11</cp:revision>
  <dc:subject/>
  <dc:title>Журна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171049</vt:lpwstr>
  </property>
</Properties>
</file>