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3FF6-7092-4DF6-82E4-67BFB110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2BAA-90C2-4692-BB47-28298246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A082-9D71-4A00-A4DD-CA99E388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D13D-A4DE-4654-A04E-6C5D3663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CBE57-5681-481C-B872-9B45A62A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71210-D82D-4B31-925B-5EF9B349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753AC-15C3-4AA5-8AF6-79C5C4DB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56EB4-6B54-4BD2-ADE1-45119F01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36F64-151B-4E68-9606-A8D24862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0AA2D-E5C1-463A-84D6-A194AAA6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3C105-B690-4330-B012-5B099AC0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6783-4430-414C-A91E-B763AD70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601DE-D8CC-4E31-BD67-A55B0045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76519-56D8-46F4-AA57-235066C1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CA132-2905-4E38-BAC5-43D5F2D2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04077-EE4A-4CFF-9BC8-AEB59609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8BB71-7C7C-47FA-8AE5-8ECDE9BC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CD34-3DD2-47EE-97EE-6A986A6F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EE8A-369C-47E5-9DB5-A817B91B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5648-21C8-4376-A4BB-11A72D59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104E-1E31-4063-BC87-07B91297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932B-910D-441F-91CF-FB53CEE0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AFCA-DAB3-4956-845A-A1824033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E149-E94F-4B93-858F-D74E2211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715C-6DF4-4B5A-AF93-B3DC6B69A9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8596-E3CC-4C0F-9A38-1AA42D4318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55280" y="475920"/>
            <a:ext cx="7016760" cy="583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476280"/>
            <a:ext cx="7737480" cy="576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rial"/>
              </a:rPr>
              <a:t>Артикл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The articles)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(An)-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еопределённый артик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Indefinite articl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-определённый артик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The Definite articl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еопределённый артикл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употребляется только с исчисляемыми существительными в единственном чис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irl. There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ook on the 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существительное начинается с гласной буквы, неопределённый артикль имеет форму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gineer. This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еопределённый артикл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употребляется только с существительными в единственном числе, относящимся к группе людей, животных или предме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og is a domestic animal. (all dog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iger is a wild animal. (all tig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ет употребляться в значении «один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goes to the theatre three tim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n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ённый артикль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употребляется с исчисляемыми и неисчисляемыми существительными, в единственном и множественном числ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oy in the red T-shirt is my cous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car outside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r is Bill’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ённый артикль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не употребляется с исчисляемыми  существительными во множественном числе, если они относятся к групп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gs are domestic animals. 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dog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is used befor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uns which are unique (the moon, the sun, the sk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s of theatres (the Glob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s of cinemas (the Ode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s of hotels (the Ritz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s of restaurants (the Terac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s of museums (the British muse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s of newspapers and magaz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he Daily Telegrap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s of rivers, seas and oceans (the Tham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s of mountains (the Al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s of groups of islands (the Hawa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s of deserts (the Gobi dese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s of musical instruments (to play the guita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s of families (the Smith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uns: the president, the prince of Wales,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Queen Elizabeth II.  He became president of the count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ectives denoting categories of people used as plural nouns (the ri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ical events (the Second World Wa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 ARTICLES is used befo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proper nouns (Ann, Nic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 of sports, games, activities, days, month, holidays, colours, drinks, meals and languages (I love tennis. Can you speak French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 of countries (France, Gree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 of cities (Manchester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 of streets (Bond street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 of parks (Central Park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 of individual mountains (mount Evere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s of islands (Corsica)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UT N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oups of islands (the British Is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ents (Afric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kes (Lake Baikal,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Baik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-word names (Glasgow Airpo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s, restaurants, shops, banks, hotels which have the name of their founder (Jim’s Café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d, church, college, court, hospital, prison, school, university (He goes to church every Sunday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We have to be at the church at 9:0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1:57:41Z</dcterms:created>
  <dc:creator>User</dc:creator>
  <dc:description/>
  <dc:language>en-US</dc:language>
  <cp:lastModifiedBy>User</cp:lastModifiedBy>
  <dcterms:modified xsi:type="dcterms:W3CDTF">2012-01-21T09:50:38Z</dcterms:modified>
  <cp:revision>19</cp:revision>
  <dc:subject/>
  <dc:title>Слайд 1</dc:title>
</cp:coreProperties>
</file>