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1B4-D28D-48B7-BA19-822C8AC0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2E2C-FED2-4A87-A944-89E27765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7D8-89A9-4A46-92A3-9A92432E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E94-3329-46F1-8B35-C99E42CE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10BF7-039C-4708-9602-DD496142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99E41-E97E-407F-A2A9-D303D9F6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E055B-667A-4118-AEC5-63BF6A18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C6C3F-C814-4863-9360-BC99C1F3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90651-8186-40B8-9D6A-CDAC9A9C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7D47B-8379-4CD5-9E3A-8B79ACA5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10490-1FDC-4089-B835-31043C16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2F6-357F-4AF2-B08C-04721906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531FF-9E03-4231-B9DE-A82C5AB6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54C6E-DCEF-4B17-AE06-2915CDAF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E5D46-AEED-41A6-9439-8B64CA44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0065E-3F72-4F07-A2B1-0D5BC5FC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58A79-BC27-4CCB-AE6B-C2C213EF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F0C-D85D-437F-9617-1AB6EFC8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7EC-8EC1-4310-8B77-72B43A26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BC8-E4BE-426C-B924-0E5C05DD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F2F-A230-44F8-B67C-826E0BE4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A47-4EB6-45A0-8151-CA724F3A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E67-C96F-45FE-831A-6E8195D4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BEF-6817-4B53-ADC0-42AA84CC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A06C-7896-4055-8116-F60197821B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2E26-3FF9-443C-8E92-E7DBDC1FD2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55280" y="475920"/>
            <a:ext cx="7016760" cy="583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476280"/>
            <a:ext cx="7737480" cy="576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Артикл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The articles)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(An)-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еопределённый артик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Indefinite articl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определённый артик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The Definite articl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определённый артикл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потребляется только с исчисляемыми существительными в единственном чис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irl. There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ok on the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существительное начинается с гласной буквы, неопределённый артикль имеет форму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gineer. This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определённый артикл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потребляется только с существительными в единственном числе, относящимся к группе людей, животных или предме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g is a domestic animal. (all dog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iger is a wild animal. (all tig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употребляться в значении «оди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goes to the theatre three tim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ённый артикл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потребляется с исчисляемыми и неисчисляемыми существительными, в единственном и множественном чис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y in the red T-shirt is my cous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car outside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r is Bill’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ённый артикл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е употребляется с исчисляемыми  существительными во множественном числе, если они относятся к груп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gs are domestic animals.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dog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is used befo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uns which are unique (the moon, the sun, the sk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theatres (the Glob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cinemas (the Ode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hotels (the Rit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restaurants (the Terac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museums (the British muse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newspapers and magaz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 Daily Telegrap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rivers, seas and oceans (the Tha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mountains (the Al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groups of islands (the Hawa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deserts (the Gobi dese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musical instruments (to play the guita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families (the Smith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uns: the president, the prince of Wales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ueen Elizabeth II.  He became president of the coun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es denoting categories of people used as plural nouns (the ri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cal events (the Second World Wa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 ARTICLES is used befo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proper nouns (Ann, Nic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 of sports, games, activities, days, month, holidays, colours, drinks, meals and languages (I love tennis. Can you speak French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 of countries (France, Gree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 of cities (Mancheste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 of streets (Bond stree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 of parks (Central Par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 of individual mountains (mount Ever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islands (Corsica)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T 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ps of islands (the British Is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ents (Afri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kes (Lake Baikal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Baik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-word names (Glasgow Air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s, restaurants, shops, banks, hotels which have the name of their founder (Jim’s Caf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d, church, college, court, hospital, prison, school, university (He goes to church every Sunday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We have to be at the church at 9: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1:57:41Z</dcterms:created>
  <dc:creator>User</dc:creator>
  <dc:description/>
  <dc:language>en-US</dc:language>
  <cp:lastModifiedBy>User</cp:lastModifiedBy>
  <dcterms:modified xsi:type="dcterms:W3CDTF">2012-01-21T09:50:38Z</dcterms:modified>
  <cp:revision>19</cp:revision>
  <dc:subject/>
  <dc:title>Слайд 1</dc:title>
</cp:coreProperties>
</file>