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906-0014-4B6D-90C4-F48CD15F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A54-9D6A-47FA-824B-AC572D8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77911-ED9A-44CA-8F30-6C1F28A4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FF18C-3190-42E4-9C93-7E8E3BF6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24692-5625-451A-B080-9765B0BF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2D5F3-FC89-4963-AD9A-B22A406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1824A-3524-4781-943D-A261BB9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D8F18-0CE2-4B0D-878A-0EBA8C4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F0321-3983-4C60-A637-C6356BBB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1FD6-CAB2-46BB-B441-5111AF0E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91F27-B916-490F-B76D-D1FC3CFA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8B244-A2CC-498A-94A3-261CD6AF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63A-85DD-4547-9966-9540C814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0C014-10B9-4B3B-B7D1-19EECDE6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A57B1-4947-4328-968D-D0086BFD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A0EBE-F951-4EEE-BCFD-B2DCA3E8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D6683-7B86-47B4-B6C6-692FFE17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EC136-47FF-4657-B457-C3A89D7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21519-DE84-473F-89F9-4F2C72E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30AF6-CC31-476D-84AF-D7165474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4C562-88FD-4E71-9726-2FF70E97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06D56-B1B4-4B22-B747-84DA445B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E24A8-56B1-4956-8ACB-AF49B566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750-2DE5-44D0-8D51-1C9B06CB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64856-BC59-41A0-BE31-85E5DCE1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55A87-A0D0-4B68-BD4C-6F2C3F9C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680A6-E243-4D34-8CEC-71012E6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A425B-4CDB-4E19-9141-2A0C82E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B5B51-623D-412C-8A28-02D22DDD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827D4-2544-458D-9D66-F020AC82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2BFC6-CABD-4840-9898-A0C2D66D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5B5A0-4DF3-4174-B141-B27F4FE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DA2F6-F264-4D52-BC3F-37FDBB5A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B8C75-047E-47F1-9B94-6526BF5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41F3-8604-43F3-983B-D0978650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24909-19F4-4209-93B3-E4BB8D4F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80A21-124E-4515-80C3-E3EDAAE9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DC5B4-F645-4ACB-9439-C4FBBD7D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51E1-5AE5-4A96-9AD9-3DD7F311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5FA4-21AB-4AF5-BF11-027E687C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4003-80CF-4712-B98E-4126D4D5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D722-FF61-465C-87D8-84C4E2F9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36AF-19CD-43E6-9009-32F7BDC5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73DE-FD35-42C7-B18D-680F5B21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BBB-0217-4B97-A793-DC8386B8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9F43-3A01-4BFC-A3D2-E5289D1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D640-0A3F-4D1B-9BD6-4ABF12C7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434C-5803-434A-B451-D963E018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E980-9A55-4299-A18C-614840D4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3C74-FD2D-439C-BBC0-FCF29687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4A7E-3059-4304-A2B4-A57F58DE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72D82-A66C-4C6F-8DAD-A2F08DE9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94A0-3854-4620-947B-5CA0024F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0ED9-5650-41E5-B467-6BD1CBE9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427F-9A0F-4A52-B397-5ED86A26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51E-80D2-406F-B518-FCFCE76B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3F76A-D99D-41F1-8923-1DB3C1E6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2ADA-1EE6-47E2-8BC2-D91E8BD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203C7-608E-4703-B2E3-A5A41425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3290-4CAE-4B43-ADA4-ACC491A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3494-BFC9-49EC-A168-828132D0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4B50-FA3B-43E6-92D0-6E79B736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34A4-2501-4EAE-AEF3-4F9BAA89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B504-7915-409F-B5E2-98914090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1FDB-25F0-4A8E-AC26-24FFD420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5AF1-82FB-4CC8-9E04-D42B2869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203-DE49-44AB-8EFB-E7187A0E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D1ED-5E0B-4A26-8350-F2461674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D78C-CA2E-49AD-8A73-FF1BD582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3C622-6A9B-487C-9F57-76F037B6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83D2-E047-4197-97A9-409B583C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6F8F-B2B2-46D6-9CE4-EA8A93CD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A35E-8AED-4268-85A8-73987B89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9D6D-5FCA-474D-9722-A71A25E5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D6C9-FF79-4A99-B69E-3F057E98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76FA-6A67-408B-B749-8185161A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BE6B3-8F78-452B-8965-FF6405A9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9D0-DBCE-4AB8-8A57-09599CC0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4B08-BBFC-4D50-A122-F925B731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D25E3-0B29-4D4E-8FF1-5929ECA7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32222-78D3-4D60-9F6C-2838B9D0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25652-6462-48E8-9B75-AC7D2E6E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6161C-FEFC-45E8-848A-5FA6B23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B346E-162E-4991-B8B0-9C75CDC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020A-7C99-449F-95D8-CBB069DA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61EB6-3230-4957-A852-98E7DCC8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BCFB-4267-420A-8965-3F3D4496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375EF-F8D8-4DDB-9000-B5E732B6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298-B909-45E2-8C50-991E183B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A7435-129D-4907-96D6-DADCF12B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E61C1-A486-4E65-88C0-38DC5424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AAB70-58B6-47EA-81AC-2CEE14C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B8DF7-0DC9-4107-92F3-64CDC53B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9A44D-76C6-4282-B3AC-A427D614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D567-8572-45F2-854F-E73F7800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ED28C-B150-4A6F-8DD4-83AC6732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18168-457A-4081-A218-1FCA2D49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ADC52-806C-4D26-81FF-D07165B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94D7E-D3EF-45F7-BB81-B935D789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DA4-FD5A-47BA-9447-9558715C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056BD-BA48-4D80-84C1-2E459E1D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C5A2F-5516-4664-9CBF-F128D435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1778-DE91-437F-90EE-E42E4DBC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741A-FABA-4A0A-8BD4-9A3980E5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887D-5083-4035-8E65-C717B177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8B665-8BA0-47F5-B809-59EFE350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003AC-5293-4C7B-BD6C-DB9B27A9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C047D-B590-4576-B98D-FC5EF54A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3B7B7-A98C-4FDE-AFF3-31761AAA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C85E2-F638-4997-AB01-26909C5C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D4C-6997-470C-BB4C-2C34992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D5AA7-EB7D-47C7-9E6C-7AC9193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795A8-39E5-491B-9CAE-E07FEBE6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0055-67EF-4037-8063-C945F656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3A870-E819-41F0-8DBD-89C411F1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11B67-95A4-4F07-A59C-0FCCCF80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EFA9-A7B4-4548-BAAF-4E30D728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2FF45-9753-4C35-AF35-6DE6DA7D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EBD4F-0E48-4BE3-BCA0-D87DCF51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08039-4FEC-4967-A2A1-6E97697F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A0E35-4CEF-4B59-A144-AE9CF09D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903-BBA3-44FF-9769-3D40C10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57BA3-720B-477E-B6ED-2EEF8983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0CB77-71CB-4BA8-860E-EF90BF54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EE523-951A-4CEF-BEAB-EC674D11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CD699-E4E0-442A-842B-E775164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DEFE8-E123-4496-B9F9-882DD73D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5C4B-57AF-45F9-8EC5-422851E0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277E4-2F44-49A3-AFBD-989A4076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F21B0-6F1B-42F1-8C76-F342C756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E1550-4D25-4527-8BF6-2832670B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4C9E2-53B3-4A04-BF8D-C285E541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06468C-2DD7-4A3B-A480-CAB5D91E5C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6B9E0E-A749-42AD-BC77-109100C5975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FD7AC0-CE8C-4515-8919-76D149C652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881D02-86E8-4DEE-BBD8-E39863E0E37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2CA2F6-3E7C-4024-BDDB-ADDAED9C78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526426-A052-4D93-88AB-B796F93F311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81D2E5-4727-4F0C-A9DE-F5BF821D48B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44413D-4F25-427D-B6FA-BFDC5A1D6D1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240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243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096BCD-EE34-45B1-A79B-798F8E2FA5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81C6B6-4B6D-4141-AA27-012F8BCDA36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5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1155C0-022B-4EA8-9617-E4561789D2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5220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Проектная работа на тему: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Verdana"/>
              </a:rPr>
              <a:t>«Лицей в жизни А.С.Пушкина»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464000" y="4149720"/>
            <a:ext cx="4680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Выполнили ученики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6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«А» кла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Учитель: Титова С.Н.</a:t>
            </a: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215892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споминания в Царском селе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Воспоминаньями смущенный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         Исполнен сладкою тоской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Сады прекрасные, под сумрак ваш священный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         Вхожу с поникшею главой.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Так отрок библии, безумный расточитель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До капли истощив раскаянья фиал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Увидев наконец родимую обитель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         Главой поник и зарыдал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648320" y="980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984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Воображаю день счастливый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         Когда средь вас возник лицей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И слышу наших игр я снова шум игривый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         И вижу вновь семью друзей.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Вновь нежным отроком, то пылким, то ленивым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Мечтанья смутные в груди моей тая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Скитаясь по лугам, по рощам молчаливым,</a:t>
            </a:r>
            <a:br>
              <a:rPr sz="2200"/>
            </a:b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         Поэтом забываюсь 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356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 Unicode MS"/>
              </a:rPr>
              <a:t>Возникновение </a:t>
            </a:r>
            <a:r>
              <a:rPr b="1" lang="ru-RU" sz="3200" spc="-1" strike="noStrike">
                <a:solidFill>
                  <a:srgbClr val="ff8d3e"/>
                </a:solidFill>
                <a:latin typeface="Academy Engraved LET"/>
              </a:rPr>
              <a:t>Царскосельского Лицея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Создавался по проекту М.М.Сперанского. По  его замыслу в  образцовом учебном заведении должны были обучаться отпрыски царской фамилии и дети самых знатных аристократов. Студенты - потомки древних, но захудалых семей: родители рады были отдать детей на казенное попечение, где бы их прилично образовывали и воспитыва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052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b587c"/>
                </a:solidFill>
                <a:latin typeface="Verdana"/>
              </a:rPr>
              <a:t>12 августа Пушкин выдержал вступительный экзамен и 19 октября присутствовал на торжественном открытии лицея. С этого дня началась его лицейская жизнь. На праздновании присутствовала царская семь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b587c"/>
                </a:solidFill>
                <a:latin typeface="Verdana"/>
              </a:rPr>
              <a:t>Но самым памятным для Пушкина событием торжественного дня 19 октября 1811 года была вступительная речь Куницына. В своем последнем стихотворении, посвященном дате 19 октября, «Была пора….» ( 1836 г), Пушкин скажет о речи Куницына - скажет, потому что всегда о ней помнил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Была пора….» ( 1836 г)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1557000"/>
            <a:ext cx="421164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Вы помните, когда возник Лиц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И царь для нас открыл чертог Царицын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И мы пришли. И встретил нас Куницы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риветствием меж царственных гостей…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427280" y="1196640"/>
            <a:ext cx="4259160" cy="511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Свою речь Куницын закончил словами, обращенными к лицеистам: «Вы ли захотите смешаться с толпой людей обыкновенных, пресмыкающихся в неизвестности и каждый день поглощаемых волнами забвения. Нет! Любовь к славе и отечеству должны быть вашими руководителями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Друзья! Прекрасен наш союз…»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b587c"/>
                </a:solidFill>
                <a:latin typeface="Verdana"/>
              </a:rPr>
              <a:t>Отношения Пушкина с товарищами складывались непросто. Характер у него был неровный, настроение часто менялось. Лицеисты первые почувствовали его исключительнос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b587c"/>
                </a:solidFill>
                <a:latin typeface="Verdana"/>
              </a:rPr>
              <a:t>Настоящих друзей у Пушкина в Лицее было трое: А. А. Дельвиг, И. И. Пущин, В. Кюхельбекер. Это была истинная дружба, вечно юная и вечно сильная, дружба на всю жизнь, оставившая глубокий след в душе Пушкин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учшим его другом был Дельвиг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Товарищ юности живой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Товарищ юности унылой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Товарищ песен молодых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Пиров и чистых помышлен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Из всех лицеистов Дельвиг один до конца и без оговорок любил Пушкина и, конечно, больше всех понимал его значительность, понимал силу таинственных голосов, т.к. сам был поэт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859280" y="1557360"/>
            <a:ext cx="324180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Особенно дружен Пушкин был с И. Пущиным</a:t>
            </a: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Легкая перегородка отделяла комнаты друзей в лицейском общежитии – Пушкин жил в комнате № 14, Пущин – в комнате № 13. Это соседство еще больше способствовало сближению мальчиков. Их объединяла, прежде всего, общность интересов и взглядов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1280" indent="-3333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5" name="Picture 4" descr=""/>
          <p:cNvPicPr/>
          <p:nvPr/>
        </p:nvPicPr>
        <p:blipFill>
          <a:blip r:embed="rId1"/>
          <a:srcRect l="0" t="13118" r="4957" b="0"/>
          <a:stretch/>
        </p:blipFill>
        <p:spPr>
          <a:xfrm>
            <a:off x="5003640" y="1654200"/>
            <a:ext cx="324036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Вильгельм Кюхельбекер (1797-1846)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587c"/>
                </a:solidFill>
                <a:latin typeface="Verdana"/>
              </a:rPr>
              <a:t>Совсем иные, более сложные, то мальчишеские драчливые, то сердечные и задушевные отношения сложились у Пушкина с другим лицейским поэтом, с чудаком Кюхлей, как прозвали  Вильгельма Кюхельбекер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1280" indent="-3333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rcRect l="0" t="7673" r="8851" b="0"/>
          <a:stretch/>
        </p:blipFill>
        <p:spPr>
          <a:xfrm>
            <a:off x="4788000" y="1773360"/>
            <a:ext cx="3456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Матюшкин Фёдор Фёдорович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годы жизни 10 июля 1799 – 16 сентября 1872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адмирал, полярный исследователь, сенатор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6360" y="1665360"/>
            <a:ext cx="40132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b587c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1b587c"/>
                </a:solidFill>
                <a:latin typeface="Verdana"/>
              </a:rPr>
              <a:t>Ближайший друг Пушкина, как по лицею, так и после окончания его, единственный из первенцев-лицеистов ставший мореплавателем: его имя вошло в историю отечественного фло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670280" y="1600200"/>
            <a:ext cx="40132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По окончании лицея Матюшкин отправился с мореплавателем капитаном В. М. Головиным в кругосветное путешествие. Пушкин дал ему «наставление, как вести журнал путешествия», и в Михайловской ссылке в дорогой для них день основания лицея, посвятил товарищу проникновенные строк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58360" y="144360"/>
            <a:ext cx="8224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атюшкин Ф.Ф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68360" y="1125360"/>
            <a:ext cx="4013280" cy="4524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Счастливый путь!.. С лицейского поро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Ты на корабль перешагнул шут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И с той поры в морях твоя дорог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О, волн и бурь любимое дитя! («19 октября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754520" y="1379160"/>
            <a:ext cx="4013280" cy="47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4754520" y="1379520"/>
            <a:ext cx="4246560" cy="44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ОДЕРЖА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907560"/>
            <a:ext cx="8229600" cy="5380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0120" indent="-6001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1" lang="ru-RU" sz="2800" spc="-1" strike="noStrike">
                <a:solidFill>
                  <a:srgbClr val="1b587c"/>
                </a:solidFill>
                <a:latin typeface="Verdana"/>
              </a:rPr>
              <a:t>Оглавл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Verdana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Verdana"/>
              </a:rPr>
              <a:t>Основная часть</a:t>
            </a: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cademy Engraved LET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Academy Engraved LET"/>
              </a:rPr>
              <a:t>Возникновение лице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cademy Engraved LET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Academy Engraved LET"/>
              </a:rPr>
              <a:t>Лицеис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cademy Engraved LET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Academy Engraved LET"/>
              </a:rPr>
              <a:t>«Являться муза стала мне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cademy Engraved LET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Academy Engraved LET"/>
              </a:rPr>
              <a:t>Благословление Г.Р.Держав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cademy Engraved LET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Academy Engraved LET"/>
              </a:rPr>
              <a:t>Царскосельскийй лицей и МКОУ «СОШ ст.Евсино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Academy Engraved LET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Academy Engraved LET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0120" indent="-60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«Являться Муза стала мн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лицее Пушкин почувствовал себя Поэтом. В 1830г. он писал: «… Начал я писать с 13-летнего возраста и печатать с того же времени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b587c"/>
                </a:solidFill>
                <a:latin typeface="Verdana"/>
              </a:rPr>
              <a:t>В те дни – во мгле дубровных с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b587c"/>
                </a:solidFill>
                <a:latin typeface="Verdana"/>
              </a:rPr>
              <a:t>Близ вод, текущих в тишине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b587c"/>
                </a:solidFill>
                <a:latin typeface="Verdana"/>
              </a:rPr>
              <a:t>В углах Лицейских переходов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b587c"/>
                </a:solidFill>
                <a:latin typeface="Verdana"/>
              </a:rPr>
              <a:t>Являться Муза стала м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На первом курсе, в 1813 – 1814 годах, Пушкин сочинил около 30 стихов, среди них – послания поэту Батюшкову и лицеисту Ломоносову, эпиграммы на Кюхельбекер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Послание «К Лицинию» относится к 1815г. Год этот, конечно, был памятен Пушкину. С него начинается литературная известность и слава, до этого ограниченные тесным царскосельским кружком. В этом году под стихами появилось его полное имя. О нем заговорили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Страсть к литературному творчеству пробудилась в лицеистах рано и охватила наиболее даровитую группу юношей. Издавали лицейские журналы воспитанники Корсаков, Дельвиг, Кюхельбеке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Корсаков Николай Александрович (</a:t>
            </a:r>
            <a:r>
              <a:rPr b="1" i="1" lang="ru-RU" sz="2500" spc="-1" strike="noStrike">
                <a:solidFill>
                  <a:srgbClr val="ffffff"/>
                </a:solidFill>
                <a:latin typeface="Verdana"/>
              </a:rPr>
              <a:t>1800 – 1820)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05264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lnSpc>
                <a:spcPct val="7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b587c"/>
                </a:solidFill>
                <a:latin typeface="Verdana"/>
              </a:rPr>
              <a:t>Принят в Лицей в возрасте 11 лет. В 1812 году первым стал выпускать литературный рукописный журнал «Неопытное перо»;  в этом журнале было помещено стихотворение Пушкина «Роза».  Закончил Лицей третьим учеником  с правом на серебряную медал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7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b587c"/>
                </a:solidFill>
                <a:latin typeface="Verdana"/>
              </a:rPr>
              <a:t>   </a:t>
            </a:r>
            <a:r>
              <a:rPr b="1" lang="ru-RU" sz="1500" spc="-1" strike="noStrike">
                <a:solidFill>
                  <a:srgbClr val="1b587c"/>
                </a:solidFill>
                <a:latin typeface="Verdana"/>
              </a:rPr>
              <a:t>После окончания Лицея стал сотрудником Иностранной коллегии, был прикомандирован к русской миссии в Риме. Умер во Флоренции от чахотки в возрасте 20 лет. Директор Лицея, впоследствии рассказывал: «…За час до смерти он сочинил следующую надпись для своего памятника, и когда ему сказали, что во Флоренции не сумеют вырезать русские буквы, он сам начертал ее крупными буквами и велел скопировать на камень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7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1b587c"/>
                </a:solidFill>
                <a:latin typeface="Verdana"/>
              </a:rPr>
              <a:t>«Прохожий, поспеши к стране родной своей!</a:t>
            </a:r>
            <a:br>
              <a:rPr sz="1500"/>
            </a:br>
            <a:r>
              <a:rPr b="1" i="1" lang="ru-RU" sz="1500" spc="-1" strike="noStrike">
                <a:solidFill>
                  <a:srgbClr val="1b587c"/>
                </a:solidFill>
                <a:latin typeface="Verdana"/>
              </a:rPr>
              <a:t>Ах, грустно умереть далёко от друзей!»</a:t>
            </a:r>
            <a:r>
              <a:rPr b="1" lang="ru-RU" sz="1500" spc="-1" strike="noStrike">
                <a:solidFill>
                  <a:srgbClr val="1b587c"/>
                </a:solidFill>
                <a:latin typeface="Verdana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744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Academy Engraved LET"/>
              </a:rPr>
              <a:t>Горчаков Александр Михайлович (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1797 – 1882)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68280"/>
            <a:ext cx="4038480" cy="540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b587c"/>
                </a:solidFill>
                <a:latin typeface="Verdana"/>
              </a:rPr>
              <a:t>«</a:t>
            </a:r>
            <a:r>
              <a:rPr b="1" lang="ru-RU" sz="1700" spc="-1" strike="noStrike">
                <a:solidFill>
                  <a:srgbClr val="1b587c"/>
                </a:solidFill>
                <a:latin typeface="Verdana"/>
              </a:rPr>
              <a:t>Этот человек учился с утра до вечера, чтобы быть первым учеником, и, кажется, достиг своего желания», - писал о нём лицеист Илличевский. Окончив лицей с золотой медалью и чином титулярного советника, Горчаков определился в коллегию Иностранных дел. Талантливый дипломат, он четверть века возглавлял министерство и получил высший в России чин государственного канцлера. За заслуги перед Отечеством, он был произведен в «светлейшие» князья. Горчаков умер последним из двадцати девяти лицеистов первого выпуска.     В 1882 году 85-летний старец  А.М.Горчаков последним и последний раз в своей жизни один отметил День Лице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28461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26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.С.Пушкин (1799 – 1837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646520" y="1600200"/>
            <a:ext cx="4037040" cy="484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8542"/>
                </a:solidFill>
                <a:latin typeface="Verdana"/>
              </a:rPr>
              <a:t>Пушкин в возрасте 12 лет выдерживает вступительные экзамены и в числе 30 мальчиков зачисляется в Царскосельский Лиц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8542"/>
                </a:solidFill>
                <a:latin typeface="Verdana"/>
              </a:rPr>
              <a:t>Все преподаватели с пониманием относились к таланту юного поэта.  Пушкин навсегда в своем сердце сохранил благодарность своим преподавателя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66364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17080"/>
            <a:ext cx="822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«Где б ни был я …Святому братству верен я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1483920"/>
            <a:ext cx="8226360" cy="5189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8542"/>
                </a:solidFill>
                <a:latin typeface="Verdana"/>
              </a:rPr>
              <a:t>В январе 1815 года предстоял в Лицее переходной экзамен. Учитель словесности Галич предложил написать стихи и прочесть их на экзамене. Пушкин читал свои "Воспоминания в Царском Селе«. Среди гостей - Гаврила Романович Державин. Поэт, да не простой, а придворный, - рангом не ниже министра. С первых строк Пушкина он встрепенулся и даже привстал. От восторга он помолодел лет на пятнадцать. Хотел обнять Пушкина, но тот куда-то исчез. Его искали, но не наш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8542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4e8542"/>
                </a:solidFill>
                <a:latin typeface="Verdana"/>
              </a:rPr>
              <a:t>Министр Разумовский пожелал Александру прославиться прозой, а не стихами. "Оставьте его для поэзии! - Это будет второй Державин. Я ему лиру передаю. Теперь и умереть можно", - с жаром возразил седой класси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374400"/>
            <a:ext cx="822636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А.С.Пушкин читает «Воспоминания в Царском селе» перед Г.Р.Державиным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91344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Сравнение Царскосельского лицея и МКОУ «СОШ ст.Евсино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4037040" cy="4527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6600" indent="-336600">
              <a:lnSpc>
                <a:spcPct val="80000"/>
              </a:lnSpc>
              <a:spcBef>
                <a:spcPts val="3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8542"/>
                </a:solidFill>
                <a:latin typeface="Arial Unicode MS"/>
              </a:rPr>
              <a:t>ПО УСТАВУ В ЛИЦЕЙ ПРИНИМАЛИСЬ ДЕТИ ДВОРЯН В ВОЗРАСТЕ 10-12 ЛЕТ. ОДНОВРЕМЕННО В УЧЕБНОМ ЗАВЕДЕНИИ МОГЛИ ВОСПИТЫВАТЬСЯ НЕ БОЛЕЕ 50 ЧЕЛОВЕК. ОБУЧЕНИЕ ДЛИЛОСЬ ШЕСТЬ ЛЕТ И ПРИРАВНИВАЛОСЬ К УНИВЕРСИТЕТСКОМУ. ПЕРВЫЕ ТРИ ГОДА – ТАК НАЗЫВАЕМЫЙ НАЧАЛЬНЫЙ КУРС – ИЗУЧАЛИСЬ ПРЕДМЕТЫ СТАРШИХ КЛАССОВ ГИМНАЗИИ. ТРИ ПОСЛЕДУЮЩИЕ ГОДА – ОКОНЧАТЕЛЬНЫЙ КУРС – СОДЕРЖАЛ ОСНОВНЫЕ ПРЕДМЕТЫ ТРЕХ ФАКУЛЬТЕТОВ УНИВЕРСИТЕТА: СЛОВЕСНОГО, НРАВСТВЕННО-ПОЛИТИЧЕСКОГО И ФИЗИКО-МАТЕМАТИЧЕСКОГ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646520" y="1599840"/>
            <a:ext cx="4037040" cy="4527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8542"/>
                </a:solidFill>
                <a:latin typeface="Square721 BT"/>
              </a:rPr>
              <a:t>В НАШУ ШКОЛУ  ПРИНИМАЮТ ДЕТЕЙ  С 6 ЛЕТ. ОДНОВРЕМЕННО В ОДНОМ КЛАССЕ МОГУТ УЧИТЬСЯ ПРИМЕРНО 25 ЧЕЛОВЕК. ОБУЧЕНИЕ ДЛИТЬСЯ 11 ЛЕТ. ПЕРВЫЕ 4 ГОДА ОБУЧЕНИЯ – НАЧАЛЬНАЯ ШКОЛА - ИЗУЧАЮТСЯ ОСНОВЫ ВСЕХ ПРЕДМЕТОВ. СЛЕДУЮЩИЕ 5 ЛЕТ – СРЕДНЯЯ ШКОЛА – ИЗУЧАЕТСЯ ВСЯ ПРОГРАММА – ПОСЛЕДНИЕ 2 ГОДА – СТАРШАЯ ШКОЛА</a:t>
            </a:r>
            <a:r>
              <a:rPr b="0" lang="ru-RU" sz="2000" spc="-1" strike="noStrike">
                <a:solidFill>
                  <a:srgbClr val="ffff00"/>
                </a:solidFill>
                <a:latin typeface="Square721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блема исследования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Где и при каких обстоятельствах  Александр Сергеевич Пушкин</a:t>
            </a:r>
            <a:r>
              <a:rPr b="0" lang="en-US" sz="2800" spc="-1" strike="noStrike">
                <a:solidFill>
                  <a:srgbClr val="1b587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первые почувствовал себя поэтом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-109800"/>
            <a:ext cx="822636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8542"/>
                </a:solidFill>
                <a:latin typeface="Verdana"/>
              </a:rPr>
              <a:t>ЛИЦЕЙ БЫЛ ЗАКРЫТЫМ ВОСПИТАТЕЛЬНЫМ УЧЕБНЫМ ЗАВЕДЕНИЕМ. РАСПОРЯДОК ЖИЗНИ ЗДЕСЬ БЫЛ СТРОГО РЕГЛАМЕНТИРОВАН. ВСТАВАЛИ ВОСПИТАННИКИ В ШЕСТЬ ЧАСОВ УТРА. В ТЕЧЕНИЕ СЕДЬМОГО ЧАСА НУЖНО БЫЛО ОДЕТЬСЯ, УМЫТЬСЯ, ПОМОЛИТЬСЯ И ПОВТОРИТЬ УРОКИ. В СЕМЬ ЧАСОВ НАЧИНАЛИСЬ ЗАНЯТИЯ, ПРОДОЛЖАВШИЕСЯ ДВА ЧАСА. В ДЕСЯТОМ ЧАСУ ЛИЦЕИСТЫ ЗАВТРАКАЛИ И СОВЕРШАЛИ НЕБОЛЬШУЮ ПРОГУЛКУ, ПОСЛЕ ЧЕГО ВОЗВРАЩАЛИСЬ В КЛАСС, ГДЕ ЗАНИМАЛИСЬ ЕЩЕ ДВА ЧАСА. В ДВЕНАДЦАТЬ ОТПРАВЛЯЛИСЬ НА ПРОГУЛКУ, ПО ОКОНЧАНИИ КОТОРОЙ ПОВТОРЯЛИ УРОКИ. ВО ВТОРОМ ЧАСУ ОБЕДАЛИ. ПОСЛЕ ОБЕДА – ТРИ ЧАСА ЗАНЯТИЙ. В ШЕСТОМ – ПРОГУЛКА И ГИМНАСТИЧЕСКИЕ УПРАЖНЕНИЯ.</a:t>
            </a:r>
            <a:endParaRPr b="1" lang="en-US" sz="1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144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списание в МКОУ «СОШ ст. Евсино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1 УРОК 8:30 – 9:10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ЗАВТРАК В НАЧ. ШКОЛЕ – 9:10-9:25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2 УРОК 9:25 – 10:05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ЗАВТРАК В СРЕД. ШКОЛЕ – 10:05-10:20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3 УРОК 10:20 – 11:00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4 УРОК 11:10 – 11:50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ОБЕД  В НАЧ.ШКОЛЕ – 11:50-12:00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5 УРОК 12:00 – 12:40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ОБЕД  В СРЕД.ШКОЛЕ – 12:40-12:55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6 УРОК 12:55 – 13:35</a:t>
            </a:r>
            <a:br>
              <a:rPr sz="2400"/>
            </a:br>
            <a:r>
              <a:rPr b="0" lang="ru-RU" sz="2400" spc="-1" strike="noStrike">
                <a:solidFill>
                  <a:srgbClr val="4e8542"/>
                </a:solidFill>
                <a:latin typeface="Verdana"/>
              </a:rPr>
              <a:t>7 УРОК 13:45 – 14:2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После уроков дополнительные занятия, кружки, занятия в музыкальнойй школе, спортивных секци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22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арскосельский лиц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11280" y="1341000"/>
            <a:ext cx="7921440" cy="45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4e8542"/>
                </a:solidFill>
                <a:latin typeface="Verdana"/>
              </a:rPr>
              <a:t>ДИРЕКТОР: В.Ф. МАЛИНОВСК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8542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4e8542"/>
                </a:solidFill>
                <a:latin typeface="Verdana"/>
              </a:rPr>
              <a:t>НРАВСТВЕННЫЕ И ПОЛИТИЧЕСКИЕ НАУКИ:     А.П. КУНИЦЫ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8542"/>
                </a:solidFill>
                <a:latin typeface="Verdana"/>
              </a:rPr>
              <a:t>ЛАТИНСКАЯ И РУССКАЯ СЛОВЕСНОСТЬ:     Н.Ф. КОШАНСКИ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8542"/>
                </a:solidFill>
                <a:latin typeface="Verdana"/>
              </a:rPr>
              <a:t>ФРАНЦУЗСКАЯ СЛОВЕСНОСТЬ: Д.И. ДЕ БУДР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8542"/>
                </a:solidFill>
                <a:latin typeface="Verdana"/>
              </a:rPr>
              <a:t>НЕМЕЦКАЯ СЛОВЕСНОСТЬ: Ф.М. ГАУЕНШИЛЬ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8542"/>
                </a:solidFill>
                <a:latin typeface="Verdana"/>
              </a:rPr>
              <a:t>ИСТОРИЧЕСКИЕ НАУКИ: И.К. КАЙДАН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8542"/>
                </a:solidFill>
                <a:latin typeface="Verdana"/>
              </a:rPr>
              <a:t>МАТЕМАТИЧЕСКИЕ И ФИЗИЧЕСКИЕ НАУКИ:</a:t>
            </a:r>
            <a:br>
              <a:rPr sz="2000"/>
            </a:br>
            <a:r>
              <a:rPr b="0" lang="ru-RU" sz="2000" spc="-1" strike="noStrike">
                <a:solidFill>
                  <a:srgbClr val="4e8542"/>
                </a:solidFill>
                <a:latin typeface="Verdana"/>
              </a:rPr>
              <a:t>Я.И. КАРЦ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2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МКОУ «СОШ ст.Евсино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341360"/>
            <a:ext cx="822636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haroni"/>
              </a:rPr>
              <a:t>  </a:t>
            </a:r>
            <a:r>
              <a:rPr b="0" lang="ru-RU" sz="2600" spc="-1" strike="noStrike">
                <a:solidFill>
                  <a:srgbClr val="4e8542"/>
                </a:solidFill>
                <a:latin typeface="Verdana"/>
                <a:ea typeface="Aharoni"/>
              </a:rPr>
              <a:t>ДИРЕКТО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8542"/>
                </a:solidFill>
                <a:latin typeface="Arial"/>
                <a:ea typeface="Aharoni"/>
              </a:rPr>
              <a:t>   </a:t>
            </a:r>
            <a:r>
              <a:rPr b="0" lang="ru-RU" sz="2600" spc="-1" strike="noStrike">
                <a:solidFill>
                  <a:srgbClr val="4e8542"/>
                </a:solidFill>
                <a:latin typeface="Arial"/>
                <a:ea typeface="Aharoni"/>
              </a:rPr>
              <a:t>ЗАВУЧ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8542"/>
                </a:solidFill>
                <a:latin typeface="Arial"/>
                <a:ea typeface="Aharoni"/>
              </a:rPr>
              <a:t>   </a:t>
            </a:r>
            <a:r>
              <a:rPr b="0" lang="ru-RU" sz="2600" spc="-1" strike="noStrike">
                <a:solidFill>
                  <a:srgbClr val="4e8542"/>
                </a:solidFill>
                <a:latin typeface="Arial"/>
                <a:ea typeface="Aharoni"/>
              </a:rPr>
              <a:t>УЧИТЕЛ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b587c"/>
                </a:solidFill>
                <a:latin typeface="Verdana"/>
                <a:ea typeface="Aharoni"/>
              </a:rPr>
              <a:t>      </a:t>
            </a:r>
            <a:r>
              <a:rPr b="0" lang="ru-RU" sz="2600" spc="-1" strike="noStrike">
                <a:solidFill>
                  <a:srgbClr val="1b587c"/>
                </a:solidFill>
                <a:latin typeface="Verdana"/>
                <a:ea typeface="Aharoni"/>
              </a:rPr>
              <a:t>РУССКОГО ЯЗЫКА И ЛИТЕРАТУРЫ -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1b587c"/>
                </a:solidFill>
                <a:latin typeface="Verdana"/>
                <a:ea typeface="Aharoni"/>
              </a:rPr>
              <a:t>   ИНОСТРАННОГО ЯЗЫКА -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1b587c"/>
                </a:solidFill>
                <a:latin typeface="Verdana"/>
                <a:ea typeface="Aharoni"/>
              </a:rPr>
              <a:t>    МАТЕМАТИКИ, ИНФОРМАТИКИ, ФИЗИКИ 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226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МКОУ «СОШ ст.Евсино»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68000" y="1267920"/>
            <a:ext cx="8226360" cy="4859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8542"/>
                </a:solidFill>
                <a:latin typeface="Arial"/>
                <a:ea typeface="Aharoni"/>
              </a:rPr>
              <a:t>УЧИТЕЛЯ: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БИОЛОГИИ–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       </a:t>
            </a: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ГЕОГРАФИИ –</a:t>
            </a:r>
            <a:br>
              <a:rPr sz="1900"/>
            </a:b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    ТЕХНОЛОГИИ –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ИСКУССТВА –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МУЗЫКИ -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ФИЗИЧЕСКОЙ КУЛЬТУРЫ –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ОБЖ –</a:t>
            </a:r>
            <a:br>
              <a:rPr sz="1900"/>
            </a:b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    ИСТОРИИ –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1b587c"/>
                </a:solidFill>
                <a:latin typeface="Verdana"/>
              </a:rPr>
              <a:t>ОБЩЕСТВОЗНАНИЯ -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31400"/>
            <a:ext cx="8226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Изучив материалы о лицейском периоде жизни А.С.Пушкина, мы считаем, что Царскосельский лицей - одно из самых замечательных явлений русской культуры. Но не потому, конечно, что он готовил «просвещенных слуг государства», а потому, что он был колыбелью Пушкина, а значит, и всей русской поэзии, потому, что из его стен вышли великие патриоты, как Кухельбекер, Пущин и др. В Лицее были созданы все условия для развития творческой личности, которая употребит знания и талант во благо общества, народа,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9840" indent="-33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Сравнивая современную школу с Царскосельским лицеем, делаем вывод, что мы тоже любим свою школу, как и лицеист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21 веке предметы изменились, хотя и есть одинаков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Лицей – закрытое учебное заведение, а мы живем в семья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Лицейские годы жизни Пушкина сыграли огромную роль в становлении его как личности, заложили фундамент его гениального творчеств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Атмосфера жизни нашей школы влияет и на на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сточники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600200"/>
            <a:ext cx="8226360" cy="4903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1. В.Я.Коровина.Литература.6кл.Учебн.-хрестоматия для общеобразоват.учреждени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й.В 2-х ч.М.:Просвещение,2015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2. А.С.Пушкин.Стихотвор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3. Сайт МКОУ «СОШ ст.Евсино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4. Ресурсы Интерн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ъект исследования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Фрагменты из жизни и творчества А.С.Пушкина – лицеиста и его друз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и и 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роанализировать, почему пребывание в Царскосельском Лицее отразилось на развитии личности А.С. Пушкин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Влияет ли обучение в учебном заведении на становление личности детей в современной шк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spcBef>
                <a:spcPts val="700"/>
              </a:spcBef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0280" indent="-523800">
              <a:spcBef>
                <a:spcPts val="700"/>
              </a:spcBef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Узнать как можно больше о Пушкине-лицеисте и его друзь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0280" indent="-523800">
              <a:spcBef>
                <a:spcPts val="700"/>
              </a:spcBef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0280" indent="-523800">
              <a:spcBef>
                <a:spcPts val="700"/>
              </a:spcBef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Выявить расхождения между Лицеем и современной средней школой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ипотеза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Почувствовал Пушкин себя поэтом в лицейский период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31687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тоды исследования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сбор материала о Пушкине-лицеисте и его друзьях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чтение стихотворений Пушкина о лицее и лицеиста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сравнение структуры Царскосельского лицея и МКОУ «СОШ ст. Евсино»;</a:t>
            </a:r>
            <a:br>
              <a:rPr sz="2800"/>
            </a:b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использование Интернет ресур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ктуальность рабо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33360" indent="-333360"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Собранный материал можно использовать  при подготовке к экзамену по литературе,к уроку по творчеству А.С.Пушкина, а также на классных часах, посвящённых дружбе,</a:t>
            </a:r>
            <a:r>
              <a:rPr b="0" lang="en-US" sz="2800" spc="-1" strike="noStrike">
                <a:solidFill>
                  <a:srgbClr val="1b587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шко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вед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истории культуры России имя Пушкина неразрывно связано с Лицеем. Царскосельский лицей – колыбель славы великого русского поэ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Лицей подействовал и на ум его, сообщив мыслям определенное направление, и на сердце, дав возможность рано развиться нежным склонностям дружбы, чувствам чести и товарищества, одним словом, он вполне раскрыл все его способности. Пушкин вспоминал о Лицее,  как об отеческом крове, о друзьях-лицеистах, как о родных люд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11:11:31Z</dcterms:created>
  <dc:creator>Папа</dc:creator>
  <dc:description/>
  <dc:language>en-US</dc:language>
  <cp:lastModifiedBy>Windows User</cp:lastModifiedBy>
  <dcterms:modified xsi:type="dcterms:W3CDTF">2020-07-30T13:50:16Z</dcterms:modified>
  <cp:revision>214</cp:revision>
  <dc:subject/>
  <dc:title>Проектная работа по литературе на тему: «Лицей в жизни А.С.Пушкина» </dc:title>
</cp:coreProperties>
</file>