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301E0-FFF6-4D02-99AF-2064F4F4A5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9341F-7D03-40C4-9733-4B4F1D3C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1B1AF-C768-4BCA-8F1E-11DD948B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95376-7499-4519-9C2C-5C694C6050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58A7A-D991-477F-94AD-0AD360DD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373E4-BD21-418A-963E-6888BF54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914B1-B7B6-43EE-8DDF-1BCF1042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A2D5F-5CBC-4E95-B20D-739C2129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02658-BC77-4D32-ADCB-D5F7428A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CF323-B597-4268-ABDF-CA968019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10387-2854-462E-859C-09586E2F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33FB6-2C76-4AD9-ABF2-965A5A40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32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DAD3DA-8531-4BC3-9EDA-2A8402D72E35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268280"/>
            <a:ext cx="9001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2e3d4c"/>
                </a:solidFill>
                <a:latin typeface="Times New Roman"/>
                <a:ea typeface="Calibri"/>
              </a:rPr>
              <a:t>Урок русского языка</a:t>
            </a:r>
            <a:br>
              <a:rPr sz="4900"/>
            </a:br>
            <a:r>
              <a:rPr b="0" lang="ru-RU" sz="4900" spc="-1" strike="noStrike">
                <a:solidFill>
                  <a:srgbClr val="2e3d4c"/>
                </a:solidFill>
                <a:latin typeface="Times New Roman"/>
                <a:ea typeface="Calibri"/>
              </a:rPr>
              <a:t>06.12.18</a:t>
            </a:r>
            <a:br>
              <a:rPr sz="32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1197000"/>
            <a:ext cx="829152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ечный, звезда, ярость, здоровье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765000"/>
            <a:ext cx="8229600" cy="58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15000"/>
              </a:lnSpc>
              <a:spcBef>
                <a:spcPts val="2001"/>
              </a:spcBef>
              <a:spcAft>
                <a:spcPts val="10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вез</a:t>
            </a:r>
            <a:r>
              <a:rPr b="0" i="1" lang="ru-RU" sz="80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rPr>
              <a:t>д</a:t>
            </a:r>
            <a:r>
              <a:rPr b="0" i="1" lang="ru-RU" sz="8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ый, ярос</a:t>
            </a:r>
            <a:r>
              <a:rPr b="0" i="1" lang="ru-RU" sz="80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rPr>
              <a:t>т</a:t>
            </a:r>
            <a:r>
              <a:rPr b="0" i="1" lang="ru-RU" sz="8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ый, сер</a:t>
            </a:r>
            <a:r>
              <a:rPr b="0" i="1" lang="ru-RU" sz="80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rPr>
              <a:t>д</a:t>
            </a:r>
            <a:r>
              <a:rPr b="0" i="1" lang="ru-RU" sz="8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це, здра</a:t>
            </a:r>
            <a:r>
              <a:rPr b="0" i="1" lang="ru-RU" sz="80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rPr>
              <a:t>в</a:t>
            </a:r>
            <a:r>
              <a:rPr b="0" i="1" lang="ru-RU" sz="8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твуй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rcRect l="2241" t="0" r="75390" b="14061"/>
          <a:stretch/>
        </p:blipFill>
        <p:spPr>
          <a:xfrm>
            <a:off x="1042920" y="620640"/>
            <a:ext cx="685008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1197000"/>
            <a:ext cx="8280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15000"/>
              </a:lnSpc>
              <a:spcBef>
                <a:spcPts val="1800"/>
              </a:spcBef>
              <a:spcAft>
                <a:spcPts val="10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ус</a:t>
            </a:r>
            <a:r>
              <a:rPr b="0" i="1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т</a:t>
            </a: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ный, чу</a:t>
            </a:r>
            <a:r>
              <a:rPr b="0" i="1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</a:t>
            </a: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во, прелес</a:t>
            </a:r>
            <a:r>
              <a:rPr b="0" i="1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т</a:t>
            </a: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ны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09720"/>
            <a:ext cx="91440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правильно     допустил ошибку    не справил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"/>
          <p:cNvCxnSpPr/>
          <p:nvPr/>
        </p:nvCxnSpPr>
        <p:spPr>
          <a:xfrm flipV="1">
            <a:off x="1186920" y="1339200"/>
            <a:ext cx="2520" cy="28803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/>
          <p:nvPr/>
        </p:nvCxnSpPr>
        <p:spPr>
          <a:xfrm flipV="1">
            <a:off x="4287960" y="1377360"/>
            <a:ext cx="2160" cy="28818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/>
          <p:nvPr/>
        </p:nvCxnSpPr>
        <p:spPr>
          <a:xfrm flipV="1">
            <a:off x="7602120" y="1475640"/>
            <a:ext cx="2520" cy="28803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1025640" y="1484280"/>
            <a:ext cx="323640" cy="360360"/>
          </a:xfrm>
          <a:prstGeom prst="pie">
            <a:avLst/>
          </a:prstGeom>
          <a:solidFill>
            <a:srgbClr val="c0504d"/>
          </a:solidFill>
          <a:ln cap="sq"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4125960" y="2584440"/>
            <a:ext cx="325440" cy="360360"/>
          </a:xfrm>
          <a:prstGeom prst="pie">
            <a:avLst/>
          </a:prstGeom>
          <a:solidFill>
            <a:srgbClr val="c0504d"/>
          </a:solidFill>
          <a:ln cap="sq"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440480" y="4176720"/>
            <a:ext cx="324000" cy="358920"/>
          </a:xfrm>
          <a:prstGeom prst="pie">
            <a:avLst/>
          </a:prstGeom>
          <a:solidFill>
            <a:srgbClr val="c0504d"/>
          </a:solidFill>
          <a:ln cap="sq"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2587680" y="189000"/>
            <a:ext cx="372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цените себ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720720"/>
            <a:ext cx="88916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т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Где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надо проверя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а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1052640"/>
            <a:ext cx="85802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тобы правильно написать слова с непроизносимыми согласными, нужно подобрать проверочное однокоренное слово с гласной после согласной или с «опасным» сочетанием на конце сл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3425760" y="189000"/>
            <a:ext cx="223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15920"/>
            <a:ext cx="8856720" cy="69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Алгоритм провер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 Нахожу в корне опасное сочет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 Изменяю слово так, чтобы после непроизносимого согласного стоял гласный звук или ставлю опасное сочетание на конец слов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 Слышу согласный зву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 Пишу согласную букву в опасном сочетан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Мес..ный - место, местечк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вис…нул, грус…но, ненас…ный, хрус…нула, окрес…ность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1280" y="144360"/>
            <a:ext cx="9072720" cy="67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честный                    ча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адостный              рассказ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оздний                  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известный               взгляд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устный                      спортсме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307800" y="260280"/>
            <a:ext cx="94662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Языку мы учимся и должны учиться до последних дней своей жизн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2852640"/>
            <a:ext cx="2976480" cy="3821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60760" y="5084640"/>
            <a:ext cx="4509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нстан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Георгиевич Паустов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87280" y="692280"/>
            <a:ext cx="7488360" cy="58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Calibri"/>
              </a:rPr>
              <a:t>честный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Calibri"/>
              </a:rPr>
              <a:t>радостный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взгля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Calibri"/>
              </a:rPr>
              <a:t>поздний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ча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Calibri"/>
              </a:rPr>
              <a:t>известный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спортсме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Calibri"/>
              </a:rPr>
              <a:t>устный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рассказ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9280" y="836640"/>
            <a:ext cx="850752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Первая групп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ыл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оздни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вечер. По улицам бегал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несчастны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щенок. Он скулил и метался. Миша заметил 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грустног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щенка. Мальчик взял собачку домой. Щенок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радостно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лял хвост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58920" y="476280"/>
            <a:ext cx="878508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Вторая групп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Счастливы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Серёжка быстро шёл домой. У мальчика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радостное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строение. Он нёс маме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релестную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розу. У мамы сегодня день рождения.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Здравству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мама! – сказал сын и протянул цвет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00" y="333360"/>
            <a:ext cx="868680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Третья групп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ступила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поздняя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осень. Совсем скоро её сменит зима. Тускло светит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солнце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. Ночью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звёздное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небо закрывают тучи.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Грустная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картин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8000" y="189000"/>
            <a:ext cx="892800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Какие согласные могут быть непроизносимым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д     б) т     в) м     г) л     д) в    е) ф     ж) 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Укажи опасные сочетания для непроизносимых согласн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вст    б) стн  в) здн     г) стр    д) зск     е) лнц    д) рд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Вставьте пропущенные сло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бы правильно написать слова с _______согласными, нужно подобрать проверочное _____слово с ____после согласной или с ____ сочетанием на конце сл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Восстанови порядок орфографических действий при написание непроизносимых согласных в корне сл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Слышу согласный зву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Нахожу в корне опасное сочет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) Пишу согласную букву в опасном сочетан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)Изменяю слово так, чтобы после непроизносимого согласного стоял гласный звук или ставлю опасное сочетание на конец сл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В каком слове буква «Д» обозначает непроизносимый согласный звук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ло..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поз..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) закла..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) селё..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Укажи слово, в котором на месте пропуска непроизносимая согласная не пишет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счас..лив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лес..н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) небес..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) чес..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0"/>
            <a:ext cx="82296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ы на т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765000"/>
            <a:ext cx="878544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Какие согласные могут быть непроизносимым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а) д     б) т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) м    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г) л     д) в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) ф     ж) 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Укажи опасные сочетания для непроизносимых согласны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) вст    б) стн  в) здн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) стр    д) зск     е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) лнц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) рд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Вставьте пропущенные слов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бы правильно написать слова с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непроизносимым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согласными, нужно подобрать проверочное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однокоренно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слово с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гласной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ле согласной или с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опасным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четанием на конце сло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Восстанови порядок орфографических действий при написание непроизносимых согласных в корне сло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а) Слышу согласный зву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б) Нахожу в корне опасное сочета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) Пишу согласную букву в опасном сочетан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г)Изменяю слово так, чтобы после непроизносимого согласного стоял гласный звук или ставлю опасное сочетание на конец сло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836640"/>
            <a:ext cx="8640720" cy="59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В каком слове буква «Д» обозначает непроизносимый согласный звук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ло..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б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з..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закла..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селё..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Укажи слово, в котором на месте пропуска непроизносимая согласная не пиш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счас..л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лес..н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бес..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чес..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252360" y="1413000"/>
            <a:ext cx="88581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очини сказку «непроизносимые согласные» или стихотворение о непроизносимых согласных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052640"/>
            <a:ext cx="871380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  <a:ea typeface="Calibri"/>
              </a:rPr>
              <a:t>Известный – известие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  <a:ea typeface="Calibri"/>
              </a:rPr>
              <a:t>здравие – здравствуй.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Times New Roman"/>
                <a:ea typeface="Calibri"/>
              </a:rPr>
              <a:t>Теперь от ребят не прячься согласный!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Times New Roman"/>
                <a:ea typeface="Calibri"/>
              </a:rPr>
              <a:t>А трудности будут – словарик возьмём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Times New Roman"/>
                <a:ea typeface="Calibri"/>
              </a:rPr>
              <a:t>И нужное слово всегда в нём найдё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404640"/>
            <a:ext cx="822960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Calibri"/>
              </a:rPr>
              <a:t>Сегодня на уроке я </a:t>
            </a: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-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научился…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понял…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было интересно…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было трудно…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нутка чистопис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1413000"/>
            <a:ext cx="873468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1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в</a:t>
            </a:r>
            <a:r>
              <a:rPr b="0" i="1" lang="ru-RU" sz="1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i="1" lang="ru-RU" sz="11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д</a:t>
            </a:r>
            <a:r>
              <a:rPr b="0" i="1" lang="ru-RU" sz="1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i="1" lang="ru-RU" sz="11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л</a:t>
            </a:r>
            <a:r>
              <a:rPr b="0" i="1" lang="ru-RU" sz="1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i="1" lang="ru-RU" sz="11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т</a:t>
            </a:r>
            <a:r>
              <a:rPr b="0" i="1" lang="ru-RU" sz="1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лт, вдлт</a:t>
            </a:r>
            <a:r>
              <a:rPr b="0" i="1" lang="ru-RU" sz="9600" spc="-1" strike="noStrike">
                <a:solidFill>
                  <a:srgbClr val="000000"/>
                </a:solidFill>
                <a:latin typeface="Calibri"/>
              </a:rPr>
              <a:t>,…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2311560"/>
            <a:ext cx="8928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22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Спасибо за урок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549360"/>
            <a:ext cx="9216720" cy="61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пинка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сной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ной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жка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ж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333360"/>
            <a:ext cx="8731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зударный гласный      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арный согласный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нка                                   кни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й                                       гара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2421000"/>
            <a:ext cx="6048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1500" spc="-1" strike="noStrike">
                <a:solidFill>
                  <a:srgbClr val="c00000"/>
                </a:solidFill>
                <a:latin typeface="Calibri"/>
              </a:rPr>
              <a:t>Солнце 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1700280"/>
            <a:ext cx="8435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С О </a:t>
            </a:r>
            <a:r>
              <a:rPr b="1" lang="ru-RU" sz="8800" spc="-1" strike="noStrike" u="sng">
                <a:solidFill>
                  <a:srgbClr val="000000"/>
                </a:solidFill>
                <a:uFillTx/>
                <a:latin typeface="Calibri"/>
              </a:rPr>
              <a:t>Н Ц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Э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1052640"/>
            <a:ext cx="822960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2e3d4c"/>
                </a:solidFill>
                <a:latin typeface="Times New Roman"/>
                <a:ea typeface="Times New Roman"/>
              </a:rPr>
              <a:t>Иногда согласн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2e3d4c"/>
                </a:solidFill>
                <a:latin typeface="Times New Roman"/>
                <a:ea typeface="Times New Roman"/>
              </a:rPr>
              <a:t>Играют с нами в прятк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2e3d4c"/>
                </a:solidFill>
                <a:latin typeface="Times New Roman"/>
                <a:ea typeface="Times New Roman"/>
              </a:rPr>
              <a:t>Они не произносятся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2e3d4c"/>
                </a:solidFill>
                <a:latin typeface="Times New Roman"/>
                <a:ea typeface="Times New Roman"/>
              </a:rPr>
              <a:t>Но пишутся в тетрадк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519200"/>
            <a:ext cx="903600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215968"/>
                </a:solidFill>
                <a:latin typeface="Times New Roman"/>
              </a:rPr>
              <a:t>Непроизносимые согласные в корне слов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1916280"/>
            <a:ext cx="896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л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це - солнечный ,солнышк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03</cp:lastModifiedBy>
  <dcterms:modified xsi:type="dcterms:W3CDTF">2015-11-30T05:24:33Z</dcterms:modified>
  <cp:revision>11</cp:revision>
  <dc:subject/>
  <dc:title>Правописание безударных гласных в корне слова </dc:title>
</cp:coreProperties>
</file>