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1675-C1F2-4BEB-B105-25D28DDF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C0DC-148D-49B7-AF83-5B8987AD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6D27-0584-49E7-93D0-97A73082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F8E7-CEAB-487D-9C02-9C084E5F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5E2D-1F38-4B7E-AC1C-751B231B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B7C0-BFF2-418E-A926-F6D57BC3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F128-18C8-4BD4-9C67-DA9CE6D5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FCE0-1937-4308-ABC8-E750A7BC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F654-B20F-4C3E-8B4D-3EEDA9B4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334C-B407-4302-9FE6-E106EF0F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7542-17C1-4DD8-BA62-BC3763DE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B03C-4F2A-4B9C-8942-9A6AF987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F0E4-C189-4888-902E-2648E48C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DEDD-9D81-45C5-91D2-E882173E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8A7D-CB84-4091-A8C6-872B1A49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4E45-099B-4D2F-B5ED-3191544F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A0B4-7AA4-4A60-84F5-2DD6AD22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1BF-1158-4435-8B57-8C8A5DD6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4E2-099B-4679-BF86-D0D73A37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3A3-42EF-469E-89A1-C571DD5B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F3B0-5913-450E-BFC5-EA45EB38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E893-E99E-4EC2-98CC-5AF6494D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D08-37EE-40A4-A6AC-1CA819E1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18B-1F15-4612-849A-7D330995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517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4a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455b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170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170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2FDF-5514-4C17-8D77-E11C02AB6B2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455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517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455b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79a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455b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4a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455b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170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170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1388-E653-403C-94A8-967CC4262C11}" type="slidenum">
              <a:rPr b="0" lang="ru-RU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solidFill>
            <a:srgbClr val="79a9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№3 г.Рассказово Тамбовской област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7848720" cy="5183280"/>
          </a:xfrm>
          <a:prstGeom prst="rect">
            <a:avLst/>
          </a:prstGeom>
          <a:solidFill>
            <a:srgbClr val="79a99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« ГРАФИЧЕСКОЕ ПРЕДСТАВЛЕНИЕ ИНФОРМАЦИИ »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Ученицы 11 класса В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Голубчиковой Наталии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 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Учитель: Кондрашова Ю. В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2014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050920" y="692280"/>
            <a:ext cx="5256360" cy="345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2195640" y="4365720"/>
            <a:ext cx="5257800" cy="2133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2124000" y="4076640"/>
            <a:ext cx="540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124000" y="41497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Гистограмма распределения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частот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971640" y="4365720"/>
            <a:ext cx="115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Частота варианты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5867280" y="6237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Варианта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684360" y="765000"/>
            <a:ext cx="115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Кратность варианты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6804000" y="393372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Варианты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908000" y="404640"/>
            <a:ext cx="56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Гистограмма распределения  кратностей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3059280" y="55897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S=0,2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3996720" y="515772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S=0,55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4928760" y="551664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S=0,25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3349440" y="2637000"/>
            <a:ext cx="5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S=8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4644360" y="98100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S=22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5941440" y="234936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S=10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Picture 19" descr="j0291984"/>
          <p:cNvPicPr/>
          <p:nvPr/>
        </p:nvPicPr>
        <p:blipFill>
          <a:blip r:embed="rId3"/>
          <a:stretch/>
        </p:blipFill>
        <p:spPr>
          <a:xfrm>
            <a:off x="179280" y="4724280"/>
            <a:ext cx="1808280" cy="19144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0"/>
          <p:cNvSpPr/>
          <p:nvPr/>
        </p:nvSpPr>
        <p:spPr>
          <a:xfrm>
            <a:off x="7236000" y="1413000"/>
            <a:ext cx="1657080" cy="366480"/>
          </a:xfrm>
          <a:prstGeom prst="rect">
            <a:avLst/>
          </a:prstGeom>
          <a:solidFill>
            <a:srgbClr val="79a9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826920" y="1474920"/>
            <a:ext cx="1224000" cy="366480"/>
          </a:xfrm>
          <a:prstGeom prst="rect">
            <a:avLst/>
          </a:prstGeom>
          <a:solidFill>
            <a:srgbClr val="79a9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5"/>
          <p:cNvSpPr/>
          <p:nvPr/>
        </p:nvSpPr>
        <p:spPr>
          <a:xfrm>
            <a:off x="755640" y="4005360"/>
            <a:ext cx="79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С одной стороны, в гистограмме потеряна первоначальная точная информация: мы не знаем, например, сколько именно человек получили 6 баллов. С другой стороны, ответ получается более быстро, и наглядно видна качественная оценка распределения данных. Примерно половина абитуриентов получила «средние» баллы, а «плохиши» и «хорошисты с отличниками» поделились почти поровну. Для отчетов по результатам экзаменов такой вид исходной информации – в самый раз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30040" y="3333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332000" y="69228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Гистограмма распределения частот (%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952800" cy="26481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9"/>
          <p:cNvSpPr/>
          <p:nvPr/>
        </p:nvSpPr>
        <p:spPr>
          <a:xfrm>
            <a:off x="1116000" y="119700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Частота варианты (%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6300720" y="3716280"/>
            <a:ext cx="122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6227640" y="36450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Варианта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3492360" y="2924280"/>
            <a:ext cx="64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3419640" y="278136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S=20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428720" y="1916280"/>
            <a:ext cx="61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S=55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5436720" y="263700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S=25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6516720" y="1413000"/>
            <a:ext cx="2232000" cy="366480"/>
          </a:xfrm>
          <a:prstGeom prst="rect">
            <a:avLst/>
          </a:prstGeom>
          <a:solidFill>
            <a:srgbClr val="79a9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5"/>
          <p:cNvSpPr/>
          <p:nvPr/>
        </p:nvSpPr>
        <p:spPr>
          <a:xfrm>
            <a:off x="1187280" y="907920"/>
            <a:ext cx="765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19120" y="35388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826920" y="1268280"/>
            <a:ext cx="7561440" cy="4467600"/>
          </a:xfrm>
          <a:prstGeom prst="rect">
            <a:avLst/>
          </a:prstGeom>
          <a:solidFill>
            <a:srgbClr val="79a9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Times New Roman"/>
              </a:rPr>
              <a:t>Пример 2.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Измерили длины слов (количество букв) в приведенном ниже отрывке из поэмы А. С. Пушкина «Медный всадник». Нужно построить гистограммы распределения кратностей и частот, выбрав интервалы 1-3, 4-6, 7-9 для вариант выборки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«…Ужасен он в окрестной мгле!               6,  2,  1,  9,  4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Какая дума на челе!                                       5,  4,  2,  4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Какая сила в нем сокрыта,                          5,  4,  1,  3,  7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А в сем коне какой огонь!                             1,  1,  3,  4,  5,  5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Куда ты скачешь, гордый конь,                  4,  2,  7,  6,  4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И где опустишь ты копыта?...»                1,  3,  8,  2,  6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5" name="Picture 8" descr="j0286034"/>
          <p:cNvPicPr/>
          <p:nvPr/>
        </p:nvPicPr>
        <p:blipFill>
          <a:blip r:embed="rId1"/>
          <a:stretch/>
        </p:blipFill>
        <p:spPr>
          <a:xfrm rot="840000">
            <a:off x="7667640" y="259920"/>
            <a:ext cx="1224000" cy="11797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8"/>
          <p:cNvSpPr/>
          <p:nvPr/>
        </p:nvSpPr>
        <p:spPr>
          <a:xfrm>
            <a:off x="539640" y="69228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Times New Roman"/>
              </a:rPr>
              <a:t>Решение.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Справа от текста вместо слов построчно записаны их длины. После подсчета составим таблицу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900000" y="2133720"/>
          <a:ext cx="7559640" cy="1011240"/>
        </p:xfrm>
        <a:graphic>
          <a:graphicData uri="http://schemas.openxmlformats.org/drawingml/2006/table">
            <a:tbl>
              <a:tblPr/>
              <a:tblGrid>
                <a:gridCol w="1293840"/>
                <a:gridCol w="574920"/>
                <a:gridCol w="576000"/>
                <a:gridCol w="501840"/>
                <a:gridCol w="504720"/>
                <a:gridCol w="501840"/>
                <a:gridCol w="514080"/>
                <a:gridCol w="574920"/>
                <a:gridCol w="576000"/>
                <a:gridCol w="503280"/>
                <a:gridCol w="1438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Длина слова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Всего 9 вариант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Кратность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Сумма = 3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Text Box 78"/>
          <p:cNvSpPr/>
          <p:nvPr/>
        </p:nvSpPr>
        <p:spPr>
          <a:xfrm>
            <a:off x="900000" y="328464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Для нужных гистограмм составляем таблицу с меньшим числом вариант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58920" y="4005360"/>
          <a:ext cx="7056360" cy="1736640"/>
        </p:xfrm>
        <a:graphic>
          <a:graphicData uri="http://schemas.openxmlformats.org/drawingml/2006/table">
            <a:tbl>
              <a:tblPr/>
              <a:tblGrid>
                <a:gridCol w="1411200"/>
                <a:gridCol w="1411200"/>
                <a:gridCol w="1411560"/>
                <a:gridCol w="1411200"/>
                <a:gridCol w="1411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Длины слов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, 2 или 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, 5 или 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, 8 или 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Всего 3 варианты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Кратности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 + 4 + 3 = =1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 + 4 +3 = =1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 + 1 + 1 = 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Сумма = 3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Частоты (%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6,6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3,3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Сумма</a:t>
                      </a: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Arial"/>
                        </a:rPr>
                        <a:t>≈ ≈100%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 Box 115"/>
          <p:cNvSpPr/>
          <p:nvPr/>
        </p:nvSpPr>
        <p:spPr>
          <a:xfrm>
            <a:off x="1116000" y="57340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Осталось нарисовать гистограммы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1" name="Picture 146" descr="j0299125"/>
          <p:cNvPicPr/>
          <p:nvPr/>
        </p:nvPicPr>
        <p:blipFill>
          <a:blip r:embed="rId1"/>
          <a:stretch/>
        </p:blipFill>
        <p:spPr>
          <a:xfrm rot="20708400">
            <a:off x="250920" y="1125360"/>
            <a:ext cx="880920" cy="1446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6050160" cy="2705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2"/>
          <a:stretch/>
        </p:blipFill>
        <p:spPr>
          <a:xfrm>
            <a:off x="2050920" y="3933720"/>
            <a:ext cx="4608720" cy="25434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1935000" y="644400"/>
            <a:ext cx="492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Гистограмма распределения  кратностей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2191320" y="357336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Гистограмма распределения частот (%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11280" y="1268280"/>
            <a:ext cx="1150920" cy="337320"/>
          </a:xfrm>
          <a:prstGeom prst="rect">
            <a:avLst/>
          </a:prstGeom>
          <a:solidFill>
            <a:srgbClr val="79a9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Кратность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796000" y="328464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Длина слова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6089040" y="6237360"/>
            <a:ext cx="125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Длина слова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755640" y="3933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Частота (%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1332000" y="48690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≈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3,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1549080" y="5661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≈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6,7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2" name="Picture 16" descr="j0300840"/>
          <p:cNvPicPr/>
          <p:nvPr/>
        </p:nvPicPr>
        <p:blipFill>
          <a:blip r:embed="rId3"/>
          <a:stretch/>
        </p:blipFill>
        <p:spPr>
          <a:xfrm rot="507600">
            <a:off x="7020000" y="2997000"/>
            <a:ext cx="1814400" cy="15285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8"/>
          <p:cNvSpPr/>
          <p:nvPr/>
        </p:nvSpPr>
        <p:spPr>
          <a:xfrm>
            <a:off x="7812000" y="1341360"/>
            <a:ext cx="1008000" cy="366840"/>
          </a:xfrm>
          <a:prstGeom prst="rect">
            <a:avLst/>
          </a:prstGeom>
          <a:solidFill>
            <a:srgbClr val="79a9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4" name="Picture 19" descr="j0291984"/>
          <p:cNvPicPr/>
          <p:nvPr/>
        </p:nvPicPr>
        <p:blipFill>
          <a:blip r:embed="rId4"/>
          <a:stretch/>
        </p:blipFill>
        <p:spPr>
          <a:xfrm>
            <a:off x="250920" y="4724280"/>
            <a:ext cx="1807920" cy="1914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99"/>
                </a:solidFill>
                <a:latin typeface="Comic Sans MS"/>
              </a:rPr>
              <a:t>ГРАФИЧЕСКОЕ ПРЕДСТАВЛЕНИЕ ИНФОРМАЦИИ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0" name="Group 5"/>
          <p:cNvGrpSpPr/>
          <p:nvPr/>
        </p:nvGrpSpPr>
        <p:grpSpPr>
          <a:xfrm>
            <a:off x="6012000" y="4076640"/>
            <a:ext cx="2175840" cy="2112840"/>
            <a:chOff x="6012000" y="4076640"/>
            <a:chExt cx="2175840" cy="2112840"/>
          </a:xfrm>
        </p:grpSpPr>
        <p:sp>
          <p:nvSpPr>
            <p:cNvPr id="101" name="Puzzle3"/>
            <p:cNvSpPr/>
            <p:nvPr/>
          </p:nvSpPr>
          <p:spPr>
            <a:xfrm>
              <a:off x="7071840" y="4076640"/>
              <a:ext cx="855360" cy="1122840"/>
            </a:xfrm>
            <a:custGeom>
              <a:avLst/>
              <a:gdLst>
                <a:gd name="textAreaLeft" fmla="*/ 89640 w 855360"/>
                <a:gd name="textAreaRight" fmla="*/ 758880 w 855360"/>
                <a:gd name="textAreaTop" fmla="*/ 401040 h 1122840"/>
                <a:gd name="textAreaBottom" fmla="*/ 1051920 h 11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2" name="Puzzle2"/>
            <p:cNvSpPr/>
            <p:nvPr/>
          </p:nvSpPr>
          <p:spPr>
            <a:xfrm>
              <a:off x="6822720" y="4894560"/>
              <a:ext cx="1365120" cy="1022760"/>
            </a:xfrm>
            <a:custGeom>
              <a:avLst/>
              <a:gdLst>
                <a:gd name="textAreaLeft" fmla="*/ 340920 w 1365120"/>
                <a:gd name="textAreaRight" fmla="*/ 1022760 w 1365120"/>
                <a:gd name="textAreaTop" fmla="*/ 318960 h 1022760"/>
                <a:gd name="textAreaBottom" fmla="*/ 968040 h 102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3" name="Puzzle4"/>
            <p:cNvSpPr/>
            <p:nvPr/>
          </p:nvSpPr>
          <p:spPr>
            <a:xfrm>
              <a:off x="6294600" y="4881960"/>
              <a:ext cx="822960" cy="1307520"/>
            </a:xfrm>
            <a:custGeom>
              <a:avLst/>
              <a:gdLst>
                <a:gd name="textAreaLeft" fmla="*/ 78840 w 822960"/>
                <a:gd name="textAreaRight" fmla="*/ 770040 w 822960"/>
                <a:gd name="textAreaTop" fmla="*/ 342360 h 1307520"/>
                <a:gd name="textAreaBottom" fmla="*/ 967320 h 130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4" name="Puzzle1"/>
            <p:cNvSpPr/>
            <p:nvPr/>
          </p:nvSpPr>
          <p:spPr>
            <a:xfrm>
              <a:off x="6012000" y="4416120"/>
              <a:ext cx="1382400" cy="779400"/>
            </a:xfrm>
            <a:custGeom>
              <a:avLst/>
              <a:gdLst>
                <a:gd name="textAreaLeft" fmla="*/ 389160 w 1382400"/>
                <a:gd name="textAreaRight" fmla="*/ 1032120 w 1382400"/>
                <a:gd name="textAreaTop" fmla="*/ 92520 h 779400"/>
                <a:gd name="textAreaBottom" fmla="*/ 705240 h 77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05" name="Group 10"/>
          <p:cNvGrpSpPr/>
          <p:nvPr/>
        </p:nvGrpSpPr>
        <p:grpSpPr>
          <a:xfrm>
            <a:off x="6372360" y="404640"/>
            <a:ext cx="2103120" cy="1968480"/>
            <a:chOff x="6372360" y="404640"/>
            <a:chExt cx="2103120" cy="1968480"/>
          </a:xfrm>
        </p:grpSpPr>
        <p:sp>
          <p:nvSpPr>
            <p:cNvPr id="106" name="Puzzle3"/>
            <p:cNvSpPr/>
            <p:nvPr/>
          </p:nvSpPr>
          <p:spPr>
            <a:xfrm>
              <a:off x="7396560" y="404640"/>
              <a:ext cx="826560" cy="1046160"/>
            </a:xfrm>
            <a:custGeom>
              <a:avLst/>
              <a:gdLst>
                <a:gd name="textAreaLeft" fmla="*/ 86760 w 826560"/>
                <a:gd name="textAreaRight" fmla="*/ 733320 w 826560"/>
                <a:gd name="textAreaTop" fmla="*/ 373680 h 1046160"/>
                <a:gd name="textAreaBottom" fmla="*/ 979920 h 104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7" name="Puzzle2"/>
            <p:cNvSpPr/>
            <p:nvPr/>
          </p:nvSpPr>
          <p:spPr>
            <a:xfrm>
              <a:off x="7156080" y="1166760"/>
              <a:ext cx="1319400" cy="952920"/>
            </a:xfrm>
            <a:custGeom>
              <a:avLst/>
              <a:gdLst>
                <a:gd name="textAreaLeft" fmla="*/ 329400 w 1319400"/>
                <a:gd name="textAreaRight" fmla="*/ 988560 w 1319400"/>
                <a:gd name="textAreaTop" fmla="*/ 297000 h 952920"/>
                <a:gd name="textAreaBottom" fmla="*/ 901800 h 95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8" name="Puzzle4"/>
            <p:cNvSpPr/>
            <p:nvPr/>
          </p:nvSpPr>
          <p:spPr>
            <a:xfrm>
              <a:off x="6645240" y="1154880"/>
              <a:ext cx="795600" cy="1218240"/>
            </a:xfrm>
            <a:custGeom>
              <a:avLst/>
              <a:gdLst>
                <a:gd name="textAreaLeft" fmla="*/ 76320 w 795600"/>
                <a:gd name="textAreaRight" fmla="*/ 744480 w 795600"/>
                <a:gd name="textAreaTop" fmla="*/ 318960 h 1218240"/>
                <a:gd name="textAreaBottom" fmla="*/ 901080 h 121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9" name="Puzzle1"/>
            <p:cNvSpPr/>
            <p:nvPr/>
          </p:nvSpPr>
          <p:spPr>
            <a:xfrm>
              <a:off x="6372360" y="721080"/>
              <a:ext cx="1335960" cy="726120"/>
            </a:xfrm>
            <a:custGeom>
              <a:avLst/>
              <a:gdLst>
                <a:gd name="textAreaLeft" fmla="*/ 376200 w 1335960"/>
                <a:gd name="textAreaRight" fmla="*/ 997560 w 1335960"/>
                <a:gd name="textAreaTop" fmla="*/ 86400 h 726120"/>
                <a:gd name="textAreaBottom" fmla="*/ 657360 h 72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485640" y="4101480"/>
            <a:ext cx="2184840" cy="2062440"/>
            <a:chOff x="485640" y="4101480"/>
            <a:chExt cx="2184840" cy="2062440"/>
          </a:xfrm>
        </p:grpSpPr>
        <p:sp>
          <p:nvSpPr>
            <p:cNvPr id="111" name="Puzzle3"/>
            <p:cNvSpPr/>
            <p:nvPr/>
          </p:nvSpPr>
          <p:spPr>
            <a:xfrm rot="843000">
              <a:off x="1636200" y="4188240"/>
              <a:ext cx="855360" cy="1123560"/>
            </a:xfrm>
            <a:custGeom>
              <a:avLst/>
              <a:gdLst>
                <a:gd name="textAreaLeft" fmla="*/ 89640 w 855360"/>
                <a:gd name="textAreaRight" fmla="*/ 758880 w 855360"/>
                <a:gd name="textAreaTop" fmla="*/ 401400 h 1123560"/>
                <a:gd name="textAreaBottom" fmla="*/ 1052280 h 112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2" name="Puzzle2"/>
            <p:cNvSpPr/>
            <p:nvPr/>
          </p:nvSpPr>
          <p:spPr>
            <a:xfrm rot="843000">
              <a:off x="1200960" y="4985280"/>
              <a:ext cx="1365480" cy="1023480"/>
            </a:xfrm>
            <a:custGeom>
              <a:avLst/>
              <a:gdLst>
                <a:gd name="textAreaLeft" fmla="*/ 340920 w 1365480"/>
                <a:gd name="textAreaRight" fmla="*/ 1023120 w 1365480"/>
                <a:gd name="textAreaTop" fmla="*/ 318960 h 1023480"/>
                <a:gd name="textAreaBottom" fmla="*/ 968760 h 102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3" name="Puzzle4"/>
            <p:cNvSpPr/>
            <p:nvPr/>
          </p:nvSpPr>
          <p:spPr>
            <a:xfrm rot="843000">
              <a:off x="664560" y="4775040"/>
              <a:ext cx="823320" cy="1308600"/>
            </a:xfrm>
            <a:custGeom>
              <a:avLst/>
              <a:gdLst>
                <a:gd name="textAreaLeft" fmla="*/ 78840 w 823320"/>
                <a:gd name="textAreaRight" fmla="*/ 770400 w 823320"/>
                <a:gd name="textAreaTop" fmla="*/ 342720 h 1308600"/>
                <a:gd name="textAreaBottom" fmla="*/ 968040 h 130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4" name="Puzzle1"/>
            <p:cNvSpPr/>
            <p:nvPr/>
          </p:nvSpPr>
          <p:spPr>
            <a:xfrm rot="843000">
              <a:off x="559440" y="4329720"/>
              <a:ext cx="1382400" cy="780120"/>
            </a:xfrm>
            <a:custGeom>
              <a:avLst/>
              <a:gdLst>
                <a:gd name="textAreaLeft" fmla="*/ 389160 w 1382400"/>
                <a:gd name="textAreaRight" fmla="*/ 1032120 w 1382400"/>
                <a:gd name="textAreaTop" fmla="*/ 92520 h 780120"/>
                <a:gd name="textAreaBottom" fmla="*/ 705960 h 78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828720" y="538200"/>
            <a:ext cx="2117880" cy="2199960"/>
            <a:chOff x="828720" y="538200"/>
            <a:chExt cx="2117880" cy="2199960"/>
          </a:xfrm>
        </p:grpSpPr>
        <p:sp>
          <p:nvSpPr>
            <p:cNvPr id="116" name="Puzzle3"/>
            <p:cNvSpPr/>
            <p:nvPr/>
          </p:nvSpPr>
          <p:spPr>
            <a:xfrm rot="20633400">
              <a:off x="1719360" y="617400"/>
              <a:ext cx="713520" cy="1008000"/>
            </a:xfrm>
            <a:custGeom>
              <a:avLst/>
              <a:gdLst>
                <a:gd name="textAreaLeft" fmla="*/ 74880 w 713520"/>
                <a:gd name="textAreaRight" fmla="*/ 632880 w 713520"/>
                <a:gd name="textAreaTop" fmla="*/ 360000 h 1008000"/>
                <a:gd name="textAreaBottom" fmla="*/ 94428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7" name="Puzzle2"/>
            <p:cNvSpPr/>
            <p:nvPr/>
          </p:nvSpPr>
          <p:spPr>
            <a:xfrm rot="20633400">
              <a:off x="1702440" y="1323000"/>
              <a:ext cx="1139040" cy="918000"/>
            </a:xfrm>
            <a:custGeom>
              <a:avLst/>
              <a:gdLst>
                <a:gd name="textAreaLeft" fmla="*/ 284400 w 1139040"/>
                <a:gd name="textAreaRight" fmla="*/ 853560 w 1139040"/>
                <a:gd name="textAreaTop" fmla="*/ 286200 h 918000"/>
                <a:gd name="textAreaBottom" fmla="*/ 869040 h 9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8" name="Puzzle4"/>
            <p:cNvSpPr/>
            <p:nvPr/>
          </p:nvSpPr>
          <p:spPr>
            <a:xfrm rot="20633400">
              <a:off x="1320480" y="1492200"/>
              <a:ext cx="686880" cy="1173600"/>
            </a:xfrm>
            <a:custGeom>
              <a:avLst/>
              <a:gdLst>
                <a:gd name="textAreaLeft" fmla="*/ 65880 w 686880"/>
                <a:gd name="textAreaRight" fmla="*/ 642960 w 686880"/>
                <a:gd name="textAreaTop" fmla="*/ 307440 h 1173600"/>
                <a:gd name="textAreaBottom" fmla="*/ 867960 h 11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9" name="Puzzle1"/>
            <p:cNvSpPr/>
            <p:nvPr/>
          </p:nvSpPr>
          <p:spPr>
            <a:xfrm rot="20633400">
              <a:off x="902880" y="1100520"/>
              <a:ext cx="1153440" cy="699840"/>
            </a:xfrm>
            <a:custGeom>
              <a:avLst/>
              <a:gdLst>
                <a:gd name="textAreaLeft" fmla="*/ 324720 w 1153440"/>
                <a:gd name="textAreaRight" fmla="*/ 861480 w 1153440"/>
                <a:gd name="textAreaTop" fmla="*/ 83160 h 699840"/>
                <a:gd name="textAreaBottom" fmla="*/ 633240 h 69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cc"/>
                </a:solidFill>
                <a:latin typeface="바탕"/>
              </a:rPr>
              <a:t> 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684360" y="3429000"/>
            <a:ext cx="799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Times New Roman"/>
              </a:rPr>
              <a:t>Пример 1.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Постройте график  распределения и многоугольник частот для следующих результатов письменного экзамена по математике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6,   7,   7,   8,   9,   2,   10,   6,   5,   6,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7,   3,   7,   9,   9,   2,    3,   2,   6,    6,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6,   7,   8,   8,   2,   6,    7,    9,   7,   5,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9,   8,   2,   6,   6,   3,    7,    7,   6,   6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258920" y="3500280"/>
            <a:ext cx="68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84360" y="476280"/>
            <a:ext cx="8135640" cy="2898000"/>
          </a:xfrm>
          <a:prstGeom prst="rect">
            <a:avLst/>
          </a:prstGeom>
          <a:solidFill>
            <a:srgbClr val="79a9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Итак, выборки удобно задавать с помощью таблиц. Но мы знаем, что и для функций есть </a:t>
            </a:r>
            <a:r>
              <a:rPr b="1" i="1" lang="ru-RU" sz="1600" spc="-1" strike="noStrike">
                <a:solidFill>
                  <a:srgbClr val="ff5050"/>
                </a:solidFill>
                <a:latin typeface="Times New Roman"/>
              </a:rPr>
              <a:t>табличный</a:t>
            </a:r>
            <a:r>
              <a:rPr b="1" lang="ru-RU" sz="16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способ их задания. Таблицы образуют «мостик», по которому от выборок данных можно перейти к функциям и их графикам.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Отложим по оси абцисс значения из первой строки таблицы распределения, а по оси ординат – значения из ее второй строки. Построим соответствующие точки в координатной плоскости. Получим графическое распределение имеющейся информации – </a:t>
            </a:r>
            <a:r>
              <a:rPr b="1" i="1" lang="ru-RU" sz="1600" spc="-1" strike="noStrike">
                <a:solidFill>
                  <a:srgbClr val="ff5050"/>
                </a:solidFill>
                <a:latin typeface="Times New Roman"/>
              </a:rPr>
              <a:t>график распределения</a:t>
            </a: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 выборки. Часто, построенные точки  для наглядности соединяют отрезками. То же самое можно сделать, заменив вторую строку таблицы распределения ее третьей строкой. Получится </a:t>
            </a:r>
            <a:r>
              <a:rPr b="1" i="1" lang="ru-RU" sz="1600" spc="-1" strike="noStrike">
                <a:solidFill>
                  <a:srgbClr val="ff5050"/>
                </a:solidFill>
                <a:latin typeface="Times New Roman"/>
              </a:rPr>
              <a:t>график распределения частот</a:t>
            </a: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 выборки. Термин «график распределения частот выборки» чаще заменяют более кратким – </a:t>
            </a:r>
            <a:r>
              <a:rPr b="1" i="1" lang="ru-RU" sz="1600" spc="-1" strike="noStrike">
                <a:solidFill>
                  <a:srgbClr val="ff5050"/>
                </a:solidFill>
                <a:latin typeface="Times New Roman"/>
              </a:rPr>
              <a:t>многоугольник частот</a:t>
            </a:r>
            <a:r>
              <a:rPr b="1" i="1" lang="ru-RU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или </a:t>
            </a:r>
            <a:r>
              <a:rPr b="1" i="1" lang="ru-RU" sz="1600" spc="-1" strike="noStrike">
                <a:solidFill>
                  <a:srgbClr val="ff5050"/>
                </a:solidFill>
                <a:latin typeface="Times New Roman"/>
              </a:rPr>
              <a:t>полигон частот</a:t>
            </a: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28" descr="j0195812"/>
          <p:cNvPicPr/>
          <p:nvPr/>
        </p:nvPicPr>
        <p:blipFill>
          <a:blip r:embed="rId1"/>
          <a:stretch/>
        </p:blipFill>
        <p:spPr>
          <a:xfrm rot="709200">
            <a:off x="7308720" y="4869000"/>
            <a:ext cx="1354320" cy="13921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1058760" y="620640"/>
            <a:ext cx="808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55640" y="3068640"/>
          <a:ext cx="7777080" cy="2592360"/>
        </p:xfrm>
        <a:graphic>
          <a:graphicData uri="http://schemas.openxmlformats.org/drawingml/2006/table">
            <a:tbl>
              <a:tblPr/>
              <a:tblGrid>
                <a:gridCol w="1201680"/>
                <a:gridCol w="635040"/>
                <a:gridCol w="636480"/>
                <a:gridCol w="636840"/>
                <a:gridCol w="706320"/>
                <a:gridCol w="709560"/>
                <a:gridCol w="636480"/>
                <a:gridCol w="635040"/>
                <a:gridCol w="708120"/>
                <a:gridCol w="127152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Варианта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Всего 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вариант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Кратность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варианты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умма =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= 4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Частота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варианты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,12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,07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,27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,22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,12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,02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умма = 1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Частота (%)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варианты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2,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умма =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= 100%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Rectangle 410"/>
          <p:cNvSpPr/>
          <p:nvPr/>
        </p:nvSpPr>
        <p:spPr>
          <a:xfrm>
            <a:off x="684360" y="692280"/>
            <a:ext cx="8064360" cy="2014200"/>
          </a:xfrm>
          <a:prstGeom prst="rect">
            <a:avLst/>
          </a:prstGeom>
          <a:solidFill>
            <a:srgbClr val="79a9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Times New Roman"/>
              </a:rPr>
              <a:t>Решение.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Дана выработка объема 40. Ее ряд данных – 2; 3; 5; 6; 7; 8; 9; 10. Оценка в 2 балла встретилась пять раз. Значит, кратность варианты 2 равна 5. Сделав то же для других оценок, найдем их кратности. Они равны 5; 3; 2; 11; 9; 4; 5; 1. Можно себя проконтролировать, вычислив сумму кратностей всех рассмотренных вариант: 5+3+2+11+9+4+5+1=40. Частота появлений двух баллов равна       =       = 0,125 или 12,5%. Вычислив остальные частоты, составляем таблицу и строим графики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12"/>
              <p:cNvSpPr txBox="1"/>
              <p:nvPr/>
            </p:nvSpPr>
            <p:spPr>
              <a:xfrm>
                <a:off x="4356000" y="2060640"/>
                <a:ext cx="2286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413"/>
              <p:cNvSpPr txBox="1"/>
              <p:nvPr/>
            </p:nvSpPr>
            <p:spPr>
              <a:xfrm>
                <a:off x="4932360" y="2060640"/>
                <a:ext cx="139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0" name="Picture 437" descr="j0286068"/>
          <p:cNvPicPr/>
          <p:nvPr/>
        </p:nvPicPr>
        <p:blipFill>
          <a:blip r:embed="rId1"/>
          <a:stretch/>
        </p:blipFill>
        <p:spPr>
          <a:xfrm rot="20489400">
            <a:off x="250560" y="5300280"/>
            <a:ext cx="769680" cy="11527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4"/>
          <p:cNvGraphicFramePr/>
          <p:nvPr/>
        </p:nvGraphicFramePr>
        <p:xfrm>
          <a:off x="3776760" y="2633760"/>
          <a:ext cx="1590480" cy="15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76760" y="2633760"/>
                    <a:ext cx="1590480" cy="15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Picture 5" descr=""/>
          <p:cNvPicPr/>
          <p:nvPr/>
        </p:nvPicPr>
        <p:blipFill>
          <a:blip r:embed="rId3"/>
          <a:stretch/>
        </p:blipFill>
        <p:spPr>
          <a:xfrm>
            <a:off x="2195640" y="1268280"/>
            <a:ext cx="5473440" cy="46911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7236000" y="573408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Варианта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84360" y="1413000"/>
            <a:ext cx="1511280" cy="580680"/>
          </a:xfrm>
          <a:prstGeom prst="rect">
            <a:avLst/>
          </a:prstGeom>
          <a:solidFill>
            <a:srgbClr val="79a9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Кратность варианты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195640" y="54936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Многоугольник распределения кратностей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7667640" y="1341360"/>
            <a:ext cx="1152360" cy="366840"/>
          </a:xfrm>
          <a:prstGeom prst="rect">
            <a:avLst/>
          </a:prstGeom>
          <a:solidFill>
            <a:srgbClr val="79a9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Picture 11" descr="j0291984"/>
          <p:cNvPicPr/>
          <p:nvPr/>
        </p:nvPicPr>
        <p:blipFill>
          <a:blip r:embed="rId4"/>
          <a:stretch/>
        </p:blipFill>
        <p:spPr>
          <a:xfrm>
            <a:off x="179280" y="4581360"/>
            <a:ext cx="1808280" cy="19148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5"/>
          <p:cNvGraphicFramePr/>
          <p:nvPr/>
        </p:nvGraphicFramePr>
        <p:xfrm>
          <a:off x="3776760" y="2633760"/>
          <a:ext cx="1590480" cy="15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76760" y="2633760"/>
                    <a:ext cx="1590480" cy="15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Picture 7" descr=""/>
          <p:cNvPicPr/>
          <p:nvPr/>
        </p:nvPicPr>
        <p:blipFill>
          <a:blip r:embed="rId3"/>
          <a:stretch/>
        </p:blipFill>
        <p:spPr>
          <a:xfrm>
            <a:off x="1547640" y="1773360"/>
            <a:ext cx="6191280" cy="32781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684360" y="836640"/>
            <a:ext cx="8208720" cy="398880"/>
          </a:xfrm>
          <a:prstGeom prst="rect">
            <a:avLst/>
          </a:prstGeom>
          <a:solidFill>
            <a:srgbClr val="79a9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Многоугольник распределения частот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84360" y="1628640"/>
            <a:ext cx="136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Частота варианты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7236000" y="4869000"/>
            <a:ext cx="12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Варианта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5" name="Picture 11" descr="j0291984"/>
          <p:cNvPicPr/>
          <p:nvPr/>
        </p:nvPicPr>
        <p:blipFill>
          <a:blip r:embed="rId4"/>
          <a:stretch/>
        </p:blipFill>
        <p:spPr>
          <a:xfrm>
            <a:off x="179280" y="4581360"/>
            <a:ext cx="1808280" cy="1914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755640" y="1341360"/>
            <a:ext cx="7993080" cy="366840"/>
          </a:xfrm>
          <a:prstGeom prst="rect">
            <a:avLst/>
          </a:prstGeom>
          <a:solidFill>
            <a:srgbClr val="79a9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6408720" cy="4030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1619280" y="69228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Многоугольник распределения частот (%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826920" y="1268280"/>
            <a:ext cx="1079640" cy="824040"/>
          </a:xfrm>
          <a:prstGeom prst="rect">
            <a:avLst/>
          </a:prstGeom>
          <a:solidFill>
            <a:srgbClr val="79a9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Частота (%) варианты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516720" y="530064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Варианта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1" name="Picture 9" descr="j0291984"/>
          <p:cNvPicPr/>
          <p:nvPr/>
        </p:nvPicPr>
        <p:blipFill>
          <a:blip r:embed="rId2"/>
          <a:stretch/>
        </p:blipFill>
        <p:spPr>
          <a:xfrm>
            <a:off x="179280" y="4581360"/>
            <a:ext cx="1808280" cy="19148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8172360" y="1413000"/>
            <a:ext cx="576360" cy="366480"/>
          </a:xfrm>
          <a:prstGeom prst="rect">
            <a:avLst/>
          </a:prstGeom>
          <a:solidFill>
            <a:srgbClr val="79a9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7"/>
          <p:cNvSpPr/>
          <p:nvPr/>
        </p:nvSpPr>
        <p:spPr>
          <a:xfrm>
            <a:off x="539640" y="692280"/>
            <a:ext cx="82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11280" y="404640"/>
            <a:ext cx="8137440" cy="6437880"/>
          </a:xfrm>
          <a:prstGeom prst="rect">
            <a:avLst/>
          </a:prstGeom>
          <a:solidFill>
            <a:srgbClr val="79a9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По существу, различия этих трех графиков состоят только в выборе единиц измерения и масштаба по оси ординат. Для наглядного оформления информации в каждом конкретном случае приходится выбирать между этими тремя возможностями. Чаще всего в практических приложениях используют многоугольники частот в процентах. Для полноты картины можно было бы приведенные ломаные дополнить еще одной вершиной (4;0), расположенной на оси абсцисс. Эта вершина соответствует тому, что в данной выборке отсутствует оценка в 4 балла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Мы видим, что даже для малого объема выборки аккуратное «причесывание» информации – довольно кропотливая вещь. Вот более краткий, но менее точный способ. Назовем оценки 2, 3, 4 «плохими», оценки 5, 6, 7 «средними», а оценки 8, 9, 10 «хорошими». Все «плохие» оценки принадлежат отрезку «хорошие» 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[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; 4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]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«средние» - отрезку 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[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5; 7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]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, а «хорошие» - отрезку 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[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8; 10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]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Тем самым мы разбили промежуток между самой маленькой и самой большой вариантой на участки и получили </a:t>
            </a:r>
            <a:r>
              <a:rPr b="1" i="1" lang="ru-RU" sz="1800" spc="-1" strike="noStrike">
                <a:solidFill>
                  <a:srgbClr val="ff5050"/>
                </a:solidFill>
                <a:latin typeface="Times New Roman"/>
              </a:rPr>
              <a:t>интервальный ряд данных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:    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2-4; 5-7; 8-10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55" name="Object 13"/>
          <p:cNvGraphicFramePr/>
          <p:nvPr/>
        </p:nvGraphicFramePr>
        <p:xfrm>
          <a:off x="3200400" y="251460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51460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Picture 17" descr=""/>
          <p:cNvPicPr/>
          <p:nvPr/>
        </p:nvPicPr>
        <p:blipFill>
          <a:blip r:embed="rId3"/>
          <a:stretch/>
        </p:blipFill>
        <p:spPr>
          <a:xfrm>
            <a:off x="2124000" y="4437000"/>
            <a:ext cx="5977080" cy="9367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826920" y="549360"/>
            <a:ext cx="75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Для каждого участка сложим кратности вариант, попавших в него. Получим кратности каждого участка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16000" y="1197000"/>
          <a:ext cx="7128000" cy="693720"/>
        </p:xfrm>
        <a:graphic>
          <a:graphicData uri="http://schemas.openxmlformats.org/drawingml/2006/table">
            <a:tbl>
              <a:tblPr/>
              <a:tblGrid>
                <a:gridCol w="2422440"/>
                <a:gridCol w="1640160"/>
                <a:gridCol w="1568160"/>
                <a:gridCol w="1497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Варианта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«Плохая»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«Средняя»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«Хорошая»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Кратность варианты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79a994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32"/>
          <p:cNvSpPr/>
          <p:nvPr/>
        </p:nvSpPr>
        <p:spPr>
          <a:xfrm>
            <a:off x="1042920" y="1989000"/>
            <a:ext cx="7201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Теперь нарисуем три прямоугольника. Основание первого – это отрезок 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[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; 4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]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его площадь равна 8, т. е. равна кратности «плохой» варианты. Аналогично поступим с двумя другими вариантами</a:t>
            </a:r>
            <a:r>
              <a:rPr b="0" lang="ru-RU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Получим </a:t>
            </a:r>
            <a:r>
              <a:rPr b="1" i="1" lang="ru-RU" sz="18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столбчатую диаграмму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или </a:t>
            </a:r>
            <a:r>
              <a:rPr b="1" i="1" lang="ru-RU" sz="18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гистограмму распределения</a:t>
            </a:r>
            <a:r>
              <a:rPr b="1" i="1" lang="ru-RU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оделив высоты столбиков на объем всей выборки, получим другую столбчатую диаграмму – </a:t>
            </a:r>
            <a:r>
              <a:rPr b="1" i="1" lang="ru-RU" sz="18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гистограмму распределения частот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Как обычно, таблицу можно дополнить и третьей строкой, в которой частоты вариант выражены в процентах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71640" y="4788000"/>
          <a:ext cx="7488000" cy="1430280"/>
        </p:xfrm>
        <a:graphic>
          <a:graphicData uri="http://schemas.openxmlformats.org/drawingml/2006/table">
            <a:tbl>
              <a:tblPr/>
              <a:tblGrid>
                <a:gridCol w="3024000"/>
                <a:gridCol w="1513080"/>
                <a:gridCol w="1511280"/>
                <a:gridCol w="1439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Варианта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«Плохая»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«Средняя»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«Хорошая»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Кратность варианты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Частота варианты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,5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,2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Частота (%) варианты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6:07:57Z</dcterms:created>
  <dc:creator>Анна</dc:creator>
  <dc:description/>
  <dc:language>en-US</dc:language>
  <cp:lastModifiedBy>Home</cp:lastModifiedBy>
  <dcterms:modified xsi:type="dcterms:W3CDTF">2015-10-05T18:19:55Z</dcterms:modified>
  <cp:revision>30</cp:revision>
  <dc:subject/>
  <dc:title>Слайд 1</dc:title>
</cp:coreProperties>
</file>