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CFA-0CD2-4478-AEB7-0822DC8E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A3A-5FD9-4F1B-9887-2F800AC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986-62AE-407C-A286-07A0B0D8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4EE-28E0-4914-87BE-6AD4FB4C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EC13-21EF-451F-B23E-9D2948E6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10B-B966-4F95-9324-2CFC886E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55C-ABF1-4884-B113-E7CF278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4868-B2AB-4C4E-98CF-48A9CA8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1D6C-8EB3-44E0-BA3E-8DC5A4F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F1C-21D5-4E03-9355-50A56564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45ED-C380-4FE4-A5C9-2F70EA5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24D-EFEB-488E-96FD-BFB4E98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FF9D-0E57-49EE-B475-2B83481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DEC1-C30F-4C54-96CE-1CC52BA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D417-4835-4A86-B2EB-F2AF467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68C3-68BD-44C4-AFBC-21080FDB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3E1-3D66-404C-86F3-AFDDCB63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2672-A95B-431C-B74B-4EB05676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6F96-9F0E-4EA9-93A1-E4F4CCA2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6CC0-4C54-49C5-A5DB-5E24CA75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1904-65BD-46B8-A82D-BBE096EB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97DC-A794-462D-84BB-4ABC35EB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135-43C9-4321-9B3A-043DF3B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8B3D-680E-419B-A6B7-00776B3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42F9-8655-4610-B186-CF1E236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F1C5-7C5E-406E-AEEC-4FC26AE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9EB7-3A9D-4CA2-B557-D984FC4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CA2F-655A-4E80-A5FF-3C3106E1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382E-08E4-443E-815D-AD41DBD3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90EF-8D7E-48F0-8FA0-8AC0FA1A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ED42-F8F9-4BC5-9828-D5387BC9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5733-B92A-4D1F-94C0-6AD27B5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4C10-B913-4914-B63E-0340DE3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268-2FB1-4C6E-BB08-CB574B2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8E2F-7460-48BA-9D3C-EE5A628C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A2D4-31D0-407A-BFB9-530211AD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C1EA-D1DC-4EF4-8325-B1A50B31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9C69-1C04-41DD-90DE-BC16722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3F26-2176-4A76-BF10-AE3382F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FF74-B564-4EFE-9C88-519376B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8ED7-6983-474C-85D8-F7B05590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22A2-4562-439E-B6FC-E38A2C07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2BBD-19DC-4ABD-9A97-BB73A554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C3FC-8E92-4691-B9DB-ACD9E283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C98-A384-41F5-926D-66E2F3C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58F9-5B55-468C-8D21-FB558223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279B-5DD1-47E3-B60C-A80AFDC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AFFE-D8F8-4D7F-8F3B-CA8F047E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E63F-17FD-4BF6-B3C5-A2BE385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FC75-E052-42F1-ACDE-317475FA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E3FCE-E859-4450-BF28-7697BDB9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FE05-5497-402B-83E0-CE9988E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11AA-C8D5-45B7-A996-0CB2A04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4E8D-6029-4C6E-BCA0-5D97796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5F27-0293-4807-8572-C1E43C0D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3AF-2310-48A9-A828-4EE5FFD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4BA6-D6D4-45E4-B2DC-1DBDFF7D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E159-BDD3-4CD6-9DDF-64272DCC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418B4-9138-4686-84BF-D727D569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2D3C7-1582-4AEC-900F-08997177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2D9D3-F773-43CA-A72E-23CE4768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D552-0C76-4568-BB8A-77A68FF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89EF5-E15A-4BA1-9A50-DA7C4EC9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DA79F-5C9B-485D-9CDA-7C506AA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0082-EFE8-49FC-A93C-3BE420A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13F19-CE3B-4751-AD8A-0E34B6C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4A8-7278-4B94-AB4B-1F7A47A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5796-F466-475B-B610-2808226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D0D3-F077-4982-9C79-98771139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0D74-E9A4-4617-AB40-844A2C3C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16B-151A-4DA2-AF2A-7EEF121C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160-4F72-49EB-8E13-6A53133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E9C4-7238-4F1D-ADB3-CE0BF495565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2F26-B647-422E-B03D-76526082F12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A63-5152-4583-8FF4-900FE8ECD50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FBC-9EF3-43C7-86E9-3180F3D0593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2B3-011E-4EFE-897B-5CD4535CAB0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D117-D0FF-46EE-90E9-30CFACFAB59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4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419360" y="15238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22 АПРЕЛЯ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7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400"/>
            </a:br>
            <a:br>
              <a:rPr sz="1800"/>
            </a:b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19" descr="ca041bb23dc2aff65722945a6f71d8bb"/>
          <p:cNvPicPr/>
          <p:nvPr/>
        </p:nvPicPr>
        <p:blipFill>
          <a:blip r:embed="rId2"/>
          <a:stretch/>
        </p:blipFill>
        <p:spPr>
          <a:xfrm>
            <a:off x="682560" y="1901880"/>
            <a:ext cx="2670120" cy="28033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304920" y="6172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аздник чистой Воды, Земли и Возд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1530360" y="-317520"/>
            <a:ext cx="6357960" cy="1378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274320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Verdana"/>
              </a:rPr>
              <a:t>Представляет собой фотографию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475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Verdana"/>
              </a:rPr>
              <a:t>планеты из космоса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(в настоящее время используется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нимок, сделанный астронавтам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поллона-17 по дороге к Луне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C:\Users\мой\Desktop\22 апреля\img3 (1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76040" y="-19080"/>
            <a:ext cx="9648720" cy="14097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28600" y="3657600"/>
            <a:ext cx="8763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Мы не унаследовали планету от родителей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мы одолжили её у своих детей 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155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155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115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115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103320" y="268200"/>
            <a:ext cx="9235800" cy="3170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E:\Мои  документы\Мои рисунки\44b2921d33c77cdaf7e2bb2aba29fdbb.gif"/>
          <p:cNvPicPr/>
          <p:nvPr/>
        </p:nvPicPr>
        <p:blipFill>
          <a:blip r:embed="rId2"/>
          <a:stretch/>
        </p:blipFill>
        <p:spPr>
          <a:xfrm>
            <a:off x="0" y="137160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6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C 0.13264 -0.12894 0.3059 -0.18171 0.48038 -0.12778 C 0.6533 -0.07407 0.79202 0.07593 0.86875 0.26991 C 0.73542 0.39815 0.56163 0.45162 0.38802 0.39769 C 0.21441 0.34375 0.07622 0.19329 -1.66667E-006 0 Z">
                                      <p:cBhvr>
                                        <p:cTn id="105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7" descr="korolev"/>
          <p:cNvPicPr/>
          <p:nvPr/>
        </p:nvPicPr>
        <p:blipFill>
          <a:blip r:embed="rId1"/>
          <a:stretch/>
        </p:blipFill>
        <p:spPr>
          <a:xfrm>
            <a:off x="2209680" y="3505320"/>
            <a:ext cx="2133720" cy="160308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228600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В этом виноват челове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262" name="Picture 9" descr="катастрофы и катаклизмы в природе"/>
          <p:cNvPicPr/>
          <p:nvPr/>
        </p:nvPicPr>
        <p:blipFill>
          <a:blip r:embed="rId4"/>
          <a:stretch/>
        </p:blipFill>
        <p:spPr>
          <a:xfrm>
            <a:off x="4952880" y="1066680"/>
            <a:ext cx="2743200" cy="1959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загрязнение воздуха"/>
          <p:cNvPicPr/>
          <p:nvPr/>
        </p:nvPicPr>
        <p:blipFill>
          <a:blip r:embed="rId5"/>
          <a:stretch/>
        </p:blipFill>
        <p:spPr>
          <a:xfrm>
            <a:off x="457200" y="990720"/>
            <a:ext cx="2209680" cy="126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-982800" y="304920"/>
            <a:ext cx="11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ришвин Михаил Михайлови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49758328_2388152_9996044_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3"/>
          <p:cNvSpPr/>
          <p:nvPr/>
        </p:nvSpPr>
        <p:spPr>
          <a:xfrm flipH="1">
            <a:off x="4952880" y="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Берегите Землю</a:t>
            </a: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</dc:creator>
  <dc:description/>
  <dc:language>en-US</dc:language>
  <cp:lastModifiedBy>Dok</cp:lastModifiedBy>
  <dcterms:modified xsi:type="dcterms:W3CDTF">2020-08-02T18:10:25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